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3C2-3F14-45F7-8346-9165D9CC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6C2-3349-4ECF-B6C6-724BA9B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A2D-2285-4610-8C8A-3DAA922A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B7E-364B-4CE7-ACA8-C124DCC8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4A5-B51E-416C-9C5D-31B5D44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55C-170E-45EB-B4AE-68971EA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67C-8859-47F9-8490-FF7E4FEE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CEE-EE64-49AA-A079-ABC1759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3A5-C1AA-44BA-805F-50148B31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503-EAF3-4EF1-BF9D-AF7315B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B30-EA32-4E82-9CFA-236935E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44A-FD77-426A-B93B-82B5D81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90509-2E7D-4C06-A843-4A6CD45D8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3252F-CFAF-46FE-BC8B-4629C6853ABF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6:03:45Z</dcterms:created>
  <dc:creator>최봉수</dc:creator>
  <dc:description/>
  <dc:language>en-US</dc:language>
  <cp:lastModifiedBy>군만두 맛있다</cp:lastModifiedBy>
  <dcterms:modified xsi:type="dcterms:W3CDTF">2023-07-12T04:04:31Z</dcterms:modified>
  <cp:revision>3</cp:revision>
  <dc:subject/>
  <dc:title>슬라이드 1</dc:title>
</cp:coreProperties>
</file>