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BCA6-1D25-48F1-B29B-EE7DE7A1C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444D-4B5E-4B29-90C9-64650101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6058-DFA5-45FC-9EE2-64970023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137D-C0C8-4B90-9178-D4CBDD149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6BE6-EFB6-4354-AEC7-DA7324FE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0EDE-3C06-464B-AB6B-97C4A85E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58BC-EA04-46E9-A46B-F62CF1D9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0A90-51AA-4A25-ADBE-0D2DC295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AC2D-0FE6-461D-AC6F-39A65B58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28E3-064C-45B3-9C60-96EDA791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918C-7181-4FAF-B7C0-1B34FC89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D842-E828-45CA-BE91-5845F6C9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3CD6EE-98AC-4694-AA71-0DD1FC284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C35511-2A55-422B-A036-75C5B8B748F2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slide" Target="slide4.xml"/><Relationship Id="rId7" Type="http://schemas.openxmlformats.org/officeDocument/2006/relationships/image" Target="../media/image2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2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3">
              <a:hlinkClick r:id="rId6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5" descr=""/>
            <p:cNvPicPr/>
            <p:nvPr/>
          </p:nvPicPr>
          <p:blipFill>
            <a:blip r:embed="rId7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6">
              <a:hlinkClick r:id="rId8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6:03:45Z</dcterms:created>
  <dc:creator>최봉수</dc:creator>
  <dc:description/>
  <dc:language>en-US</dc:language>
  <cp:lastModifiedBy>군만두 맛있다</cp:lastModifiedBy>
  <dcterms:modified xsi:type="dcterms:W3CDTF">2023-07-12T04:04:31Z</dcterms:modified>
  <cp:revision>3</cp:revision>
  <dc:subject/>
  <dc:title>슬라이드 1</dc:title>
</cp:coreProperties>
</file>