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688-32DD-4307-B66E-3C6C11C6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622-0A57-4FF8-8380-4114D2B4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25C-FA17-4DEE-98AA-394BBE31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193-345E-4CA9-A586-99F1CC32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F16-2B89-482E-9B5A-80F6254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587-B6EB-4548-BBA5-1C92710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D00-FFB0-4FB3-AC62-4F7D23B6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66D-1AAE-42CA-B150-A237DEA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96E-2C67-4B8E-A7FF-1D740020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343-32CC-414D-919C-639FA8C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E75-7704-49BB-8760-9997959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2B2-5707-4EAD-B20C-A3237EF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41BE8-24DB-4B47-BE37-76692EAFB5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7D323-BBC1-49C5-943F-F6C4CD568CA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slide" Target="slide4.xml"/><Relationship Id="rId8" Type="http://schemas.openxmlformats.org/officeDocument/2006/relationships/image" Target="../media/image1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4" descr="093-1-1"/>
          <p:cNvPicPr/>
          <p:nvPr/>
        </p:nvPicPr>
        <p:blipFill>
          <a:blip r:embed="rId12"/>
          <a:stretch/>
        </p:blipFill>
        <p:spPr>
          <a:xfrm>
            <a:off x="1631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4" descr="093-1-2 copy"/>
          <p:cNvPicPr/>
          <p:nvPr/>
        </p:nvPicPr>
        <p:blipFill>
          <a:blip r:embed="rId12"/>
          <a:stretch/>
        </p:blipFill>
        <p:spPr>
          <a:xfrm>
            <a:off x="1630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4" descr="093-2-1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4" descr="093-2-2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4" descr="093-3-1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4" descr="093-3-2 copy"/>
          <p:cNvPicPr/>
          <p:nvPr/>
        </p:nvPicPr>
        <p:blipFill>
          <a:blip r:embed="rId12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4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4" descr="093-4-1 copy"/>
          <p:cNvPicPr/>
          <p:nvPr/>
        </p:nvPicPr>
        <p:blipFill>
          <a:blip r:embed="rId10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3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4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4" descr="093-4-2 copy"/>
          <p:cNvPicPr/>
          <p:nvPr/>
        </p:nvPicPr>
        <p:blipFill>
          <a:blip r:embed="rId5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6-26T09:22:50Z</dcterms:modified>
  <cp:revision>4</cp:revision>
  <dc:subject/>
  <dc:title>슬라이드 1</dc:title>
</cp:coreProperties>
</file>