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-8892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192960" indent="-7416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297000" indent="-5940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415800" indent="-5940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534600" indent="-59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534600" indent="-59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534600" indent="-59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-787320" y="0"/>
            <a:ext cx="13791960" cy="9753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-393840" y="0"/>
            <a:ext cx="13792320" cy="9753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20480" y="2666880"/>
            <a:ext cx="10464840" cy="320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ill Sans"/>
              </a:rPr>
              <a:t>HAKIKAT DAN PENGEMBANGAN KURIKULUM 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930320" y="5943240"/>
            <a:ext cx="910296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Gill Sans"/>
              </a:rPr>
              <a:t>Mukti Amini (muktiamini@ut.ac.id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10007640" y="14479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ERTEMUAN PERTAM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20680" y="83772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</a:rPr>
              <a:t>Pendekatan dalam Pengembangan Kurikulu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20480" y="2057040"/>
            <a:ext cx="10464840" cy="6248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30080" indent="-730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ari atas ke bawah (top down approach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embentukan tim pengara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embentukan tim kelompok kerja untuk merumuskan draft kurikulu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ji coba terbat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sebarluaskan jika sudah cukup sempurn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ffffff"/>
              </a:buClr>
              <a:buFont typeface="Gill 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Dari bawah ke atas (grass root approach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lakukan bila guru memiliki kemampuan &amp; profesionalisme yang tingg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20680" y="83772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</a:rPr>
              <a:t>Pengembangan Kurikulum Model Tab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Menghasilkan unit-unit percobaa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Menguji coba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 validitas &amp; kelayaka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Merevisi &amp; mengkonsolidasikan setiap unit eksperimen berdasarkan hasil uji cob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Mengembangkan seluruh kerangka kurikulu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Implementasi &amp; diseminasi kurikulu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920680" y="83772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</a:rPr>
              <a:t>Pengembangan Kurikulum Model Tyl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enentukan tujuan pendidikan yang ingin dicapa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erumuskan pengalaman belajar untuk mencapi tujua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engorganisasikan pengalaman belaja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erumuskan &amp; menetapkan kegiatan evaluas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01360" y="456840"/>
            <a:ext cx="11704680" cy="142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</a:rPr>
              <a:t>Pengembangan Kurikulum Model Oliv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50880" y="1929960"/>
            <a:ext cx="12049200" cy="678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693360" indent="-69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"/>
              </a:rPr>
              <a:t>Merumuskan filsafat, sasaran, visi &amp; misi lembaga pendidikan dgn dasar utama kebutuhan anak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  <a:p>
            <a:pPr marL="693360" indent="-69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"/>
              </a:rPr>
              <a:t>Studi kebutuhan lingkungan masyarakat di mana sekolah berada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  <a:p>
            <a:pPr marL="693360" indent="-69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"/>
              </a:rPr>
              <a:t>Merumuskan tujuan umum yang didasarkan pada kebutuhan anak &amp; masyarakat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  <a:p>
            <a:pPr marL="693360" indent="-69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"/>
              </a:rPr>
              <a:t>Menjabarkan tujuan umum menjadi tujuan khusus pembelajaran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  <a:p>
            <a:pPr marL="693360" indent="-69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"/>
              </a:rPr>
              <a:t>Menjabarkan kurikulum dalam bentuk perumusan tujuan umum pembelajaran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  <a:p>
            <a:pPr marL="693360" indent="-69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"/>
              </a:rPr>
              <a:t>Melakukan studi tentang kemungkinan bentuk dan jenis penilaian atau evaluasi yang harus dilakukan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  <a:p>
            <a:pPr marL="693360" indent="-69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"/>
              </a:rPr>
              <a:t>Implementasi kurikulum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  <a:p>
            <a:pPr marL="693360" indent="-69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"/>
              </a:rPr>
              <a:t>Evaluasi terhadap pembelajaran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  <a:p>
            <a:pPr marL="693360" indent="-69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 Sans"/>
              </a:rPr>
              <a:t>Evaluasi kurikulum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20680" y="83772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</a:rPr>
              <a:t>Pengembangan Kurikulum Model Beauchamp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enetapkan wilayah yang akan melakukan perubaha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enetapkan tim yang akan melakukan pengembnagan kurikulu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erumuskan prosedur langkah operasional pengembangan kurikulu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enerapkan kurikulu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elaksanakan evaluasi kurikulu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920680" y="83772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</a:rPr>
              <a:t>Pengertian kurikulu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84840" indent="-38484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marL="384840" indent="-38484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mpit : sejumlah mata pelajaran yang harus dipelajari/diselesaikan oleh setiap siswa atau anak didik untuk memperoleh ijasa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4840" indent="-38484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uas : semua kegiatan dan pengalaman belajar yang diterima siswa melalui upaya dan tanggung jawab sekolah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4840" indent="-38484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4840" indent="-38484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nsur pokok kurikulum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4840" indent="-38484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si kurikulu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mata pelajara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4840" indent="-38484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ujuan utama pendidika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4840" indent="-38484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4840" indent="-38484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20680" y="83772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ill Sans"/>
              </a:rPr>
              <a:t>Klasifikasi kurikulum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bagai proses kognitif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bagai proses aktualisasi dir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bagai proses rekonstruksi sosi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bagai program akademi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58720" y="457200"/>
            <a:ext cx="12445920" cy="171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Gill Sans"/>
              </a:rPr>
              <a:t>                    </a:t>
            </a:r>
            <a:r>
              <a:rPr b="1" lang="en-US" sz="3400" spc="-1" strike="noStrike">
                <a:solidFill>
                  <a:srgbClr val="000000"/>
                </a:solidFill>
                <a:latin typeface="Gill Sans"/>
              </a:rPr>
              <a:t>Model Organisasi Pengembangan Kurikulum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50520" y="3149640"/>
            <a:ext cx="11642760" cy="556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del kurikulum terpisah (Separated subject curiculum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erpisah antar mata pelajara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del kurikulum terkait (Correlated curriculum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elihat kaitan antara beberapa mata pelajaran lalu digabung menjadi 1 bida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730080" indent="-730080">
              <a:spcBef>
                <a:spcPts val="2401"/>
              </a:spcBef>
              <a:buClr>
                <a:srgbClr val="000000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del terpadu (integrated curiculum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eniadakan batas2 mata pelajaran dan menyajikannay dlm bentuk unit atau keseluruha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06280" y="761760"/>
            <a:ext cx="10728360" cy="97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</a:rPr>
              <a:t>Landasan Pengembangan Kurikulu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88960" y="2286000"/>
            <a:ext cx="12415680" cy="678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49440" indent="-6494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A. Landasan Filosofi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landasan yang merupakan hasil pemikiran yang mendalam, analitis dan komprehensif. Meliputi: tujuan, sasaran, strategi dan evaluasi pendidikan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49440" indent="-64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- John Dewey: pendidikan adalah “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drawing ou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49440" indent="-64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- Marthin Luther: Tujuan utama pendidikan adalah mengajarkan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49440" indent="-64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gam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49440" indent="-64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-  Rousseau: pendidikan terbaik dilakukan secara alamiah kembali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49440" indent="-64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 ala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49440" indent="-6494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ungsi Filsafat dalam pengembangan kurikulu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49440" indent="-64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- menentukan arah pendidika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49440" indent="-64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- menggambarkan hasil yang dicapai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49440" indent="-64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- menentukan arah dan proses mencapai tujua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49440" indent="-64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- memberi kesatuan yang bulat untuk mencapai tujua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11271240" y="9144000"/>
            <a:ext cx="87012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0105-7B73-405E-A727-B994C87E6ABB}" type="slidenum">
              <a:rPr b="0" lang="en-US" sz="4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76640" y="609480"/>
            <a:ext cx="10728000" cy="97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</a:rPr>
              <a:t>Landasan Pengembangan Kurikulu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39600" y="1905120"/>
            <a:ext cx="11806200" cy="726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B. Landasan Psikologis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uan untuk memilih dan menentukan apa dan bagaimana mengembangkan perilaku manusia dan kurikulum harus memfasilitasi tumbuh kembang potensi anak didik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sseau: Sejak lahir anak membawa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otensi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untuk bekembang, belajar melalui pengalaman langsung dan secara alamiah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ohn Locke: anak=kertas putih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interaksi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engan lingkunga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lliam Stern&amp; Havighurst: perkembangan dipengaruhi oleh potensi dan interaksi lingkunga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11271240" y="9040680"/>
            <a:ext cx="1082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CC2B-981A-4B49-A0BA-A31CB42E04FF}" type="slidenum">
              <a:rPr b="0" lang="en-US" sz="4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54000" y="685800"/>
            <a:ext cx="10837800" cy="97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</a:rPr>
              <a:t>Landasan Pengembangan Kurikulu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9760" y="1828800"/>
            <a:ext cx="12416040" cy="726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. Landasan Sosial Budaya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ndidikan adalah proses sosial budaya untuk meningkatkan harkat dan martabat manusia dan proses sosialisasi menuju manusia yang berbudaya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ndekatan pendidikan yang berkaitan dengan kehidupan sosial, terbagi 2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dapti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pendidikan harus mempersiapkan individu untuk beradaptasi dengan lingkunga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formatori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ndidikan tidak hanya sekedar bisa hidup tetapi harus inovatif, kreatif dan aktif melakukan perubaha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11271240" y="9040680"/>
            <a:ext cx="1082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9084-5327-4B6E-902E-C6ECCA9F0167}" type="slidenum">
              <a:rPr b="0" lang="en-US" sz="4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20680" y="837720"/>
            <a:ext cx="1046484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</a:rPr>
              <a:t>Landasan Pengembangan Kurikulu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38080" indent="-5713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D. Landasan Ilmu Pengetahuan Teknolog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endidikan merupakan usaha menyiapkan peserta didik menghadapi lingkungan hidup yang berubah sebagai dampak perkembangan iptek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00320" y="533160"/>
            <a:ext cx="11704320" cy="1438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</a:rPr>
              <a:t>Landasan Pengembangan Kurikulum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50880" y="2031480"/>
            <a:ext cx="11702880" cy="668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88800" indent="-3888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riteria sumber pengetahuan yang layak bagi anak, adalah bahan yang diberikan haru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8800" indent="-3888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88800" indent="-3888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ahih dan bermakn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88800" indent="-3888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levan dengan kenyataan sosial dan budaya masyarak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88800" indent="-3888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engandung keseimbangan antara keluasan &amp; kedalama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88800" indent="-3888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encakup berbagai ragam tujuan yang harus dikembangka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88800" indent="-3888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suai dengan kemampuan an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88800" indent="-38880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suai dengan kebutuhan &amp; minat an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T</dc:creator>
  <dc:description/>
  <dc:language>en-US</dc:language>
  <cp:lastModifiedBy>fkip</cp:lastModifiedBy>
  <dcterms:modified xsi:type="dcterms:W3CDTF">2012-01-13T03:31:16Z</dcterms:modified>
  <cp:revision>369</cp:revision>
  <dc:subject/>
  <dc:title>PowerPoint Presentation</dc:title>
</cp:coreProperties>
</file>