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92960" indent="-741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297000" indent="-59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415800" indent="-59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-787320" y="0"/>
            <a:ext cx="13791960" cy="975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393840" y="0"/>
            <a:ext cx="13792320" cy="975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0480" y="2666880"/>
            <a:ext cx="1046484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HAKIKAT DAN PENGEMBANGAN KURIKULUM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30320" y="5943240"/>
            <a:ext cx="910296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Gill Sans"/>
              </a:rPr>
              <a:t>Mukti Amini (muktiamini@ut.ac.i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007640" y="1447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ERTEMUAN PERT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dekatan dalam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20480" y="2057040"/>
            <a:ext cx="10464840" cy="624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ri atas ke bawah (top down approac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mbentukan tim pengara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mbentukan tim kelompok kerja untuk merumuskan draft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ji coba terbat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sebarluaskan jika sudah cukup sempur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ffffff"/>
              </a:buClr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Dari bawah ke atas (grass root approac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lakukan bila guru memiliki kemampuan &amp; profesionalisme yang tingg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Tab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nghasilkan unit-unit percoba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nguji coba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validitas &amp; kelayak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revisi &amp; mengkonsolidasikan setiap unit eksperimen berdasarkan hasil uji cob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ngembangkan seluruh kerangka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mplementasi &amp; diseminasi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Ty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ntukan tujuan pendidikan yang ingin dicapa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rumuskan pengalaman belajar untuk mencapi tuju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gorganisasikan pengalaman belaj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rumuskan &amp; menetapkan kegiatan evaluas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01360" y="456840"/>
            <a:ext cx="1170468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Oliv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0880" y="1929960"/>
            <a:ext cx="12049200" cy="678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rumuskan filsafat, sasaran, visi &amp; misi lembaga pendidikan dgn dasar utama kebutuhan anak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Studi kebutuhan lingkungan masyarakat di mana sekolah berada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rumuskan tujuan umum yang didasarkan pada kebutuhan anak &amp; masyarakat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njabarkan tujuan umum menjadi tujuan khusus pembelajar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njabarkan kurikulum dalam bentuk perumusan tujuan umum pembelajar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lakukan studi tentang kemungkinan bentuk dan jenis penilaian atau evaluasi yang harus dilakuk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Implementasi kurikulum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Evaluasi terhadap pembelajar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Evaluasi kurikulum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Beauchamp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tapkan wilayah yang akan melakukan perubah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tapkan tim yang akan melakukan pengembnagan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rumuskan prosedur langkah operasional pengembangan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rapkan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laksanakan evaluasi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rti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mpit : sejumlah mata pelajaran yang harus dipelajari/diselesaikan oleh setiap siswa atau anak didik untuk memperoleh ijasa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uas : semua kegiatan dan pengalaman belajar yang diterima siswa melalui upaya dan tanggung jawab sekolah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sur pokok kurikulum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si kurikulu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mata pelajar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juan utama pendidik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ill Sans"/>
              </a:rPr>
              <a:t>Klasifikasi kurikulu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ses kognitif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ses aktualisasi dir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ses rekonstruksi sos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gram akademi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8720" y="457200"/>
            <a:ext cx="12445920" cy="17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ill Sans"/>
              </a:rPr>
              <a:t>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Gill Sans"/>
              </a:rPr>
              <a:t>Model Organisasi Pengembangan Kurikulu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0520" y="3149640"/>
            <a:ext cx="1164276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el kurikulum terpisah (Separated subject curiculum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erpisah antar mata pelajar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el kurikulum terkait (Correlated curriculum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elihat kaitan antara beberapa mata pelajaran lalu digabung menjadi 1 bida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el terpadu (integrated curiculum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eniadakan batas2 mata pelajaran dan menyajikannay dlm bentuk unit atau keseluruh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06280" y="761760"/>
            <a:ext cx="10728360" cy="97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8960" y="2286000"/>
            <a:ext cx="12415680" cy="67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49440" indent="-649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A. Landasan Filosof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andasan yang merupakan hasil pemikiran yang mendalam, analitis dan komprehensif. Meliputi: tujuan, sasaran, strategi dan evaluasi pendidika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John Dewey: pendidikan adalah 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rawing ou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arthin Luther: Tujuan utama pendidikan adalah mengajarkan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ga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 Rousseau: pendidikan terbaik dilakukan secara alamiah kembali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 ala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ungsi Filsafat dalam pengembangan kurikulu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nentukan arah pendidik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nggambarkan hasil yang dicapa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nentukan arah dan proses mencapai tuju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mberi kesatuan yang bulat untuk mencapai tuju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11271240" y="9144000"/>
            <a:ext cx="8701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A59-DAF5-416D-9D38-F56A8BF02770}" type="slidenum">
              <a:rPr b="0" lang="en-US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76640" y="609480"/>
            <a:ext cx="1072800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9600" y="1905120"/>
            <a:ext cx="11806200" cy="726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B. Landasan Psikologi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uan untuk memilih dan menentukan apa dan bagaimana mengembangkan perilaku manusia dan kurikulum harus memfasilitasi tumbuh kembang potensi anak didik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sseau: Sejak lahir anak membawa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otensi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untuk bekembang, belajar melalui pengalaman langsung dan secara alamiah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ohn Locke: anak=kertas puti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interaksi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engan lingkung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lliam Stern&amp; Havighurst: perkembangan dipengaruhi oleh potensi dan interaksi lingkung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1127124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7D1-61AC-4C18-BAC3-02D3EC7464E7}" type="slidenum">
              <a:rPr b="0" lang="en-US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54000" y="685800"/>
            <a:ext cx="1083780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9760" y="1828800"/>
            <a:ext cx="12416040" cy="726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. Landasan Sosial Buday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ndidikan adalah proses sosial budaya untuk meningkatkan harkat dan martabat manusia dan proses sosialisasi menuju manusia yang berbudaya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ndekatan pendidikan yang berkaitan dengan kehidupan sosial, terbagi 2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dapti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endidikan harus mempersiapkan individu untuk beradaptasi dengan lingkung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ormator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ndidikan tidak hanya sekedar bisa hidup tetapi harus inovatif, kreatif dan aktif melakukan perubah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1127124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E1C5-ABC1-44A4-91E7-E468908E51DE}" type="slidenum">
              <a:rPr b="0" lang="en-US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D. Landasan Ilmu Pengetahuan Teknolog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ndidikan merupakan usaha menyiapkan peserta didik menghadapi lingkungan hidup yang berubah sebagai dampak perkembangan iptek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00320" y="533160"/>
            <a:ext cx="11704320" cy="143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0880" y="2031480"/>
            <a:ext cx="11702880" cy="668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8800" indent="-3888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riteria sumber pengetahuan yang layak bagi anak, adalah bahan yang diberikan haru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ahih dan bermak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levan dengan kenyataan sosial dan budaya masyarak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gandung keseimbangan antara keluasan &amp; kedalam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cakup berbagai ragam tujuan yang harus dikembangk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uai dengan kemampuan an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uai dengan kebutuhan &amp; minat an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</dc:creator>
  <dc:description/>
  <dc:language>en-US</dc:language>
  <cp:lastModifiedBy>fkip</cp:lastModifiedBy>
  <dcterms:modified xsi:type="dcterms:W3CDTF">2012-01-13T03:31:16Z</dcterms:modified>
  <cp:revision>369</cp:revision>
  <dc:subject/>
  <dc:title>PowerPoint Presentation</dc:title>
</cp:coreProperties>
</file>