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36.png" ContentType="image/png"/>
  <Override PartName="/ppt/media/image9.jpeg" ContentType="image/jpeg"/>
  <Override PartName="/ppt/media/image11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0.png" ContentType="image/png"/>
  <Override PartName="/ppt/media/image59.jpeg" ContentType="image/jpeg"/>
  <Override PartName="/ppt/media/image6.png" ContentType="image/png"/>
  <Override PartName="/ppt/media/image18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20.png" ContentType="image/png"/>
  <Override PartName="/ppt/media/image35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7.png" ContentType="image/png"/>
  <Override PartName="/ppt/media/image19.png" ContentType="image/png"/>
  <Override PartName="/ppt/media/image1.jpeg" ContentType="image/jpeg"/>
  <Override PartName="/ppt/media/image21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33.png" ContentType="image/png"/>
  <Override PartName="/ppt/media/image54.jpeg" ContentType="image/jpeg"/>
  <Override PartName="/ppt/media/image30.png" ContentType="image/png"/>
  <Override PartName="/ppt/media/image31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wmf" ContentType="image/x-wmf"/>
  <Override PartName="/ppt/media/image50.png" ContentType="image/png"/>
  <Override PartName="/ppt/media/image51.jpeg" ContentType="image/jpeg"/>
  <Override PartName="/ppt/media/image13.png" ContentType="image/png"/>
  <Override PartName="/ppt/media/image52.jpeg" ContentType="image/jpeg"/>
  <Override PartName="/ppt/media/image23.png" ContentType="image/png"/>
  <Override PartName="/ppt/media/image53.jpeg" ContentType="image/jpeg"/>
  <Override PartName="/ppt/media/image55.png" ContentType="image/png"/>
  <Override PartName="/ppt/media/image56.png" ContentType="image/png"/>
  <Override PartName="/ppt/media/image5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2885-CB6D-467A-81E0-E5B615B40AC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  <a:ea typeface="궁서"/>
            </a:endParaRPr>
          </a:p>
        </p:txBody>
      </p:sp>
      <p:sp>
        <p:nvSpPr>
          <p:cNvPr id="8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657A-9717-4E2D-9E31-ED2772C0D97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4C2B-1758-4ADD-A5E2-C5AD92EC36E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E47E-9BF5-4B90-8313-FC343C01AA1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2658-1495-405E-831D-5D941A4CDC3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20DF-099D-4DCD-9AFF-B5DBDD0EE64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4C38-DEAA-4D5C-A568-D70F43151A2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D293-D89B-4002-9030-1F8CC3B7C24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1746-89BD-463D-A03E-61FCE61CA61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81F1-72F8-457D-8249-151E9E26566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6EC9-3784-4BF8-B890-2675CF87773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8CE6-9534-445E-862D-C46C0E54FDB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oday, I will briefly talk about overview of KETEP, PV R&amp;D program and status of PV deployment &amp; industry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344B-70D6-48D5-97BB-E05B850839D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DEBB-BDFF-4AA1-87E1-6660ECD0F39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D6A3-77D1-428A-993F-468117854A5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1FDD-90FD-4456-AA11-61CE707119D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4326-2B15-47AA-BCE4-C4C0A44DA88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F919-FDBA-4E06-B7AA-F811334A0D9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0587-CD9E-4CE8-97C2-4917CA16CEC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5619-8BCF-4599-902F-E7CB20A36C9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FFD-21B3-4CBE-8807-B5C5D6BA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D098-250D-41E8-9B37-CF4D0B67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A61D0-377C-498F-B5FE-1903B56A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91D96-F2D9-46FD-8126-C9A08DAD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938C1-1B5D-4CC8-9ED9-395C5EAB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43AF1-8040-4CB8-87FA-E17DAE28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C6277-3C56-4C01-A020-AB8CD33A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A97A2-6ABE-4E47-8331-49C3F11C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00DA2-8697-4A65-8DBD-EA32B554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75F03-FD53-4557-8B31-FEF9A158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1BECE-61E8-4D5D-B65A-1425CD66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B10C3-01D8-4B97-B93A-CCA95E08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63FC-5526-4FB8-BCEF-34BDB1A7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5B5A5-FA8B-4704-8B84-821B44F3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D7824-F4AB-4E7F-A38B-4F30F2B5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BD4E1-1778-4699-A7B5-91D45FB2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F912C-AF06-4994-9092-54F04981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A4D9D-945E-4BD4-9615-37864729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645CD-54D6-4669-9B46-F80DD175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65697-2978-4CED-88BA-3BE09CE0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D5C38-78BB-4F88-866E-7E258E89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E78FB-AC2A-4ED1-8849-987C0B52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E76C4-CACF-45D9-B58C-4E38A40C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8CB4-2187-48F6-B6DA-4CF49731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2E2C9-399D-41AD-90C3-5207195F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99E55-3F2A-405A-A4A2-94A48A41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9F73E-085F-40CA-8197-E46E7DB4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1964D-8205-4615-9246-F5C9BC4B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7BCD4-A66F-46D2-92D7-7643A284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A75E6-06A1-4EC1-83E7-B2A0F69E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0DB41-5AE2-4D91-B220-B26CA8A8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8F6F3-A219-46EE-BEEB-73B52F76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0EB65-C0DA-4D53-8059-54A0326B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849B1-995E-4882-819C-F44150AD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5E81-38B9-4ECB-A54F-7C00D022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2FFF9-2617-4CAE-85BB-0854D31E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EA67A-0C8F-4F80-97AE-0312A1FA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CD1A8-51A6-415A-BED2-218D532B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24362-8DF5-43A1-9CED-4DE03BBF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84418-0FC1-480E-805C-8A4A1A07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E19C6-F9CC-4582-AE6D-712D06AB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4DE38-6751-4639-8FC7-D51F70A8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49C5B-EDC2-442C-8AB7-999530DB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FA65A-10FC-4ED3-B8B7-96723E0B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568F5-8F09-46EB-8812-806890CE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A55F-55A4-4699-B3E5-49756ECB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307A1-763B-45A0-8BFB-ABFE0439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AB53E-AD99-493D-A270-F3BDD575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08CCB-6D20-4F2B-98A1-4ACF21F7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00F8F-1C0A-4DFE-A39B-D987A7F9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7F086-6AE2-43E0-80F6-5B7DF397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3AE2-60C6-4398-9EDC-1210DD7E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1732-F3EB-44C3-9994-761883DC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4DBA-62A5-48BF-8E64-BE9F92B5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D426-04FE-4F2A-BD74-69A13522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40A5-7272-4FA5-9EBD-C67352FC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BC9-59D2-4316-865F-4F548F62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F15E-0AB1-491D-9F1F-F9E045C1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C958-7F30-4697-B60A-57781752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E64E-572B-43BF-B953-F46A29B1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9FE9-7F27-4260-9A80-B49AAD3A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D285-7E13-47F0-9BA1-5A19873A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DDFF6-5D07-4C7D-A248-BEF2875B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407F6-9FB1-452C-8827-C4CD9090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457BB-9675-4603-A203-ED3EB0D6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AE42F-B1CC-430B-B0DD-030A8C2C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541F4-91E4-4022-A55B-EF5A3297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C73-8DB2-4A88-B65E-1CA653D3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A27C7-0049-449E-9635-3C8A7E26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CB5A8-055F-4313-9910-1BB23EB4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A20FE-9384-4E6F-8FA7-4762B536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7F1BA-5512-412A-A3ED-37E9AA32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48F55-0BC2-4E95-9BFC-EC2BCBAA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66B88-8025-4045-BAAC-F061F43E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65BE3-BDF0-4494-AA8A-EF2A590F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96A2-CDA3-47F4-A271-D4750FB0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4939D-7C71-45A2-A65C-CAED005B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CB47-CBDB-4094-B4D4-A520C27A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1E644-015B-4A88-B2C8-2F1E6C8C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36BAF-A781-4781-BC46-01FCF224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C06F6-F358-47E0-9CA2-79F42E39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3BE7D-D81C-4268-BDC2-1EDD95DD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0507C-5E66-4E88-8A40-F7879E66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63C90-0A95-428F-8678-6DAD30A8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689DE-2A93-4E3E-98C1-A85C0EC2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025DC-B6CB-43C5-8469-E62C2F37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B91EA-AE6F-4B9E-9C55-2DABEE5D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94D11-63B6-42BF-9CFE-5A7F77C2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3240-46EA-4E47-B5BB-F0519FC5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AB2EC-4C40-4805-9969-AA36022F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CC79A-90A0-4897-A469-64391C70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037B5-CC65-4528-80A8-FAB36C64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DF789-D1DB-4A5E-9AB7-7DE694D0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0EA50-1746-4389-8EBB-A591D710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B1C94-2117-4EE6-ADE1-3F6EFFC8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19ED5-4716-46E3-BD3F-CE532EF1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868AB-A3E8-4397-B6ED-B54320EE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4DE47-2E8C-4902-8BB9-53B007B6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DFD2B-1A66-4C39-BB30-1D99DCB6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EABB-655D-4A09-B041-59ACCE8A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ED034-6DEC-49C3-BEED-65F461DC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6E872-0503-4DC8-8C09-F33A287F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CD8AD-5BC9-4C45-ADE5-69850A03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64720-D578-4798-9A6A-10321F6E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399B8-7EC3-44D0-B8CD-9DE933E0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6FD43-561A-4C0A-B088-A5E129B5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093E9-8A5C-481D-84E5-FFB11CFC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AE402-3797-45EF-840D-77A97CC2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72817-61D9-40A7-A5DA-58D8A4DD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D7EF5-1C90-4363-8F23-A0EF6A35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B6B-ADBC-4B5A-B68F-047ED393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9BACF-C27C-4063-ABAF-65CFB0BC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D751D-BD1F-4694-8349-B036EF24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FAC83-D272-41AE-965A-32870D8E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BB3AE-1393-443F-84E5-405EBBF4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9DA07-E234-4CA3-A5B8-E6976406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E4BCE-B097-4A82-9A63-11073C97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D134C-10A2-4120-8887-B01B4C7E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859F4-AD36-4963-A7EB-18C2CDA4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42B37-A8E2-4FE9-8699-18F97E11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D014C-AB1F-46FB-A67F-E5BD083D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CD0-0B51-4D6E-8C13-BD40CF57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BDEEA-BFF3-4958-87EB-5566EEA3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230FA-2435-4B85-BEB7-8C4F237A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E9DE1-4762-4743-8ACA-CE620225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50EB6-FF04-4EA3-A232-7A39F7EA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F4A7E-1452-4744-AE69-42B1DFF5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4DE94-EA19-4966-9C35-3DB928E4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EFC84-7C41-40E7-830E-40D42ED3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ED48D-F806-490F-878F-C291DB69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63D00-26B2-4594-92C9-77549FBD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F6B2B-0596-4EEF-9003-4677D974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D443-70CE-4D0A-8551-21D201E2C1C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그림 6" descr="ketep_logo_1.JPG"/>
          <p:cNvPicPr/>
          <p:nvPr/>
        </p:nvPicPr>
        <p:blipFill>
          <a:blip r:embed="rId3"/>
          <a:stretch/>
        </p:blipFill>
        <p:spPr>
          <a:xfrm>
            <a:off x="6705720" y="6456240"/>
            <a:ext cx="1000080" cy="382680"/>
          </a:xfrm>
          <a:prstGeom prst="rect">
            <a:avLst/>
          </a:prstGeom>
          <a:ln w="0">
            <a:noFill/>
          </a:ln>
        </p:spPr>
      </p:pic>
      <p:pic>
        <p:nvPicPr>
          <p:cNvPr id="6" name="그림 7" descr="ketep_logo_3.JPG"/>
          <p:cNvPicPr/>
          <p:nvPr/>
        </p:nvPicPr>
        <p:blipFill>
          <a:blip r:embed="rId4"/>
          <a:stretch/>
        </p:blipFill>
        <p:spPr>
          <a:xfrm>
            <a:off x="7743960" y="6369120"/>
            <a:ext cx="135720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C553-21E7-4ADE-82E6-41F7194FEE0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05D5-CB9B-4C82-9DF3-1902F610E98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4E5B-B74B-4AB6-9B27-082CD2C229E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그림 6" descr="ketep_logo_1.JPG"/>
          <p:cNvPicPr/>
          <p:nvPr/>
        </p:nvPicPr>
        <p:blipFill>
          <a:blip r:embed="rId3"/>
          <a:stretch/>
        </p:blipFill>
        <p:spPr>
          <a:xfrm>
            <a:off x="6705720" y="6456240"/>
            <a:ext cx="1000080" cy="382680"/>
          </a:xfrm>
          <a:prstGeom prst="rect">
            <a:avLst/>
          </a:prstGeom>
          <a:ln w="0">
            <a:noFill/>
          </a:ln>
        </p:spPr>
      </p:pic>
      <p:pic>
        <p:nvPicPr>
          <p:cNvPr id="492" name="그림 7" descr="ketep_logo_3.JPG"/>
          <p:cNvPicPr/>
          <p:nvPr/>
        </p:nvPicPr>
        <p:blipFill>
          <a:blip r:embed="rId4"/>
          <a:stretch/>
        </p:blipFill>
        <p:spPr>
          <a:xfrm>
            <a:off x="7743960" y="6369120"/>
            <a:ext cx="1357200" cy="45072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6D2A-FC13-498B-9A91-594CF67E37D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7E30-F7FB-4B57-A4E7-F2B235DCC8A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241F-FF89-4A8F-A971-2537F5B12ED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AD99-EF18-4260-BBA6-4A0C759C18E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CF90-7C81-49C3-88C0-1086F183A96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12A6-A545-4990-8EA3-4FB980B48F5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B923-6438-4D4E-A076-484E5FCAE22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85.xml"/><Relationship Id="rId1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85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3" descr="003"/>
          <p:cNvPicPr/>
          <p:nvPr/>
        </p:nvPicPr>
        <p:blipFill>
          <a:blip r:embed="rId1"/>
          <a:stretch/>
        </p:blipFill>
        <p:spPr>
          <a:xfrm>
            <a:off x="3460680" y="3941640"/>
            <a:ext cx="1683000" cy="19875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004"/>
          <p:cNvPicPr/>
          <p:nvPr/>
        </p:nvPicPr>
        <p:blipFill>
          <a:blip r:embed="rId2"/>
          <a:stretch/>
        </p:blipFill>
        <p:spPr>
          <a:xfrm>
            <a:off x="7964640" y="3397320"/>
            <a:ext cx="933120" cy="1152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004"/>
          <p:cNvPicPr/>
          <p:nvPr/>
        </p:nvPicPr>
        <p:blipFill>
          <a:blip r:embed="rId3"/>
          <a:stretch/>
        </p:blipFill>
        <p:spPr>
          <a:xfrm>
            <a:off x="2655720" y="4824360"/>
            <a:ext cx="933480" cy="1152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001"/>
          <p:cNvPicPr/>
          <p:nvPr/>
        </p:nvPicPr>
        <p:blipFill>
          <a:blip r:embed="rId4"/>
          <a:srcRect l="0" t="0" r="0" b="3431"/>
          <a:stretch/>
        </p:blipFill>
        <p:spPr>
          <a:xfrm>
            <a:off x="419040" y="3643200"/>
            <a:ext cx="2035080" cy="24289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002"/>
          <p:cNvPicPr/>
          <p:nvPr/>
        </p:nvPicPr>
        <p:blipFill>
          <a:blip r:embed="rId5"/>
          <a:srcRect l="0" t="0" r="0" b="3753"/>
          <a:stretch/>
        </p:blipFill>
        <p:spPr>
          <a:xfrm>
            <a:off x="5851440" y="3097080"/>
            <a:ext cx="2435400" cy="2981520"/>
          </a:xfrm>
          <a:prstGeom prst="rect">
            <a:avLst/>
          </a:prstGeom>
          <a:ln w="0">
            <a:noFill/>
          </a:ln>
        </p:spPr>
      </p:pic>
      <p:grpSp>
        <p:nvGrpSpPr>
          <p:cNvPr id="543" name="그룹 10"/>
          <p:cNvGrpSpPr/>
          <p:nvPr/>
        </p:nvGrpSpPr>
        <p:grpSpPr>
          <a:xfrm>
            <a:off x="428760" y="911160"/>
            <a:ext cx="8572320" cy="4960800"/>
            <a:chOff x="428760" y="911160"/>
            <a:chExt cx="8572320" cy="4960800"/>
          </a:xfrm>
        </p:grpSpPr>
        <p:sp>
          <p:nvSpPr>
            <p:cNvPr id="544" name="WordArt 12"/>
            <p:cNvSpPr txBox="1"/>
            <p:nvPr/>
          </p:nvSpPr>
          <p:spPr>
            <a:xfrm>
              <a:off x="1395000" y="911160"/>
              <a:ext cx="6606000" cy="110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1" strike="noStrike">
                  <a:ln w="0">
                    <a:noFill/>
                  </a:ln>
                  <a:solidFill>
                    <a:srgbClr val="333333"/>
                  </a:solidFill>
                  <a:latin typeface="HY헤드라인M"/>
                </a:rPr>
                <a:t> </a:t>
              </a:r>
              <a:endParaRPr b="0" lang="en-US" sz="4400" spc="1" strike="noStrike">
                <a:ln w="0">
                  <a:noFill/>
                </a:ln>
                <a:solidFill>
                  <a:srgbClr val="333333"/>
                </a:solidFill>
                <a:latin typeface="HY헤드라인M"/>
                <a:ea typeface="HY헤드라인M"/>
              </a:endParaRPr>
            </a:p>
          </p:txBody>
        </p:sp>
        <p:sp>
          <p:nvSpPr>
            <p:cNvPr id="545" name="Text Box 33"/>
            <p:cNvSpPr/>
            <p:nvPr/>
          </p:nvSpPr>
          <p:spPr>
            <a:xfrm>
              <a:off x="428760" y="3857760"/>
              <a:ext cx="8572320" cy="2014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Korea Institute of Energy Technology Evaluation and Planning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 April, 2010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46" name="TextBox 12" descr=""/>
          <p:cNvPicPr/>
          <p:nvPr/>
        </p:nvPicPr>
        <p:blipFill>
          <a:blip r:embed="rId6"/>
          <a:stretch/>
        </p:blipFill>
        <p:spPr>
          <a:xfrm>
            <a:off x="523800" y="858960"/>
            <a:ext cx="844416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15" descr="arr003"/>
          <p:cNvPicPr/>
          <p:nvPr/>
        </p:nvPicPr>
        <p:blipFill>
          <a:blip r:embed="rId1"/>
          <a:stretch/>
        </p:blipFill>
        <p:spPr>
          <a:xfrm>
            <a:off x="106200" y="2714760"/>
            <a:ext cx="9109080" cy="1357200"/>
          </a:xfrm>
          <a:prstGeom prst="rect">
            <a:avLst/>
          </a:prstGeom>
          <a:ln w="0">
            <a:noFill/>
          </a:ln>
        </p:spPr>
      </p:pic>
      <p:sp>
        <p:nvSpPr>
          <p:cNvPr id="737" name="AutoShape 187"/>
          <p:cNvSpPr/>
          <p:nvPr/>
        </p:nvSpPr>
        <p:spPr>
          <a:xfrm>
            <a:off x="3214800" y="4313160"/>
            <a:ext cx="2439720" cy="6159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Start roadmap base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Mid-Large projects </a:t>
            </a:r>
            <a:r>
              <a:rPr b="0" lang="ko-KR" sz="12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Expansion of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Major companies’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articipation (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HY헤드라인M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04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Establish domesti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roduct line system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271440" indent="-96840">
              <a:lnSpc>
                <a:spcPct val="14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953735"/>
                </a:solidFill>
                <a:latin typeface="HY헤드라인M"/>
                <a:ea typeface="HY헤드라인M"/>
              </a:rPr>
              <a:t> </a:t>
            </a:r>
            <a:r>
              <a:rPr b="0" lang="en-US" sz="1200" spc="-1" strike="noStrike">
                <a:solidFill>
                  <a:srgbClr val="953735"/>
                </a:solidFill>
                <a:latin typeface="HY헤드라인M"/>
                <a:ea typeface="HY헤드라인M"/>
              </a:rPr>
              <a:t>Establishment of P-Si Production line(</a:t>
            </a:r>
            <a:r>
              <a:rPr b="0" lang="en-US" sz="1200" spc="-1" strike="noStrike">
                <a:solidFill>
                  <a:srgbClr val="953735"/>
                </a:solidFill>
                <a:latin typeface="굴림"/>
                <a:ea typeface="HY헤드라인M"/>
              </a:rPr>
              <a:t>’</a:t>
            </a:r>
            <a:r>
              <a:rPr b="0" lang="en-US" sz="1200" spc="-1" strike="noStrike">
                <a:solidFill>
                  <a:srgbClr val="953735"/>
                </a:solidFill>
                <a:latin typeface="HY헤드라인M"/>
                <a:ea typeface="HY헤드라인M"/>
              </a:rPr>
              <a:t>08, OCI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AutoShape 43"/>
          <p:cNvSpPr/>
          <p:nvPr/>
        </p:nvSpPr>
        <p:spPr>
          <a:xfrm>
            <a:off x="285840" y="4357800"/>
            <a:ext cx="2651040" cy="7142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Start</a:t>
            </a:r>
            <a:r>
              <a:rPr b="0" lang="ko-KR" sz="12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Research developme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Sponsored by governme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HY헤드라인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nstitute and University focuse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asic research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Small and medium sized industry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ased short term research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271440" indent="-96840">
              <a:lnSpc>
                <a:spcPct val="14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HY헤드라인M"/>
                <a:ea typeface="HY헤드라인M"/>
              </a:rPr>
              <a:t>Establish Solar Cell product line(</a:t>
            </a:r>
            <a:r>
              <a:rPr b="0" lang="en-US" sz="1200" spc="-1" strike="noStrike">
                <a:solidFill>
                  <a:srgbClr val="953735"/>
                </a:solidFill>
                <a:latin typeface="맑은 고딕"/>
                <a:ea typeface="HY헤드라인M"/>
              </a:rPr>
              <a:t>’</a:t>
            </a:r>
            <a:r>
              <a:rPr b="0" lang="en-US" sz="1200" spc="-1" strike="noStrike">
                <a:solidFill>
                  <a:srgbClr val="953735"/>
                </a:solidFill>
                <a:latin typeface="HY헤드라인M"/>
                <a:ea typeface="HY헤드라인M"/>
              </a:rPr>
              <a:t>03, KP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AutoShape 32"/>
          <p:cNvSpPr/>
          <p:nvPr/>
        </p:nvSpPr>
        <p:spPr>
          <a:xfrm>
            <a:off x="6122880" y="3656160"/>
            <a:ext cx="2748240" cy="7016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Promote it as the growth pow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Of next generation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Green Energy Development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rategy Roadmap (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HY헤드라인M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09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Securing domestic market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Domination of international mark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3" marL="271440" indent="-96840">
              <a:lnSpc>
                <a:spcPct val="14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953735"/>
                </a:solidFill>
                <a:latin typeface="HY헤드라인M"/>
                <a:ea typeface="HY헤드라인M"/>
              </a:rPr>
              <a:t> </a:t>
            </a:r>
            <a:r>
              <a:rPr b="0" lang="en-US" sz="1200" spc="-1" strike="noStrike">
                <a:solidFill>
                  <a:srgbClr val="953735"/>
                </a:solidFill>
                <a:latin typeface="HY헤드라인M"/>
                <a:ea typeface="HY헤드라인M"/>
              </a:rPr>
              <a:t>Progress localization of equipment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3" marL="271440" indent="-96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HY헤드라인M"/>
                <a:ea typeface="HY헤드라인M"/>
              </a:rPr>
              <a:t>In priority (after</a:t>
            </a:r>
            <a:r>
              <a:rPr b="0" lang="en-US" sz="1200" spc="-1" strike="noStrike">
                <a:solidFill>
                  <a:srgbClr val="953735"/>
                </a:solidFill>
                <a:latin typeface="굴림"/>
                <a:ea typeface="HY헤드라인M"/>
              </a:rPr>
              <a:t>’</a:t>
            </a:r>
            <a:r>
              <a:rPr b="0" lang="en-US" sz="1200" spc="-1" strike="noStrike">
                <a:solidFill>
                  <a:srgbClr val="953735"/>
                </a:solidFill>
                <a:latin typeface="HY헤드라인M"/>
                <a:ea typeface="HY헤드라인M"/>
              </a:rPr>
              <a:t>08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3" marL="271440" indent="-96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TextBox 9"/>
          <p:cNvSpPr/>
          <p:nvPr/>
        </p:nvSpPr>
        <p:spPr>
          <a:xfrm>
            <a:off x="357120" y="3357720"/>
            <a:ext cx="255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HY헤드라인M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03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Research on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asic and Applic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TextBox 10"/>
          <p:cNvSpPr/>
          <p:nvPr/>
        </p:nvSpPr>
        <p:spPr>
          <a:xfrm>
            <a:off x="3406320" y="3000240"/>
            <a:ext cx="217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HY헤드라인M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08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Groundwork o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mmercializ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TextBox 11"/>
          <p:cNvSpPr/>
          <p:nvPr/>
        </p:nvSpPr>
        <p:spPr>
          <a:xfrm>
            <a:off x="6429240" y="2643120"/>
            <a:ext cx="21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HY헤드라인M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08~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Export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ndustrializ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3" name="Picture 97" descr="표지-하살표2"/>
          <p:cNvPicPr/>
          <p:nvPr/>
        </p:nvPicPr>
        <p:blipFill>
          <a:blip r:embed="rId2"/>
          <a:stretch/>
        </p:blipFill>
        <p:spPr>
          <a:xfrm>
            <a:off x="208080" y="3206880"/>
            <a:ext cx="498240" cy="506160"/>
          </a:xfrm>
          <a:prstGeom prst="rect">
            <a:avLst/>
          </a:prstGeom>
          <a:ln w="0">
            <a:noFill/>
          </a:ln>
        </p:spPr>
      </p:pic>
      <p:sp>
        <p:nvSpPr>
          <p:cNvPr id="744" name="AutoShape 110"/>
          <p:cNvSpPr/>
          <p:nvPr/>
        </p:nvSpPr>
        <p:spPr>
          <a:xfrm>
            <a:off x="214200" y="2428920"/>
            <a:ext cx="2786040" cy="785880"/>
          </a:xfrm>
          <a:prstGeom prst="roundRect">
            <a:avLst>
              <a:gd name="adj" fmla="val 12176"/>
            </a:avLst>
          </a:prstGeom>
          <a:solidFill>
            <a:srgbClr val="dce6f2">
              <a:alpha val="88000"/>
            </a:srgbClr>
          </a:solidFill>
          <a:ln w="2844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맑은 고딕"/>
                <a:ea typeface="HY울릉도M"/>
              </a:rPr>
              <a:t>‘</a:t>
            </a: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88 Enactment of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Alternative Energ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 </a:t>
            </a: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Development Ac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5" name="Picture 97" descr="표지-하살표2"/>
          <p:cNvPicPr/>
          <p:nvPr/>
        </p:nvPicPr>
        <p:blipFill>
          <a:blip r:embed="rId3"/>
          <a:stretch/>
        </p:blipFill>
        <p:spPr>
          <a:xfrm>
            <a:off x="3193920" y="2676600"/>
            <a:ext cx="519120" cy="615960"/>
          </a:xfrm>
          <a:prstGeom prst="rect">
            <a:avLst/>
          </a:prstGeom>
          <a:ln w="0">
            <a:noFill/>
          </a:ln>
        </p:spPr>
      </p:pic>
      <p:sp>
        <p:nvSpPr>
          <p:cNvPr id="746" name="AutoShape 110"/>
          <p:cNvSpPr/>
          <p:nvPr/>
        </p:nvSpPr>
        <p:spPr>
          <a:xfrm>
            <a:off x="3071880" y="1857240"/>
            <a:ext cx="2928960" cy="785880"/>
          </a:xfrm>
          <a:prstGeom prst="roundRect">
            <a:avLst>
              <a:gd name="adj" fmla="val 12176"/>
            </a:avLst>
          </a:prstGeom>
          <a:solidFill>
            <a:srgbClr val="dce6f2">
              <a:alpha val="88000"/>
            </a:srgbClr>
          </a:solidFill>
          <a:ln w="28440">
            <a:solidFill>
              <a:srgbClr val="5cfd1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맑은 고딕"/>
                <a:ea typeface="HY울릉도M"/>
              </a:rPr>
              <a:t>’</a:t>
            </a: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03 Launch of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Research Center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(Progress Project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7" name="Picture 97" descr="표지-하살표2"/>
          <p:cNvPicPr/>
          <p:nvPr/>
        </p:nvPicPr>
        <p:blipFill>
          <a:blip r:embed="rId4"/>
          <a:stretch/>
        </p:blipFill>
        <p:spPr>
          <a:xfrm>
            <a:off x="6192720" y="2249640"/>
            <a:ext cx="532080" cy="68256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110"/>
          <p:cNvSpPr/>
          <p:nvPr/>
        </p:nvSpPr>
        <p:spPr>
          <a:xfrm>
            <a:off x="6000840" y="1143000"/>
            <a:ext cx="2928960" cy="1071720"/>
          </a:xfrm>
          <a:prstGeom prst="roundRect">
            <a:avLst>
              <a:gd name="adj" fmla="val 12176"/>
            </a:avLst>
          </a:prstGeom>
          <a:solidFill>
            <a:srgbClr val="dce6f2">
              <a:alpha val="88000"/>
            </a:srgbClr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맑은 고딕"/>
                <a:ea typeface="HY울릉도M"/>
              </a:rPr>
              <a:t>’</a:t>
            </a:r>
            <a:r>
              <a:rPr b="0" lang="en-US" sz="1600" spc="-1" strike="noStrike">
                <a:solidFill>
                  <a:srgbClr val="17375e"/>
                </a:solidFill>
                <a:latin typeface="맑은 고딕"/>
                <a:ea typeface="HY울릉도M"/>
              </a:rPr>
              <a:t>08</a:t>
            </a: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 Reorganization of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Program Progress System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(detailed program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‘</a:t>
            </a: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09 KETEP establishe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TextBox 18"/>
          <p:cNvSpPr/>
          <p:nvPr/>
        </p:nvSpPr>
        <p:spPr>
          <a:xfrm>
            <a:off x="209520" y="500040"/>
            <a:ext cx="4940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Background of Photovoltaic R&amp;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Box 25"/>
          <p:cNvSpPr/>
          <p:nvPr/>
        </p:nvSpPr>
        <p:spPr>
          <a:xfrm>
            <a:off x="167760" y="500040"/>
            <a:ext cx="42663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Government Funding for PV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1" name="TextBox 14"/>
          <p:cNvSpPr/>
          <p:nvPr/>
        </p:nvSpPr>
        <p:spPr>
          <a:xfrm>
            <a:off x="1928880" y="542916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l (USD)                   50              100             150              200             25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TextBox 16"/>
          <p:cNvSpPr/>
          <p:nvPr/>
        </p:nvSpPr>
        <p:spPr>
          <a:xfrm>
            <a:off x="2003400" y="1571760"/>
            <a:ext cx="48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3" name="차트 2"/>
          <p:cNvGraphicFramePr/>
          <p:nvPr/>
        </p:nvGraphicFramePr>
        <p:xfrm>
          <a:off x="1714680" y="1500120"/>
          <a:ext cx="5786280" cy="385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4" name="차트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1500120"/>
                    <a:ext cx="578628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Box 25"/>
          <p:cNvSpPr/>
          <p:nvPr/>
        </p:nvSpPr>
        <p:spPr>
          <a:xfrm>
            <a:off x="285840" y="500040"/>
            <a:ext cx="85010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Overview of Funding for Types</a:t>
            </a:r>
            <a:r>
              <a:rPr b="0" lang="ko-KR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of Technology in PV Cell</a:t>
            </a:r>
            <a:r>
              <a:rPr b="0" lang="ko-KR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6" name="Picture 39" descr="011"/>
          <p:cNvPicPr/>
          <p:nvPr/>
        </p:nvPicPr>
        <p:blipFill>
          <a:blip r:embed="rId1">
            <a:lum contrast="24000"/>
          </a:blip>
          <a:srcRect l="0" t="0" r="92837" b="77009"/>
          <a:stretch/>
        </p:blipFill>
        <p:spPr>
          <a:xfrm>
            <a:off x="347760" y="1157400"/>
            <a:ext cx="296640" cy="50328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74"/>
          <p:cNvSpPr/>
          <p:nvPr/>
        </p:nvSpPr>
        <p:spPr>
          <a:xfrm>
            <a:off x="725400" y="121428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2009</a:t>
            </a:r>
            <a:r>
              <a:rPr b="1" lang="ko-KR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: Total</a:t>
            </a:r>
            <a:r>
              <a:rPr b="1" lang="ko-KR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57</a:t>
            </a:r>
            <a:r>
              <a:rPr b="1" lang="ko-KR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projects</a:t>
            </a:r>
            <a:r>
              <a:rPr b="1" lang="ko-KR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8" name="Rectangle 74"/>
          <p:cNvSpPr/>
          <p:nvPr/>
        </p:nvSpPr>
        <p:spPr>
          <a:xfrm>
            <a:off x="785880" y="1571760"/>
            <a:ext cx="8358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5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Decrease in  crystalline</a:t>
            </a:r>
            <a:r>
              <a:rPr b="1" lang="ko-KR" sz="15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5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PV( </a:t>
            </a:r>
            <a:r>
              <a:rPr b="1" lang="en-US" sz="1500" spc="-1" strike="noStrike">
                <a:solidFill>
                  <a:srgbClr val="000066"/>
                </a:solidFill>
                <a:latin typeface="맑은 고딕"/>
                <a:ea typeface="맑은 고딕"/>
              </a:rPr>
              <a:t>‘</a:t>
            </a:r>
            <a:r>
              <a:rPr b="1" lang="en-US" sz="15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07. 74% → </a:t>
            </a:r>
            <a:r>
              <a:rPr b="1" lang="en-US" sz="1500" spc="-1" strike="noStrike">
                <a:solidFill>
                  <a:srgbClr val="000066"/>
                </a:solidFill>
                <a:latin typeface="맑은 고딕"/>
                <a:ea typeface="맑은 고딕"/>
              </a:rPr>
              <a:t>’</a:t>
            </a:r>
            <a:r>
              <a:rPr b="1" lang="en-US" sz="15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09. 45%), significant increase in thin film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9" name="Picture 157" descr="k-57"/>
          <p:cNvPicPr/>
          <p:nvPr/>
        </p:nvPicPr>
        <p:blipFill>
          <a:blip r:embed="rId2"/>
          <a:stretch/>
        </p:blipFill>
        <p:spPr>
          <a:xfrm>
            <a:off x="714240" y="1643040"/>
            <a:ext cx="12888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0" name=""/>
          <p:cNvGraphicFramePr/>
          <p:nvPr/>
        </p:nvGraphicFramePr>
        <p:xfrm>
          <a:off x="357120" y="1878120"/>
          <a:ext cx="8358120" cy="4457520"/>
        </p:xfrm>
        <a:graphic>
          <a:graphicData uri="http://schemas.openxmlformats.org/drawingml/2006/table">
            <a:tbl>
              <a:tblPr/>
              <a:tblGrid>
                <a:gridCol w="1214640"/>
                <a:gridCol w="730080"/>
                <a:gridCol w="127080"/>
                <a:gridCol w="785880"/>
                <a:gridCol w="141120"/>
                <a:gridCol w="430200"/>
                <a:gridCol w="785880"/>
                <a:gridCol w="585720"/>
                <a:gridCol w="271440"/>
                <a:gridCol w="714600"/>
                <a:gridCol w="857160"/>
                <a:gridCol w="155520"/>
                <a:gridCol w="701640"/>
                <a:gridCol w="857160"/>
              </a:tblGrid>
              <a:tr h="32004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mil US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200">
                <a:tc rowSpan="3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TY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5">
                  <a:txBody>
                    <a:bodyPr lIns="83520" rIns="83520" tIns="0" bIns="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3520" rIns="83520" tIns="0" bIns="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3520" rIns="83520" tIns="0" bIns="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3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3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2660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Crystalline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i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7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4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4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morphous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i thin fi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2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2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</a:tr>
              <a:tr h="34128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CI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1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1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</a:tr>
              <a:tr h="42660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ye-sensiti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</a:tr>
              <a:tr h="34128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Organ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0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</a:tr>
              <a:tr h="34128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0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</a:tr>
              <a:tr h="34128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Box 25"/>
          <p:cNvSpPr/>
          <p:nvPr/>
        </p:nvSpPr>
        <p:spPr>
          <a:xfrm>
            <a:off x="378360" y="500040"/>
            <a:ext cx="64566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Overview of funding for types of PV value chain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62" name="Picture 39" descr="011"/>
          <p:cNvPicPr/>
          <p:nvPr/>
        </p:nvPicPr>
        <p:blipFill>
          <a:blip r:embed="rId1">
            <a:lum contrast="24000"/>
          </a:blip>
          <a:srcRect l="0" t="0" r="92837" b="77009"/>
          <a:stretch/>
        </p:blipFill>
        <p:spPr>
          <a:xfrm>
            <a:off x="347760" y="1157400"/>
            <a:ext cx="296640" cy="50328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74"/>
          <p:cNvSpPr/>
          <p:nvPr/>
        </p:nvSpPr>
        <p:spPr>
          <a:xfrm>
            <a:off x="375840" y="1214280"/>
            <a:ext cx="81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Expansion from focus on </a:t>
            </a:r>
            <a:r>
              <a:rPr b="1" lang="en-US" sz="20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components</a:t>
            </a:r>
            <a:r>
              <a:rPr b="1" lang="en-US" sz="18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 and materials into equip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4" name="Rectangle 74"/>
          <p:cNvSpPr/>
          <p:nvPr/>
        </p:nvSpPr>
        <p:spPr>
          <a:xfrm>
            <a:off x="734760" y="1611360"/>
            <a:ext cx="53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Component/material  :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2007(97.2%) → 2009(72.1%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65" name="Picture 157" descr="k-57"/>
          <p:cNvPicPr/>
          <p:nvPr/>
        </p:nvPicPr>
        <p:blipFill>
          <a:blip r:embed="rId2"/>
          <a:stretch/>
        </p:blipFill>
        <p:spPr>
          <a:xfrm>
            <a:off x="714240" y="1714680"/>
            <a:ext cx="128880" cy="142560"/>
          </a:xfrm>
          <a:prstGeom prst="rect">
            <a:avLst/>
          </a:prstGeom>
          <a:ln w="0">
            <a:noFill/>
          </a:ln>
        </p:spPr>
      </p:pic>
      <p:sp>
        <p:nvSpPr>
          <p:cNvPr id="766" name="Rectangle 74"/>
          <p:cNvSpPr/>
          <p:nvPr/>
        </p:nvSpPr>
        <p:spPr>
          <a:xfrm>
            <a:off x="771480" y="1962000"/>
            <a:ext cx="56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Manufacturing equipment  :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2007(0%)  → 2009(26.0%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67" name="Picture 157" descr="k-57"/>
          <p:cNvPicPr/>
          <p:nvPr/>
        </p:nvPicPr>
        <p:blipFill>
          <a:blip r:embed="rId3"/>
          <a:stretch/>
        </p:blipFill>
        <p:spPr>
          <a:xfrm>
            <a:off x="706320" y="2071800"/>
            <a:ext cx="12888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8" name=""/>
          <p:cNvGraphicFramePr/>
          <p:nvPr/>
        </p:nvGraphicFramePr>
        <p:xfrm>
          <a:off x="357120" y="2286000"/>
          <a:ext cx="8383680" cy="3795840"/>
        </p:xfrm>
        <a:graphic>
          <a:graphicData uri="http://schemas.openxmlformats.org/drawingml/2006/table">
            <a:tbl>
              <a:tblPr/>
              <a:tblGrid>
                <a:gridCol w="1258920"/>
                <a:gridCol w="685800"/>
                <a:gridCol w="127080"/>
                <a:gridCol w="779400"/>
                <a:gridCol w="147600"/>
                <a:gridCol w="573120"/>
                <a:gridCol w="857160"/>
                <a:gridCol w="371520"/>
                <a:gridCol w="438120"/>
                <a:gridCol w="690840"/>
                <a:gridCol w="895320"/>
                <a:gridCol w="890280"/>
                <a:gridCol w="668520"/>
              </a:tblGrid>
              <a:tr h="36972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mil US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 rowSpan="3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Ty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5">
                  <a:txBody>
                    <a:bodyPr lIns="83520" rIns="83520" tIns="0" bIns="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3520" rIns="83520" tIns="0" bIns="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3520" rIns="83520" tIns="0" bIns="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Project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3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Project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3200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component, mate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9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7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7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Manu-facturing equi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2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2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0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0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3.79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Box 10"/>
          <p:cNvSpPr/>
          <p:nvPr/>
        </p:nvSpPr>
        <p:spPr>
          <a:xfrm>
            <a:off x="258480" y="500040"/>
            <a:ext cx="4505760" cy="429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Overview of Major Projects in PV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0" name="Rectangle 74"/>
          <p:cNvSpPr/>
          <p:nvPr/>
        </p:nvSpPr>
        <p:spPr>
          <a:xfrm>
            <a:off x="615960" y="1035000"/>
            <a:ext cx="64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Project in Types of Technology and Research Organiz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1" name="Rectangle 74"/>
          <p:cNvSpPr/>
          <p:nvPr/>
        </p:nvSpPr>
        <p:spPr>
          <a:xfrm>
            <a:off x="775800" y="1382760"/>
            <a:ext cx="46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</a:t>
            </a:r>
            <a:r>
              <a:rPr b="0" lang="en-US" sz="1600" spc="-1" strike="noStrike">
                <a:solidFill>
                  <a:srgbClr val="ffc000"/>
                </a:solidFill>
                <a:latin typeface="휴먼모음T"/>
                <a:ea typeface="휴먼모음T"/>
              </a:rPr>
              <a:t>(Past) </a:t>
            </a: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Focused on developing crystalline Si</a:t>
            </a:r>
            <a:r>
              <a:rPr b="0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PV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2" name="Rectangle 74"/>
          <p:cNvSpPr/>
          <p:nvPr/>
        </p:nvSpPr>
        <p:spPr>
          <a:xfrm>
            <a:off x="832320" y="1643040"/>
            <a:ext cx="7329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</a:t>
            </a:r>
            <a:r>
              <a:rPr b="0" lang="en-US" sz="1600" spc="-1" strike="noStrike">
                <a:solidFill>
                  <a:srgbClr val="ffc000"/>
                </a:solidFill>
                <a:latin typeface="휴먼모음T"/>
                <a:ea typeface="휴먼모음T"/>
              </a:rPr>
              <a:t>(Present)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 ·Leading corporations participating in developing thin film PV, including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    amorphous</a:t>
            </a:r>
            <a:r>
              <a:rPr b="0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Si thin film, CIGS,</a:t>
            </a:r>
            <a:r>
              <a:rPr b="0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dye-sensitize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·Development of crystalline Si PV production equipment</a:t>
            </a:r>
            <a:r>
              <a:rPr b="0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and low-cost and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    high-efficiency technologi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357120" y="3251160"/>
          <a:ext cx="8358120" cy="3106800"/>
        </p:xfrm>
        <a:graphic>
          <a:graphicData uri="http://schemas.openxmlformats.org/drawingml/2006/table">
            <a:tbl>
              <a:tblPr/>
              <a:tblGrid>
                <a:gridCol w="1071720"/>
                <a:gridCol w="1643040"/>
                <a:gridCol w="5643360"/>
              </a:tblGrid>
              <a:tr h="356040">
                <a:tc gridSpan="2">
                  <a:txBody>
                    <a:bodyPr lIns="64800" rIns="64800" tIns="18000" bIns="18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Types of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Research Orga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4800" marR="64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45680">
                <a:tc rowSpan="3"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Crystalline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i raw mate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Renew Energy(MG Si), Mirinet Solar(UMG), Innovation Silicon(UMG)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Korea Institute of Industrial Technology(Poly S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ingot, waf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Glosil(policyrstalline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ingo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olar cell,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yundai Heavy Industry(rear electrode), S&amp;T(cell, equipment)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 Energy(subtrate module, equipmen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 gridSpan="2"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morphous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i thin fi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amsung Electronics(heterojuction), LG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Electronic (Triple junction)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TG Solar(Poly Si thin film), Korea Institute of Energy Research(KIER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 gridSpan="2"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CI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G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Innotech(cell), S&amp;U Precision(equipment), K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gridSpan="2"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ye-Sensitiz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ongjin Semi-Chem(cell), KIST, ETR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 gridSpan="2"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Organ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GIST, KRICT, KI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4" name="TextBox 14"/>
          <p:cNvSpPr/>
          <p:nvPr/>
        </p:nvSpPr>
        <p:spPr>
          <a:xfrm>
            <a:off x="3120120" y="287640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R&amp;D projects in 2009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5" name="Picture 39" descr="011"/>
          <p:cNvPicPr/>
          <p:nvPr/>
        </p:nvPicPr>
        <p:blipFill>
          <a:blip r:embed="rId1">
            <a:lum contrast="24000"/>
          </a:blip>
          <a:srcRect l="0" t="0" r="92837" b="77009"/>
          <a:stretch/>
        </p:blipFill>
        <p:spPr>
          <a:xfrm>
            <a:off x="266760" y="996840"/>
            <a:ext cx="2966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Box 25"/>
          <p:cNvSpPr/>
          <p:nvPr/>
        </p:nvSpPr>
        <p:spPr>
          <a:xfrm>
            <a:off x="232200" y="500040"/>
            <a:ext cx="34070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Major Project Survey I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7" name="Picture 39" descr="011"/>
          <p:cNvPicPr/>
          <p:nvPr/>
        </p:nvPicPr>
        <p:blipFill>
          <a:blip r:embed="rId1">
            <a:lum contrast="24000"/>
          </a:blip>
          <a:srcRect l="0" t="0" r="92837" b="77009"/>
          <a:stretch/>
        </p:blipFill>
        <p:spPr>
          <a:xfrm>
            <a:off x="262080" y="1143000"/>
            <a:ext cx="296640" cy="50328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74"/>
          <p:cNvSpPr/>
          <p:nvPr/>
        </p:nvSpPr>
        <p:spPr>
          <a:xfrm>
            <a:off x="500040" y="117936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Development of large area (above 4 inch) high-efficiency cell using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amorphous/crystalline silicon heterojunc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9" name="Rectangle 74"/>
          <p:cNvSpPr/>
          <p:nvPr/>
        </p:nvSpPr>
        <p:spPr>
          <a:xfrm>
            <a:off x="495360" y="1608120"/>
            <a:ext cx="231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0" name="Rectangle 74"/>
          <p:cNvSpPr/>
          <p:nvPr/>
        </p:nvSpPr>
        <p:spPr>
          <a:xfrm>
            <a:off x="511200" y="214308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Partners: Lexu, Dongjin Semi-Chem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1" name="Rectangle 74"/>
          <p:cNvSpPr/>
          <p:nvPr/>
        </p:nvSpPr>
        <p:spPr>
          <a:xfrm>
            <a:off x="344880" y="2557440"/>
            <a:ext cx="845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Objective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: photoelectrochemical efficiency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above 22% (1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㎠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), 19% above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(&gt;100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㎠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Rectangle 74"/>
          <p:cNvSpPr/>
          <p:nvPr/>
        </p:nvSpPr>
        <p:spPr>
          <a:xfrm>
            <a:off x="460440" y="2963880"/>
            <a:ext cx="69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Budget : </a:t>
            </a:r>
            <a:r>
              <a:rPr b="1" lang="en-US" sz="16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13 M$(Gov. 6 M$)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Rectangle 74"/>
          <p:cNvSpPr/>
          <p:nvPr/>
        </p:nvSpPr>
        <p:spPr>
          <a:xfrm>
            <a:off x="511200" y="178920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Main Researcher: Samsung Electronics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39" descr="011"/>
          <p:cNvPicPr/>
          <p:nvPr/>
        </p:nvPicPr>
        <p:blipFill>
          <a:blip r:embed="rId2">
            <a:lum contrast="24000"/>
          </a:blip>
          <a:srcRect l="0" t="0" r="92837" b="77009"/>
          <a:stretch/>
        </p:blipFill>
        <p:spPr>
          <a:xfrm>
            <a:off x="262080" y="3602160"/>
            <a:ext cx="296640" cy="503280"/>
          </a:xfrm>
          <a:prstGeom prst="rect">
            <a:avLst/>
          </a:prstGeom>
          <a:ln w="0">
            <a:noFill/>
          </a:ln>
        </p:spPr>
      </p:pic>
      <p:sp>
        <p:nvSpPr>
          <p:cNvPr id="785" name="Rectangle 74"/>
          <p:cNvSpPr/>
          <p:nvPr/>
        </p:nvSpPr>
        <p:spPr>
          <a:xfrm>
            <a:off x="294480" y="3638520"/>
            <a:ext cx="90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Production technology development of low-cost large area </a:t>
            </a:r>
            <a:r>
              <a:rPr b="1" lang="ko-KR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thin film</a:t>
            </a:r>
            <a:r>
              <a:rPr b="1" lang="ko-KR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Si</a:t>
            </a:r>
            <a:r>
              <a:rPr b="1" lang="ko-KR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PV ce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Rectangle 74"/>
          <p:cNvSpPr/>
          <p:nvPr/>
        </p:nvSpPr>
        <p:spPr>
          <a:xfrm>
            <a:off x="446040" y="4357800"/>
            <a:ext cx="867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Research Partners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: LG Electronics, 3M Korea, KCC, DMS, JS ENG, Abaco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                                   Cham&amp;C,  YS Sumtech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74"/>
          <p:cNvSpPr/>
          <p:nvPr/>
        </p:nvSpPr>
        <p:spPr>
          <a:xfrm>
            <a:off x="412200" y="4962600"/>
            <a:ext cx="71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Objective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: Stabilization efficiency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12% beyond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(2.2m×2.8m),  0.8$/W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Rectangle 74"/>
          <p:cNvSpPr/>
          <p:nvPr/>
        </p:nvSpPr>
        <p:spPr>
          <a:xfrm>
            <a:off x="446040" y="4000680"/>
            <a:ext cx="867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Main Researcher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: LG Electronic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9" name="Rectangle 74"/>
          <p:cNvSpPr/>
          <p:nvPr/>
        </p:nvSpPr>
        <p:spPr>
          <a:xfrm>
            <a:off x="500040" y="5391000"/>
            <a:ext cx="69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Budget : </a:t>
            </a:r>
            <a:r>
              <a:rPr b="1" lang="en-US" sz="16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34 M$(Gov. 20.8 M$)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Box 25"/>
          <p:cNvSpPr/>
          <p:nvPr/>
        </p:nvSpPr>
        <p:spPr>
          <a:xfrm>
            <a:off x="205920" y="500040"/>
            <a:ext cx="351072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Major Project Survey II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1" name="Picture 39" descr="011"/>
          <p:cNvPicPr/>
          <p:nvPr/>
        </p:nvPicPr>
        <p:blipFill>
          <a:blip r:embed="rId1">
            <a:lum contrast="24000"/>
          </a:blip>
          <a:srcRect l="0" t="0" r="92837" b="77009"/>
          <a:stretch/>
        </p:blipFill>
        <p:spPr>
          <a:xfrm>
            <a:off x="262080" y="1143000"/>
            <a:ext cx="296640" cy="50328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74"/>
          <p:cNvSpPr/>
          <p:nvPr/>
        </p:nvSpPr>
        <p:spPr>
          <a:xfrm>
            <a:off x="293760" y="1143000"/>
            <a:ext cx="84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Glass board </a:t>
            </a:r>
            <a:r>
              <a:rPr b="1" lang="ko-KR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CIGS</a:t>
            </a:r>
            <a:r>
              <a:rPr b="1" lang="ko-KR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type</a:t>
            </a:r>
            <a:r>
              <a:rPr b="1" lang="ko-KR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thin film</a:t>
            </a:r>
            <a:r>
              <a:rPr b="1" lang="ko-KR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solar cell module</a:t>
            </a:r>
            <a:r>
              <a:rPr b="1" lang="ko-KR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production technolog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Rectangle 74"/>
          <p:cNvSpPr/>
          <p:nvPr/>
        </p:nvSpPr>
        <p:spPr>
          <a:xfrm>
            <a:off x="486720" y="1500120"/>
            <a:ext cx="34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Main Researcher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: LG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Innotech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Rectangle 74"/>
          <p:cNvSpPr/>
          <p:nvPr/>
        </p:nvSpPr>
        <p:spPr>
          <a:xfrm>
            <a:off x="596880" y="1857240"/>
            <a:ext cx="70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Partner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: 3M Korea, KCC, DMS, JS ENG, Abaco, Cham&amp;C, YS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Sumtech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Rectangle 74"/>
          <p:cNvSpPr/>
          <p:nvPr/>
        </p:nvSpPr>
        <p:spPr>
          <a:xfrm>
            <a:off x="511200" y="2273400"/>
            <a:ext cx="809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Objective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: 37×47 cm2 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module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16%, 60×120 cm2 module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14%,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                     proto type for mass production  (30MW/y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Rectangle 74"/>
          <p:cNvSpPr/>
          <p:nvPr/>
        </p:nvSpPr>
        <p:spPr>
          <a:xfrm>
            <a:off x="533520" y="2962440"/>
            <a:ext cx="69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Budget : </a:t>
            </a:r>
            <a:r>
              <a:rPr b="1" lang="en-US" sz="16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21.3 M$(Gov. 13.8 M$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39" descr="011"/>
          <p:cNvPicPr/>
          <p:nvPr/>
        </p:nvPicPr>
        <p:blipFill>
          <a:blip r:embed="rId2">
            <a:lum contrast="24000"/>
          </a:blip>
          <a:srcRect l="0" t="0" r="92837" b="77009"/>
          <a:stretch/>
        </p:blipFill>
        <p:spPr>
          <a:xfrm>
            <a:off x="262080" y="3571920"/>
            <a:ext cx="296640" cy="50328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74"/>
          <p:cNvSpPr/>
          <p:nvPr/>
        </p:nvSpPr>
        <p:spPr>
          <a:xfrm>
            <a:off x="517680" y="3619440"/>
            <a:ext cx="90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Development of low-cost/high-efficiency equipment for crystalline Si solar ce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Rectangle 74"/>
          <p:cNvSpPr/>
          <p:nvPr/>
        </p:nvSpPr>
        <p:spPr>
          <a:xfrm>
            <a:off x="412560" y="3973680"/>
            <a:ext cx="260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휴먼모음T"/>
                <a:ea typeface="휴먼모음T"/>
              </a:rPr>
              <a:t>  </a:t>
            </a:r>
            <a:r>
              <a:rPr b="1" lang="en-US" sz="1600" spc="-1" strike="noStrike">
                <a:solidFill>
                  <a:srgbClr val="17375e"/>
                </a:solidFill>
                <a:latin typeface="휴먼모음T"/>
                <a:ea typeface="휴먼모음T"/>
              </a:rPr>
              <a:t>-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Main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Researcher: S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Rectangle 74"/>
          <p:cNvSpPr/>
          <p:nvPr/>
        </p:nvSpPr>
        <p:spPr>
          <a:xfrm>
            <a:off x="473040" y="4359240"/>
            <a:ext cx="852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17375e"/>
                </a:solidFill>
                <a:latin typeface="휴먼모음T"/>
                <a:ea typeface="휴먼모음T"/>
              </a:rPr>
              <a:t>-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Objective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: localizing in-line production equipment of 50MW/y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(mono-c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&gt;17.5%, poly-c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&gt;17%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Rectangle 74"/>
          <p:cNvSpPr/>
          <p:nvPr/>
        </p:nvSpPr>
        <p:spPr>
          <a:xfrm>
            <a:off x="379440" y="4975200"/>
            <a:ext cx="729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17375e"/>
                </a:solidFill>
                <a:latin typeface="휴먼모음T"/>
                <a:ea typeface="휴먼모음T"/>
              </a:rPr>
              <a:t>-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Conducting project Special Purpose Corporation (SPC) for promoting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  the  commercialization of the projec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Rectangle 74"/>
          <p:cNvSpPr/>
          <p:nvPr/>
        </p:nvSpPr>
        <p:spPr>
          <a:xfrm>
            <a:off x="598680" y="5676840"/>
            <a:ext cx="3121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17375e"/>
                </a:solidFill>
                <a:latin typeface="휴먼모음T"/>
                <a:ea typeface="휴먼모음T"/>
              </a:rPr>
              <a:t>-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Budget : </a:t>
            </a:r>
            <a:r>
              <a:rPr b="1" lang="en-US" sz="16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24 M$(Gov. 17 M$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그림 7" descr="111.png"/>
          <p:cNvPicPr/>
          <p:nvPr/>
        </p:nvPicPr>
        <p:blipFill>
          <a:blip r:embed="rId1"/>
          <a:stretch/>
        </p:blipFill>
        <p:spPr>
          <a:xfrm>
            <a:off x="214200" y="3643200"/>
            <a:ext cx="2003400" cy="3286080"/>
          </a:xfrm>
          <a:prstGeom prst="rect">
            <a:avLst/>
          </a:prstGeom>
          <a:ln w="0">
            <a:noFill/>
          </a:ln>
        </p:spPr>
      </p:pic>
      <p:pic>
        <p:nvPicPr>
          <p:cNvPr id="804" name="그림 9" descr="con-bar.png"/>
          <p:cNvPicPr/>
          <p:nvPr/>
        </p:nvPicPr>
        <p:blipFill>
          <a:blip r:embed="rId2"/>
          <a:stretch/>
        </p:blipFill>
        <p:spPr>
          <a:xfrm>
            <a:off x="2643120" y="3286080"/>
            <a:ext cx="6500880" cy="1000080"/>
          </a:xfrm>
          <a:prstGeom prst="rect">
            <a:avLst/>
          </a:prstGeom>
          <a:ln w="0">
            <a:noFill/>
          </a:ln>
        </p:spPr>
      </p:pic>
      <p:sp>
        <p:nvSpPr>
          <p:cNvPr id="805" name="TextBox 10"/>
          <p:cNvSpPr/>
          <p:nvPr/>
        </p:nvSpPr>
        <p:spPr>
          <a:xfrm>
            <a:off x="4353120" y="3533760"/>
            <a:ext cx="45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V</a:t>
            </a:r>
            <a:r>
              <a:rPr b="0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Deployment &amp; Industr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Box 11"/>
          <p:cNvSpPr/>
          <p:nvPr/>
        </p:nvSpPr>
        <p:spPr>
          <a:xfrm>
            <a:off x="3297960" y="3497400"/>
            <a:ext cx="5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Box 10"/>
          <p:cNvSpPr/>
          <p:nvPr/>
        </p:nvSpPr>
        <p:spPr>
          <a:xfrm>
            <a:off x="264600" y="500040"/>
            <a:ext cx="38048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Status of PV</a:t>
            </a:r>
            <a:r>
              <a:rPr b="0" lang="ko-KR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Deploymen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39" descr="011"/>
          <p:cNvPicPr/>
          <p:nvPr/>
        </p:nvPicPr>
        <p:blipFill>
          <a:blip r:embed="rId1">
            <a:lum contrast="24000"/>
          </a:blip>
          <a:srcRect l="0" t="0" r="92837" b="77009"/>
          <a:stretch/>
        </p:blipFill>
        <p:spPr>
          <a:xfrm>
            <a:off x="345960" y="1214280"/>
            <a:ext cx="297000" cy="5032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74"/>
          <p:cNvSpPr/>
          <p:nvPr/>
        </p:nvSpPr>
        <p:spPr>
          <a:xfrm>
            <a:off x="609480" y="1285920"/>
            <a:ext cx="76057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275MW of PV system installed</a:t>
            </a:r>
            <a:r>
              <a:rPr b="0" lang="ko-KR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in 2008 (354MW accumulate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Market share of domestic module : 22% in commercial power plant, 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                              85%</a:t>
            </a:r>
            <a:r>
              <a:rPr b="0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in non-commercial pla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"/>
          <p:cNvGraphicFramePr/>
          <p:nvPr/>
        </p:nvGraphicFramePr>
        <p:xfrm>
          <a:off x="428760" y="3000240"/>
          <a:ext cx="8256600" cy="3273480"/>
        </p:xfrm>
        <a:graphic>
          <a:graphicData uri="http://schemas.openxmlformats.org/drawingml/2006/table">
            <a:tbl>
              <a:tblPr/>
              <a:tblGrid>
                <a:gridCol w="1357200"/>
                <a:gridCol w="1085760"/>
                <a:gridCol w="271440"/>
                <a:gridCol w="1171800"/>
                <a:gridCol w="114120"/>
                <a:gridCol w="1328760"/>
                <a:gridCol w="1452600"/>
                <a:gridCol w="1474920"/>
              </a:tblGrid>
              <a:tr h="35748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 row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Type of PV Pl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 gridSpan="7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Capacity (kW) [Domestic share (%)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04a7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04a7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83520" rIns="83520" tIns="0" bIns="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83520" rIns="83520" tIns="0" bIns="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83520" marR="8352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04a7b"/>
                    </a:solidFill>
                  </a:tcPr>
                </a:tc>
              </a:tr>
              <a:tr h="73188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Commer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3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휴먼엑스포"/>
                          <a:ea typeface="휴먼엑스포"/>
                        </a:rPr>
                        <a:t>(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22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휴먼엑스포"/>
                          <a:ea typeface="휴먼엑스포"/>
                        </a:rPr>
                        <a:t>(1.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,07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휴먼엑스포"/>
                          <a:ea typeface="휴먼엑스포"/>
                        </a:rPr>
                        <a:t>(12.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,84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휴먼엑스포"/>
                          <a:ea typeface="휴먼엑스포"/>
                        </a:rPr>
                        <a:t>(19.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59,110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휴먼엑스포"/>
                          <a:ea typeface="휴먼엑스포"/>
                        </a:rPr>
                        <a:t>(22.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on- comme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,3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휴먼엑스포"/>
                          <a:ea typeface="휴먼엑스포"/>
                        </a:rPr>
                        <a:t>(95.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,766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휴먼엑스포"/>
                          <a:ea typeface="휴먼엑스포"/>
                        </a:rPr>
                        <a:t>(39.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3,2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휴먼엑스포"/>
                          <a:ea typeface="휴먼엑스포"/>
                        </a:rPr>
                        <a:t>(38.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6,50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휴먼엑스포"/>
                          <a:ea typeface="휴먼엑스포"/>
                        </a:rPr>
                        <a:t>(49.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6,55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휴먼엑스포"/>
                          <a:ea typeface="휴먼엑스포"/>
                        </a:rPr>
                        <a:t>(85.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,5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,9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2,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5,3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75,6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811" name="Rectangle 74"/>
          <p:cNvSpPr/>
          <p:nvPr/>
        </p:nvSpPr>
        <p:spPr>
          <a:xfrm>
            <a:off x="1400040" y="2452680"/>
            <a:ext cx="549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휴먼둥근헤드라인"/>
                <a:ea typeface="휴먼둥근헤드라인"/>
              </a:rPr>
              <a:t>※ </a:t>
            </a:r>
            <a:r>
              <a:rPr b="0" lang="ko-KR" sz="1600" spc="-1" strike="noStrike">
                <a:solidFill>
                  <a:srgbClr val="000066"/>
                </a:solidFill>
                <a:latin typeface="휴먼둥근헤드라인"/>
                <a:ea typeface="휴먼둥근헤드라인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휴먼둥근헤드라인"/>
                <a:ea typeface="휴먼둥근헤드라인"/>
              </a:rPr>
              <a:t>Market share of module for commercial power plant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Rectangle 74"/>
          <p:cNvSpPr/>
          <p:nvPr/>
        </p:nvSpPr>
        <p:spPr>
          <a:xfrm>
            <a:off x="1275480" y="2786040"/>
            <a:ext cx="4025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휴먼둥근헤드라인"/>
                <a:ea typeface="휴먼둥근헤드라인"/>
              </a:rPr>
              <a:t>   </a:t>
            </a:r>
            <a:r>
              <a:rPr b="0" lang="en-US" sz="1500" spc="-1" strike="noStrike">
                <a:solidFill>
                  <a:srgbClr val="000066"/>
                </a:solidFill>
                <a:latin typeface="휴먼둥근헤드라인"/>
                <a:ea typeface="휴먼둥근헤드라인"/>
              </a:rPr>
              <a:t>- 20~25% among Korea, China, Japan, U.S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모서리가 둥근 직사각형 23"/>
          <p:cNvSpPr/>
          <p:nvPr/>
        </p:nvSpPr>
        <p:spPr>
          <a:xfrm>
            <a:off x="428760" y="2428920"/>
            <a:ext cx="8215200" cy="714240"/>
          </a:xfrm>
          <a:prstGeom prst="roundRect">
            <a:avLst>
              <a:gd name="adj" fmla="val 9556"/>
            </a:avLst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Box 10"/>
          <p:cNvSpPr/>
          <p:nvPr/>
        </p:nvSpPr>
        <p:spPr>
          <a:xfrm>
            <a:off x="221400" y="500040"/>
            <a:ext cx="54036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Overview of Leading PV Companies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15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1361880" cy="15717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3" descr=""/>
          <p:cNvPicPr/>
          <p:nvPr/>
        </p:nvPicPr>
        <p:blipFill>
          <a:blip r:embed="rId2"/>
          <a:stretch/>
        </p:blipFill>
        <p:spPr>
          <a:xfrm>
            <a:off x="2286000" y="1143000"/>
            <a:ext cx="792000" cy="72540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6" descr=""/>
          <p:cNvPicPr/>
          <p:nvPr/>
        </p:nvPicPr>
        <p:blipFill>
          <a:blip r:embed="rId3"/>
          <a:stretch/>
        </p:blipFill>
        <p:spPr>
          <a:xfrm>
            <a:off x="7143840" y="1143000"/>
            <a:ext cx="1500120" cy="1500120"/>
          </a:xfrm>
          <a:prstGeom prst="rect">
            <a:avLst/>
          </a:prstGeom>
          <a:ln w="0">
            <a:noFill/>
          </a:ln>
        </p:spPr>
      </p:pic>
      <p:sp>
        <p:nvSpPr>
          <p:cNvPr id="818" name="AutoShape 7"/>
          <p:cNvSpPr/>
          <p:nvPr/>
        </p:nvSpPr>
        <p:spPr>
          <a:xfrm>
            <a:off x="297000" y="2871720"/>
            <a:ext cx="8643960" cy="647640"/>
          </a:xfrm>
          <a:custGeom>
            <a:avLst/>
            <a:gdLst>
              <a:gd name="textAreaLeft" fmla="*/ 0 w 8643960"/>
              <a:gd name="textAreaRight" fmla="*/ 8643960 w 86439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95" y="0"/>
                </a:lnTo>
                <a:lnTo>
                  <a:pt x="21600" y="10800"/>
                </a:lnTo>
                <a:lnTo>
                  <a:pt x="2059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83457"/>
              </a:gs>
              <a:gs pos="100000">
                <a:srgbClr val="306099"/>
              </a:gs>
            </a:gsLst>
            <a:lin ang="16200000"/>
          </a:gradFill>
          <a:ln w="25560">
            <a:solidFill>
              <a:srgbClr val="5e5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8"/>
          <p:cNvSpPr/>
          <p:nvPr/>
        </p:nvSpPr>
        <p:spPr>
          <a:xfrm>
            <a:off x="518760" y="3049560"/>
            <a:ext cx="111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MS PGothic"/>
              </a:rPr>
              <a:t>Poly-sili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9"/>
          <p:cNvSpPr/>
          <p:nvPr/>
        </p:nvSpPr>
        <p:spPr>
          <a:xfrm>
            <a:off x="2319480" y="2928960"/>
            <a:ext cx="68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MS PGothic"/>
              </a:rPr>
              <a:t>Waf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MS PGothic"/>
              </a:rPr>
              <a:t>Ingo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1"/>
          <p:cNvSpPr/>
          <p:nvPr/>
        </p:nvSpPr>
        <p:spPr>
          <a:xfrm>
            <a:off x="5417640" y="304956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MS PGothic"/>
              </a:rPr>
              <a:t>Solar Modu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Text Box 12"/>
          <p:cNvSpPr/>
          <p:nvPr/>
        </p:nvSpPr>
        <p:spPr>
          <a:xfrm>
            <a:off x="7273080" y="3049560"/>
            <a:ext cx="87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MS PGothic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7"/>
          <p:cNvSpPr/>
          <p:nvPr/>
        </p:nvSpPr>
        <p:spPr>
          <a:xfrm>
            <a:off x="3726000" y="30495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MS PGothic"/>
              </a:rPr>
              <a:t>Solar Ce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4" name="Rectangle 18"/>
          <p:cNvSpPr/>
          <p:nvPr/>
        </p:nvSpPr>
        <p:spPr>
          <a:xfrm>
            <a:off x="2286000" y="1935000"/>
            <a:ext cx="792000" cy="76068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5" name="Picture 19" descr="mc-Si solar cell"/>
          <p:cNvPicPr/>
          <p:nvPr/>
        </p:nvPicPr>
        <p:blipFill>
          <a:blip r:embed="rId4"/>
          <a:stretch/>
        </p:blipFill>
        <p:spPr>
          <a:xfrm>
            <a:off x="3884760" y="1143000"/>
            <a:ext cx="761760" cy="765000"/>
          </a:xfrm>
          <a:prstGeom prst="rect">
            <a:avLst/>
          </a:prstGeom>
          <a:ln w="0">
            <a:noFill/>
          </a:ln>
        </p:spPr>
      </p:pic>
      <p:sp>
        <p:nvSpPr>
          <p:cNvPr id="826" name="Text Box 21"/>
          <p:cNvSpPr/>
          <p:nvPr/>
        </p:nvSpPr>
        <p:spPr>
          <a:xfrm>
            <a:off x="428760" y="3714840"/>
            <a:ext cx="1357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OCI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KC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Korea Sili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22"/>
          <p:cNvSpPr/>
          <p:nvPr/>
        </p:nvSpPr>
        <p:spPr>
          <a:xfrm>
            <a:off x="2143080" y="3751200"/>
            <a:ext cx="150012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LG</a:t>
            </a:r>
            <a:r>
              <a:rPr b="1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iltr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Lex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mart Ace</a:t>
            </a:r>
            <a:r>
              <a:rPr b="1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Woongjin Energ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Glosi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Nexsol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Neo Semitech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Text Box 23"/>
          <p:cNvSpPr/>
          <p:nvPr/>
        </p:nvSpPr>
        <p:spPr>
          <a:xfrm>
            <a:off x="5286240" y="3714840"/>
            <a:ext cx="18576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KD Sol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Hyundai Heavy I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 Energ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ymphony Energ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olar Tech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LSI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9" name="Text Box 24"/>
          <p:cNvSpPr/>
          <p:nvPr/>
        </p:nvSpPr>
        <p:spPr>
          <a:xfrm>
            <a:off x="3571920" y="3714840"/>
            <a:ext cx="178596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KP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Hyundai Heavy I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Millinet Sol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TX</a:t>
            </a:r>
            <a:r>
              <a:rPr b="1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ol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KISCO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hinsung E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 Energ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LG electronic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0" name="Text Box 25"/>
          <p:cNvSpPr/>
          <p:nvPr/>
        </p:nvSpPr>
        <p:spPr>
          <a:xfrm>
            <a:off x="7130880" y="3714840"/>
            <a:ext cx="1727280" cy="30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KD Sol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Hyundai Heavy I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-Energ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ymphony Energ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olar Tech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LSI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LG CN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amsung C&amp;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AutoShape 205"/>
          <p:cNvSpPr/>
          <p:nvPr/>
        </p:nvSpPr>
        <p:spPr>
          <a:xfrm>
            <a:off x="285840" y="4786200"/>
            <a:ext cx="1785960" cy="1428840"/>
          </a:xfrm>
          <a:prstGeom prst="roundRect">
            <a:avLst>
              <a:gd name="adj" fmla="val 14972"/>
            </a:avLst>
          </a:prstGeom>
          <a:solidFill>
            <a:srgbClr val="dbebed"/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굴림"/>
              </a:rPr>
              <a:t>Joosung Engineering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IP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DM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SFA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17"/>
          <p:cNvSpPr/>
          <p:nvPr/>
        </p:nvSpPr>
        <p:spPr>
          <a:xfrm>
            <a:off x="415800" y="4762440"/>
            <a:ext cx="142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75e"/>
                </a:solidFill>
                <a:latin typeface="Arial Black"/>
                <a:ea typeface="MS PGothic"/>
              </a:rPr>
              <a:t>Manufacturing</a:t>
            </a:r>
            <a:br>
              <a:rPr sz="1400"/>
            </a:br>
            <a:r>
              <a:rPr b="0" lang="en-US" sz="1400" spc="-1" strike="noStrike">
                <a:solidFill>
                  <a:srgbClr val="17375e"/>
                </a:solidFill>
                <a:latin typeface="Arial Black"/>
                <a:ea typeface="MS PGothic"/>
              </a:rPr>
              <a:t> Equip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33" name="Picture 4" descr=""/>
          <p:cNvPicPr/>
          <p:nvPr/>
        </p:nvPicPr>
        <p:blipFill>
          <a:blip r:embed="rId5"/>
          <a:stretch/>
        </p:blipFill>
        <p:spPr>
          <a:xfrm>
            <a:off x="3714840" y="1935000"/>
            <a:ext cx="1008000" cy="7797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5" descr=""/>
          <p:cNvPicPr/>
          <p:nvPr/>
        </p:nvPicPr>
        <p:blipFill>
          <a:blip r:embed="rId6"/>
          <a:stretch/>
        </p:blipFill>
        <p:spPr>
          <a:xfrm>
            <a:off x="5286240" y="121428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간지-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8" name="그룹 37"/>
          <p:cNvGrpSpPr/>
          <p:nvPr/>
        </p:nvGrpSpPr>
        <p:grpSpPr>
          <a:xfrm>
            <a:off x="285840" y="4541400"/>
            <a:ext cx="7308720" cy="530640"/>
            <a:chOff x="285840" y="4541400"/>
            <a:chExt cx="7308720" cy="530640"/>
          </a:xfrm>
        </p:grpSpPr>
        <p:grpSp>
          <p:nvGrpSpPr>
            <p:cNvPr id="549" name="Group 56"/>
            <p:cNvGrpSpPr/>
            <p:nvPr/>
          </p:nvGrpSpPr>
          <p:grpSpPr>
            <a:xfrm>
              <a:off x="285840" y="4541400"/>
              <a:ext cx="7308720" cy="530640"/>
              <a:chOff x="285840" y="4541400"/>
              <a:chExt cx="7308720" cy="530640"/>
            </a:xfrm>
          </p:grpSpPr>
          <p:pic>
            <p:nvPicPr>
              <p:cNvPr id="550" name="Picture 57" descr="바"/>
              <p:cNvPicPr/>
              <p:nvPr/>
            </p:nvPicPr>
            <p:blipFill>
              <a:blip r:embed="rId2"/>
              <a:stretch/>
            </p:blipFill>
            <p:spPr>
              <a:xfrm>
                <a:off x="285840" y="4541760"/>
                <a:ext cx="7308720" cy="53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1" name="Picture 58" descr="바"/>
              <p:cNvPicPr/>
              <p:nvPr/>
            </p:nvPicPr>
            <p:blipFill>
              <a:blip r:embed="rId3"/>
              <a:stretch/>
            </p:blipFill>
            <p:spPr>
              <a:xfrm flipH="1" rot="10800000">
                <a:off x="285840" y="4541040"/>
                <a:ext cx="7308720" cy="53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52" name="Group 59"/>
              <p:cNvGrpSpPr/>
              <p:nvPr/>
            </p:nvGrpSpPr>
            <p:grpSpPr>
              <a:xfrm>
                <a:off x="285840" y="4541400"/>
                <a:ext cx="7308720" cy="530280"/>
                <a:chOff x="285840" y="4541400"/>
                <a:chExt cx="7308720" cy="530280"/>
              </a:xfrm>
            </p:grpSpPr>
            <p:pic>
              <p:nvPicPr>
                <p:cNvPr id="553" name="Picture 60" descr="바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285840" y="4542120"/>
                  <a:ext cx="7308720" cy="529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4" name="Picture 61" descr="바"/>
                <p:cNvPicPr/>
                <p:nvPr/>
              </p:nvPicPr>
              <p:blipFill>
                <a:blip r:embed="rId5"/>
                <a:stretch/>
              </p:blipFill>
              <p:spPr>
                <a:xfrm rot="10800000">
                  <a:off x="285840" y="4541040"/>
                  <a:ext cx="7308720" cy="52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55" name="Text Box 99"/>
            <p:cNvSpPr/>
            <p:nvPr/>
          </p:nvSpPr>
          <p:spPr>
            <a:xfrm>
              <a:off x="1638000" y="4555800"/>
              <a:ext cx="4649040" cy="489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c1c1d"/>
                  </a:solidFill>
                  <a:latin typeface="HY헤드라인M"/>
                  <a:ea typeface="HY헤드라인M"/>
                </a:rPr>
                <a:t>3. PV Deployment &amp; Industry</a:t>
              </a:r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56" name="그룹 36"/>
          <p:cNvGrpSpPr/>
          <p:nvPr/>
        </p:nvGrpSpPr>
        <p:grpSpPr>
          <a:xfrm>
            <a:off x="285840" y="3541320"/>
            <a:ext cx="7308720" cy="530640"/>
            <a:chOff x="285840" y="3541320"/>
            <a:chExt cx="7308720" cy="530640"/>
          </a:xfrm>
        </p:grpSpPr>
        <p:grpSp>
          <p:nvGrpSpPr>
            <p:cNvPr id="557" name="Group 50"/>
            <p:cNvGrpSpPr/>
            <p:nvPr/>
          </p:nvGrpSpPr>
          <p:grpSpPr>
            <a:xfrm>
              <a:off x="285840" y="3541320"/>
              <a:ext cx="7308720" cy="530640"/>
              <a:chOff x="285840" y="3541320"/>
              <a:chExt cx="7308720" cy="530640"/>
            </a:xfrm>
          </p:grpSpPr>
          <p:pic>
            <p:nvPicPr>
              <p:cNvPr id="558" name="Picture 51" descr="바"/>
              <p:cNvPicPr/>
              <p:nvPr/>
            </p:nvPicPr>
            <p:blipFill>
              <a:blip r:embed="rId6"/>
              <a:stretch/>
            </p:blipFill>
            <p:spPr>
              <a:xfrm>
                <a:off x="285840" y="3541680"/>
                <a:ext cx="7308720" cy="53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Picture 52" descr="바"/>
              <p:cNvPicPr/>
              <p:nvPr/>
            </p:nvPicPr>
            <p:blipFill>
              <a:blip r:embed="rId7"/>
              <a:stretch/>
            </p:blipFill>
            <p:spPr>
              <a:xfrm flipH="1" rot="10800000">
                <a:off x="285840" y="3540960"/>
                <a:ext cx="7308720" cy="53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0" name="Group 53"/>
              <p:cNvGrpSpPr/>
              <p:nvPr/>
            </p:nvGrpSpPr>
            <p:grpSpPr>
              <a:xfrm>
                <a:off x="285840" y="3541320"/>
                <a:ext cx="7308720" cy="530280"/>
                <a:chOff x="285840" y="3541320"/>
                <a:chExt cx="7308720" cy="530280"/>
              </a:xfrm>
            </p:grpSpPr>
            <p:pic>
              <p:nvPicPr>
                <p:cNvPr id="561" name="Picture 54" descr="바"/>
                <p:cNvPicPr/>
                <p:nvPr/>
              </p:nvPicPr>
              <p:blipFill>
                <a:blip r:embed="rId8"/>
                <a:stretch/>
              </p:blipFill>
              <p:spPr>
                <a:xfrm flipH="1">
                  <a:off x="285840" y="3542040"/>
                  <a:ext cx="7308720" cy="529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Picture 55" descr="바"/>
                <p:cNvPicPr/>
                <p:nvPr/>
              </p:nvPicPr>
              <p:blipFill>
                <a:blip r:embed="rId9"/>
                <a:stretch/>
              </p:blipFill>
              <p:spPr>
                <a:xfrm rot="10800000">
                  <a:off x="285840" y="3540960"/>
                  <a:ext cx="7308720" cy="52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63" name="Text Box 104"/>
            <p:cNvSpPr/>
            <p:nvPr/>
          </p:nvSpPr>
          <p:spPr>
            <a:xfrm>
              <a:off x="1632600" y="3579480"/>
              <a:ext cx="3172320" cy="489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c1c1d"/>
                  </a:solidFill>
                  <a:latin typeface="HY헤드라인M"/>
                  <a:ea typeface="HY헤드라인M"/>
                </a:rPr>
                <a:t>2. PV R&amp;D Program</a:t>
              </a:r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64" name="Text Box 3" descr=""/>
          <p:cNvPicPr/>
          <p:nvPr/>
        </p:nvPicPr>
        <p:blipFill>
          <a:blip r:embed="rId10"/>
          <a:stretch/>
        </p:blipFill>
        <p:spPr>
          <a:xfrm>
            <a:off x="231840" y="450720"/>
            <a:ext cx="5467320" cy="1878120"/>
          </a:xfrm>
          <a:prstGeom prst="rect">
            <a:avLst/>
          </a:prstGeom>
          <a:ln w="0">
            <a:noFill/>
          </a:ln>
        </p:spPr>
      </p:pic>
      <p:grpSp>
        <p:nvGrpSpPr>
          <p:cNvPr id="565" name="그룹 35"/>
          <p:cNvGrpSpPr/>
          <p:nvPr/>
        </p:nvGrpSpPr>
        <p:grpSpPr>
          <a:xfrm>
            <a:off x="285840" y="2571480"/>
            <a:ext cx="7308720" cy="530640"/>
            <a:chOff x="285840" y="2571480"/>
            <a:chExt cx="7308720" cy="530640"/>
          </a:xfrm>
        </p:grpSpPr>
        <p:grpSp>
          <p:nvGrpSpPr>
            <p:cNvPr id="566" name="Group 49"/>
            <p:cNvGrpSpPr/>
            <p:nvPr/>
          </p:nvGrpSpPr>
          <p:grpSpPr>
            <a:xfrm>
              <a:off x="285840" y="2571480"/>
              <a:ext cx="7308720" cy="530640"/>
              <a:chOff x="285840" y="2571480"/>
              <a:chExt cx="7308720" cy="530640"/>
            </a:xfrm>
          </p:grpSpPr>
          <p:pic>
            <p:nvPicPr>
              <p:cNvPr id="567" name="Picture 34" descr="바"/>
              <p:cNvPicPr/>
              <p:nvPr/>
            </p:nvPicPr>
            <p:blipFill>
              <a:blip r:embed="rId11"/>
              <a:stretch/>
            </p:blipFill>
            <p:spPr>
              <a:xfrm>
                <a:off x="285840" y="2571840"/>
                <a:ext cx="7308720" cy="53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8" name="Picture 35" descr="바"/>
              <p:cNvPicPr/>
              <p:nvPr/>
            </p:nvPicPr>
            <p:blipFill>
              <a:blip r:embed="rId12"/>
              <a:stretch/>
            </p:blipFill>
            <p:spPr>
              <a:xfrm flipH="1" rot="10800000">
                <a:off x="285840" y="2571120"/>
                <a:ext cx="7308720" cy="53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9" name="Group 45"/>
              <p:cNvGrpSpPr/>
              <p:nvPr/>
            </p:nvGrpSpPr>
            <p:grpSpPr>
              <a:xfrm>
                <a:off x="285840" y="2571480"/>
                <a:ext cx="7308720" cy="530280"/>
                <a:chOff x="285840" y="2571480"/>
                <a:chExt cx="7308720" cy="530280"/>
              </a:xfrm>
            </p:grpSpPr>
            <p:pic>
              <p:nvPicPr>
                <p:cNvPr id="570" name="Picture 46" descr="바"/>
                <p:cNvPicPr/>
                <p:nvPr/>
              </p:nvPicPr>
              <p:blipFill>
                <a:blip r:embed="rId13"/>
                <a:stretch/>
              </p:blipFill>
              <p:spPr>
                <a:xfrm flipH="1">
                  <a:off x="285840" y="2572200"/>
                  <a:ext cx="7308720" cy="529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Picture 47" descr="바"/>
                <p:cNvPicPr/>
                <p:nvPr/>
              </p:nvPicPr>
              <p:blipFill>
                <a:blip r:embed="rId14"/>
                <a:stretch/>
              </p:blipFill>
              <p:spPr>
                <a:xfrm rot="10800000">
                  <a:off x="285840" y="2571120"/>
                  <a:ext cx="7308720" cy="52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72" name="Text Box 94"/>
            <p:cNvSpPr/>
            <p:nvPr/>
          </p:nvSpPr>
          <p:spPr>
            <a:xfrm>
              <a:off x="1636560" y="2581200"/>
              <a:ext cx="3931200" cy="489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c1c1d"/>
                  </a:solidFill>
                  <a:latin typeface="HY헤드라인M"/>
                  <a:ea typeface="HY헤드라인M"/>
                </a:rPr>
                <a:t>1. Introduction of KETEP</a:t>
              </a:r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Box 10"/>
          <p:cNvSpPr/>
          <p:nvPr/>
        </p:nvSpPr>
        <p:spPr>
          <a:xfrm>
            <a:off x="214920" y="500040"/>
            <a:ext cx="27104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Installation Case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36" name="Picture 2" descr="신안2"/>
          <p:cNvPicPr/>
          <p:nvPr/>
        </p:nvPicPr>
        <p:blipFill>
          <a:blip r:embed="rId1"/>
          <a:stretch/>
        </p:blipFill>
        <p:spPr>
          <a:xfrm>
            <a:off x="571680" y="1098720"/>
            <a:ext cx="8001000" cy="5187960"/>
          </a:xfrm>
          <a:prstGeom prst="rect">
            <a:avLst/>
          </a:prstGeom>
          <a:ln w="0">
            <a:noFill/>
          </a:ln>
        </p:spPr>
      </p:pic>
      <p:sp>
        <p:nvSpPr>
          <p:cNvPr id="837" name="Text Box 3"/>
          <p:cNvSpPr/>
          <p:nvPr/>
        </p:nvSpPr>
        <p:spPr>
          <a:xfrm>
            <a:off x="716040" y="1281240"/>
            <a:ext cx="4856040" cy="18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66760" indent="-266760">
              <a:lnSpc>
                <a:spcPct val="120000"/>
              </a:lnSpc>
              <a:spcBef>
                <a:spcPts val="112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Location : Sinan, Jeollanamd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66760" indent="-266760">
              <a:lnSpc>
                <a:spcPct val="120000"/>
              </a:lnSpc>
              <a:spcBef>
                <a:spcPts val="112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Power : 24M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66760" indent="-266760">
              <a:lnSpc>
                <a:spcPct val="120000"/>
              </a:lnSpc>
              <a:spcBef>
                <a:spcPts val="112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Area : 670,000</a:t>
            </a:r>
            <a:r>
              <a:rPr b="1" lang="en-US" sz="18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66760" indent="-266760">
              <a:lnSpc>
                <a:spcPct val="120000"/>
              </a:lnSpc>
              <a:spcBef>
                <a:spcPts val="112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Application type : Power pla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Box 10"/>
          <p:cNvSpPr/>
          <p:nvPr/>
        </p:nvSpPr>
        <p:spPr>
          <a:xfrm>
            <a:off x="214920" y="500040"/>
            <a:ext cx="27104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Installation Case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9" name="Group 2"/>
          <p:cNvGrpSpPr/>
          <p:nvPr/>
        </p:nvGrpSpPr>
        <p:grpSpPr>
          <a:xfrm>
            <a:off x="571680" y="1071720"/>
            <a:ext cx="8001000" cy="5214960"/>
            <a:chOff x="571680" y="1071720"/>
            <a:chExt cx="8001000" cy="5214960"/>
          </a:xfrm>
        </p:grpSpPr>
        <p:pic>
          <p:nvPicPr>
            <p:cNvPr id="840" name="Picture 3" descr="전체"/>
            <p:cNvPicPr/>
            <p:nvPr/>
          </p:nvPicPr>
          <p:blipFill>
            <a:blip r:embed="rId1"/>
            <a:stretch/>
          </p:blipFill>
          <p:spPr>
            <a:xfrm>
              <a:off x="571680" y="1071720"/>
              <a:ext cx="8001000" cy="5214960"/>
            </a:xfrm>
            <a:prstGeom prst="rect">
              <a:avLst/>
            </a:prstGeom>
            <a:ln w="9360">
              <a:solidFill>
                <a:srgbClr val="800080"/>
              </a:solidFill>
              <a:miter/>
            </a:ln>
          </p:spPr>
        </p:pic>
        <p:pic>
          <p:nvPicPr>
            <p:cNvPr id="841" name="Picture 4" descr="정면"/>
            <p:cNvPicPr/>
            <p:nvPr/>
          </p:nvPicPr>
          <p:blipFill>
            <a:blip r:embed="rId2"/>
            <a:stretch/>
          </p:blipFill>
          <p:spPr>
            <a:xfrm>
              <a:off x="5272200" y="3694320"/>
              <a:ext cx="2844720" cy="239832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</p:grpSp>
      <p:sp>
        <p:nvSpPr>
          <p:cNvPr id="842" name="모서리가 둥근 직사각형 6"/>
          <p:cNvSpPr/>
          <p:nvPr/>
        </p:nvSpPr>
        <p:spPr>
          <a:xfrm>
            <a:off x="571680" y="1143000"/>
            <a:ext cx="4000320" cy="1571760"/>
          </a:xfrm>
          <a:prstGeom prst="roundRect">
            <a:avLst>
              <a:gd name="adj" fmla="val 16667"/>
            </a:avLst>
          </a:prstGeom>
          <a:solidFill>
            <a:srgbClr val="dce6f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3" name="Text Box 5"/>
          <p:cNvSpPr/>
          <p:nvPr/>
        </p:nvSpPr>
        <p:spPr>
          <a:xfrm>
            <a:off x="644400" y="1214280"/>
            <a:ext cx="38563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66760" indent="-266760">
              <a:lnSpc>
                <a:spcPct val="120000"/>
              </a:lnSpc>
              <a:spcBef>
                <a:spcPts val="112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Location : Daeje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66760" indent="-266760">
              <a:lnSpc>
                <a:spcPct val="120000"/>
              </a:lnSpc>
              <a:spcBef>
                <a:spcPts val="112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Power : 12k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66760" indent="-266760">
              <a:lnSpc>
                <a:spcPct val="120000"/>
              </a:lnSpc>
              <a:spcBef>
                <a:spcPts val="112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Application type : BIPV (Façad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직사각형 2" descr=""/>
          <p:cNvPicPr/>
          <p:nvPr/>
        </p:nvPicPr>
        <p:blipFill>
          <a:blip r:embed="rId1"/>
          <a:stretch/>
        </p:blipFill>
        <p:spPr>
          <a:xfrm>
            <a:off x="1792440" y="2432160"/>
            <a:ext cx="58402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그림 7" descr="111.png"/>
          <p:cNvPicPr/>
          <p:nvPr/>
        </p:nvPicPr>
        <p:blipFill>
          <a:blip r:embed="rId1"/>
          <a:stretch/>
        </p:blipFill>
        <p:spPr>
          <a:xfrm>
            <a:off x="214200" y="3643200"/>
            <a:ext cx="2003400" cy="3286080"/>
          </a:xfrm>
          <a:prstGeom prst="rect">
            <a:avLst/>
          </a:prstGeom>
          <a:ln w="0">
            <a:noFill/>
          </a:ln>
        </p:spPr>
      </p:pic>
      <p:pic>
        <p:nvPicPr>
          <p:cNvPr id="574" name="그림 9" descr="con-bar.png"/>
          <p:cNvPicPr/>
          <p:nvPr/>
        </p:nvPicPr>
        <p:blipFill>
          <a:blip r:embed="rId2"/>
          <a:stretch/>
        </p:blipFill>
        <p:spPr>
          <a:xfrm>
            <a:off x="2604960" y="3286080"/>
            <a:ext cx="6500880" cy="1000080"/>
          </a:xfrm>
          <a:prstGeom prst="rect">
            <a:avLst/>
          </a:prstGeom>
          <a:ln w="0">
            <a:noFill/>
          </a:ln>
        </p:spPr>
      </p:pic>
      <p:sp>
        <p:nvSpPr>
          <p:cNvPr id="575" name="TextBox 10"/>
          <p:cNvSpPr/>
          <p:nvPr/>
        </p:nvSpPr>
        <p:spPr>
          <a:xfrm>
            <a:off x="4925880" y="3533760"/>
            <a:ext cx="38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ntroduction of KETEP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6" name="TextBox 11"/>
          <p:cNvSpPr/>
          <p:nvPr/>
        </p:nvSpPr>
        <p:spPr>
          <a:xfrm>
            <a:off x="3508200" y="3497400"/>
            <a:ext cx="3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25"/>
          <p:cNvSpPr/>
          <p:nvPr/>
        </p:nvSpPr>
        <p:spPr>
          <a:xfrm>
            <a:off x="285840" y="500040"/>
            <a:ext cx="85010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National Energy R&amp;D Planning &amp; Management</a:t>
            </a:r>
            <a:r>
              <a:rPr b="0" lang="ko-KR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8" name="Picture 120" descr="k-346-"/>
          <p:cNvPicPr/>
          <p:nvPr/>
        </p:nvPicPr>
        <p:blipFill>
          <a:blip r:embed="rId1"/>
          <a:stretch/>
        </p:blipFill>
        <p:spPr>
          <a:xfrm>
            <a:off x="3914640" y="1628640"/>
            <a:ext cx="879480" cy="33116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" descr="D:\개인자료실\바_아이콘_버튼\박스\na_x47.png"/>
          <p:cNvPicPr/>
          <p:nvPr/>
        </p:nvPicPr>
        <p:blipFill>
          <a:blip r:embed="rId2"/>
          <a:stretch/>
        </p:blipFill>
        <p:spPr>
          <a:xfrm>
            <a:off x="4770360" y="1052640"/>
            <a:ext cx="4254480" cy="42526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3" descr="D:\개인자료실\바_아이콘_버튼\박스\na_x48.png"/>
          <p:cNvPicPr/>
          <p:nvPr/>
        </p:nvPicPr>
        <p:blipFill>
          <a:blip r:embed="rId3"/>
          <a:stretch/>
        </p:blipFill>
        <p:spPr>
          <a:xfrm>
            <a:off x="285840" y="1052640"/>
            <a:ext cx="4254480" cy="4252680"/>
          </a:xfrm>
          <a:prstGeom prst="rect">
            <a:avLst/>
          </a:prstGeom>
          <a:ln w="0">
            <a:noFill/>
          </a:ln>
        </p:spPr>
      </p:pic>
      <p:sp>
        <p:nvSpPr>
          <p:cNvPr id="581" name="직사각형 9"/>
          <p:cNvSpPr/>
          <p:nvPr/>
        </p:nvSpPr>
        <p:spPr>
          <a:xfrm>
            <a:off x="287280" y="5726160"/>
            <a:ext cx="70009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Strategic planning of total energy technology R&amp;D of Kore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81080" indent="-1810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Systematic Evaluation and Management Process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2" name="직사각형 75"/>
          <p:cNvSpPr/>
          <p:nvPr/>
        </p:nvSpPr>
        <p:spPr>
          <a:xfrm>
            <a:off x="406440" y="2981160"/>
            <a:ext cx="3952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맑은 고딕"/>
              </a:rPr>
              <a:t>Korea Institute of Energy and Resources Technology Evaluation and Planning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3" name="TextBox 13"/>
          <p:cNvSpPr/>
          <p:nvPr/>
        </p:nvSpPr>
        <p:spPr>
          <a:xfrm>
            <a:off x="1811880" y="1162080"/>
            <a:ext cx="93204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맑은 고딕"/>
              </a:rPr>
              <a:t>Pas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84" name="Picture 78" descr="g_x16"/>
          <p:cNvPicPr/>
          <p:nvPr/>
        </p:nvPicPr>
        <p:blipFill>
          <a:blip r:embed="rId4"/>
          <a:stretch/>
        </p:blipFill>
        <p:spPr>
          <a:xfrm>
            <a:off x="311040" y="1681200"/>
            <a:ext cx="1427400" cy="1409760"/>
          </a:xfrm>
          <a:prstGeom prst="rect">
            <a:avLst/>
          </a:prstGeom>
          <a:ln w="0">
            <a:noFill/>
          </a:ln>
        </p:spPr>
      </p:pic>
      <p:sp>
        <p:nvSpPr>
          <p:cNvPr id="585" name="직사각형 15"/>
          <p:cNvSpPr/>
          <p:nvPr/>
        </p:nvSpPr>
        <p:spPr>
          <a:xfrm>
            <a:off x="490680" y="1940040"/>
            <a:ext cx="1098360" cy="78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Arial"/>
                <a:ea typeface="HY견고딕"/>
              </a:rPr>
              <a:t>Energy</a:t>
            </a:r>
            <a:br>
              <a:rPr sz="1300"/>
            </a:br>
            <a:r>
              <a:rPr b="1" lang="en-US" sz="1300" spc="-1" strike="noStrike">
                <a:solidFill>
                  <a:srgbClr val="003366"/>
                </a:solidFill>
                <a:latin typeface="Arial"/>
                <a:ea typeface="HY견고딕"/>
              </a:rPr>
              <a:t>Efficiency &amp;</a:t>
            </a:r>
            <a:br>
              <a:rPr sz="1300"/>
            </a:br>
            <a:r>
              <a:rPr b="1" lang="en-US" sz="1300" spc="-1" strike="noStrike">
                <a:solidFill>
                  <a:srgbClr val="003366"/>
                </a:solidFill>
                <a:latin typeface="Arial"/>
                <a:ea typeface="HY견고딕"/>
              </a:rPr>
              <a:t>Resources</a:t>
            </a:r>
            <a:br>
              <a:rPr sz="1300"/>
            </a:br>
            <a:r>
              <a:rPr b="1" lang="en-US" sz="1300" spc="-1" strike="noStrike">
                <a:solidFill>
                  <a:srgbClr val="003366"/>
                </a:solidFill>
                <a:latin typeface="Arial"/>
                <a:ea typeface="HY견고딕"/>
              </a:rPr>
              <a:t>R&amp;D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86" name="Picture 77" descr="g_x15"/>
          <p:cNvPicPr/>
          <p:nvPr/>
        </p:nvPicPr>
        <p:blipFill>
          <a:blip r:embed="rId5"/>
          <a:stretch/>
        </p:blipFill>
        <p:spPr>
          <a:xfrm>
            <a:off x="1681200" y="1798560"/>
            <a:ext cx="1431720" cy="1265400"/>
          </a:xfrm>
          <a:prstGeom prst="rect">
            <a:avLst/>
          </a:prstGeom>
          <a:ln w="0">
            <a:noFill/>
          </a:ln>
        </p:spPr>
      </p:pic>
      <p:sp>
        <p:nvSpPr>
          <p:cNvPr id="587" name="직사각형 17"/>
          <p:cNvSpPr/>
          <p:nvPr/>
        </p:nvSpPr>
        <p:spPr>
          <a:xfrm>
            <a:off x="1819440" y="1930320"/>
            <a:ext cx="1143000" cy="78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3300"/>
                </a:solidFill>
                <a:latin typeface="Arial"/>
                <a:ea typeface="HY견고딕"/>
              </a:rPr>
              <a:t>Power</a:t>
            </a:r>
            <a:br>
              <a:rPr sz="1300"/>
            </a:br>
            <a:r>
              <a:rPr b="1" lang="en-US" sz="1300" spc="-1" strike="noStrike">
                <a:solidFill>
                  <a:srgbClr val="663300"/>
                </a:solidFill>
                <a:latin typeface="Arial"/>
                <a:ea typeface="HY견고딕"/>
              </a:rPr>
              <a:t>Generation,</a:t>
            </a:r>
            <a:br>
              <a:rPr sz="1300"/>
            </a:br>
            <a:r>
              <a:rPr b="1" lang="en-US" sz="1300" spc="-1" strike="noStrike">
                <a:solidFill>
                  <a:srgbClr val="663300"/>
                </a:solidFill>
                <a:latin typeface="Arial"/>
                <a:ea typeface="HY견고딕"/>
              </a:rPr>
              <a:t>Nuclear</a:t>
            </a:r>
            <a:br>
              <a:rPr sz="1300"/>
            </a:br>
            <a:r>
              <a:rPr b="1" lang="en-US" sz="1300" spc="-1" strike="noStrike">
                <a:solidFill>
                  <a:srgbClr val="663300"/>
                </a:solidFill>
                <a:latin typeface="Arial"/>
                <a:ea typeface="HY견고딕"/>
              </a:rPr>
              <a:t>Power R&amp;D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8" name="Group 83"/>
          <p:cNvGrpSpPr/>
          <p:nvPr/>
        </p:nvGrpSpPr>
        <p:grpSpPr>
          <a:xfrm>
            <a:off x="2932200" y="1733400"/>
            <a:ext cx="1468440" cy="1251000"/>
            <a:chOff x="2932200" y="1733400"/>
            <a:chExt cx="1468440" cy="1251000"/>
          </a:xfrm>
        </p:grpSpPr>
        <p:pic>
          <p:nvPicPr>
            <p:cNvPr id="589" name="Picture 76" descr="g_x13"/>
            <p:cNvPicPr/>
            <p:nvPr/>
          </p:nvPicPr>
          <p:blipFill>
            <a:blip r:embed="rId6"/>
            <a:stretch/>
          </p:blipFill>
          <p:spPr>
            <a:xfrm>
              <a:off x="2932200" y="1733400"/>
              <a:ext cx="14684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직사각형 20"/>
            <p:cNvSpPr/>
            <p:nvPr/>
          </p:nvSpPr>
          <p:spPr>
            <a:xfrm>
              <a:off x="3125880" y="1903320"/>
              <a:ext cx="1117800" cy="796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00"/>
                  </a:solidFill>
                  <a:latin typeface="Arial"/>
                  <a:ea typeface="HY견고딕"/>
                </a:rPr>
                <a:t>New and Renewable Energy R&amp;D</a:t>
              </a:r>
              <a:endParaRPr b="0" lang="en-US" sz="13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91" name="AutoShape 84"/>
          <p:cNvSpPr/>
          <p:nvPr/>
        </p:nvSpPr>
        <p:spPr>
          <a:xfrm>
            <a:off x="982800" y="3606840"/>
            <a:ext cx="230040" cy="287280"/>
          </a:xfrm>
          <a:prstGeom prst="upDownArrow">
            <a:avLst>
              <a:gd name="adj1" fmla="val 62083"/>
              <a:gd name="adj2" fmla="val 42813"/>
            </a:avLst>
          </a:prstGeom>
          <a:gradFill rotWithShape="0">
            <a:gsLst>
              <a:gs pos="0">
                <a:srgbClr val="0099cc"/>
              </a:gs>
              <a:gs pos="50000">
                <a:srgbClr val="00ffff"/>
              </a:gs>
              <a:gs pos="100000">
                <a:srgbClr val="0099cc"/>
              </a:gs>
            </a:gsLst>
            <a:lin ang="540000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2" name="Picture 85" descr="g_x21"/>
          <p:cNvPicPr/>
          <p:nvPr/>
        </p:nvPicPr>
        <p:blipFill>
          <a:blip r:embed="rId7"/>
          <a:stretch/>
        </p:blipFill>
        <p:spPr>
          <a:xfrm>
            <a:off x="3052800" y="3986280"/>
            <a:ext cx="1368360" cy="9874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86" descr="g_x22"/>
          <p:cNvPicPr/>
          <p:nvPr/>
        </p:nvPicPr>
        <p:blipFill>
          <a:blip r:embed="rId8"/>
          <a:stretch/>
        </p:blipFill>
        <p:spPr>
          <a:xfrm>
            <a:off x="422280" y="3986280"/>
            <a:ext cx="1368360" cy="9874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7" descr="g_x24"/>
          <p:cNvPicPr/>
          <p:nvPr/>
        </p:nvPicPr>
        <p:blipFill>
          <a:blip r:embed="rId9"/>
          <a:stretch/>
        </p:blipFill>
        <p:spPr>
          <a:xfrm>
            <a:off x="1738440" y="3986280"/>
            <a:ext cx="1368360" cy="987480"/>
          </a:xfrm>
          <a:prstGeom prst="rect">
            <a:avLst/>
          </a:prstGeom>
          <a:ln w="0">
            <a:noFill/>
          </a:ln>
        </p:spPr>
      </p:pic>
      <p:sp>
        <p:nvSpPr>
          <p:cNvPr id="595" name="AutoShape 88"/>
          <p:cNvSpPr/>
          <p:nvPr/>
        </p:nvSpPr>
        <p:spPr>
          <a:xfrm>
            <a:off x="2268360" y="3606840"/>
            <a:ext cx="230400" cy="287280"/>
          </a:xfrm>
          <a:prstGeom prst="upDownArrow">
            <a:avLst>
              <a:gd name="adj1" fmla="val 62083"/>
              <a:gd name="adj2" fmla="val 42745"/>
            </a:avLst>
          </a:prstGeom>
          <a:gradFill rotWithShape="0">
            <a:gsLst>
              <a:gs pos="0">
                <a:srgbClr val="ff9900"/>
              </a:gs>
              <a:gs pos="50000">
                <a:srgbClr val="ffff00"/>
              </a:gs>
              <a:gs pos="100000">
                <a:srgbClr val="ff9900"/>
              </a:gs>
            </a:gsLst>
            <a:lin ang="540000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AutoShape 89"/>
          <p:cNvSpPr/>
          <p:nvPr/>
        </p:nvSpPr>
        <p:spPr>
          <a:xfrm>
            <a:off x="3583080" y="3606840"/>
            <a:ext cx="230040" cy="287280"/>
          </a:xfrm>
          <a:prstGeom prst="upDownArrow">
            <a:avLst>
              <a:gd name="adj1" fmla="val 62083"/>
              <a:gd name="adj2" fmla="val 42813"/>
            </a:avLst>
          </a:prstGeom>
          <a:gradFill rotWithShape="0">
            <a:gsLst>
              <a:gs pos="0">
                <a:srgbClr val="33cc33"/>
              </a:gs>
              <a:gs pos="50000">
                <a:srgbClr val="99ff66"/>
              </a:gs>
              <a:gs pos="100000">
                <a:srgbClr val="33cc33"/>
              </a:gs>
            </a:gsLst>
            <a:lin ang="540000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TextBox 82"/>
          <p:cNvSpPr/>
          <p:nvPr/>
        </p:nvSpPr>
        <p:spPr>
          <a:xfrm>
            <a:off x="547560" y="4138560"/>
            <a:ext cx="9939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맑은 고딕"/>
              </a:rPr>
              <a:t>KEMCO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TextBox 83"/>
          <p:cNvSpPr/>
          <p:nvPr/>
        </p:nvSpPr>
        <p:spPr>
          <a:xfrm>
            <a:off x="1905120" y="4138560"/>
            <a:ext cx="928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  <a:ea typeface="맑은 고딕"/>
              </a:rPr>
              <a:t>KEPCO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TextBox 85"/>
          <p:cNvSpPr/>
          <p:nvPr/>
        </p:nvSpPr>
        <p:spPr>
          <a:xfrm>
            <a:off x="3294000" y="4138560"/>
            <a:ext cx="78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  <a:ea typeface="맑은 고딕"/>
              </a:rPr>
              <a:t>NREC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TextBox 68"/>
          <p:cNvSpPr/>
          <p:nvPr/>
        </p:nvSpPr>
        <p:spPr>
          <a:xfrm>
            <a:off x="6149160" y="1171440"/>
            <a:ext cx="148536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맑은 고딕"/>
              </a:rPr>
              <a:t>Presen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1" name="Picture 96" descr="su_31"/>
          <p:cNvPicPr/>
          <p:nvPr/>
        </p:nvPicPr>
        <p:blipFill>
          <a:blip r:embed="rId10"/>
          <a:stretch/>
        </p:blipFill>
        <p:spPr>
          <a:xfrm>
            <a:off x="6913440" y="1643040"/>
            <a:ext cx="1889280" cy="19162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97" descr="su_30"/>
          <p:cNvPicPr/>
          <p:nvPr/>
        </p:nvPicPr>
        <p:blipFill>
          <a:blip r:embed="rId11"/>
          <a:stretch/>
        </p:blipFill>
        <p:spPr>
          <a:xfrm>
            <a:off x="4929120" y="1646280"/>
            <a:ext cx="1843200" cy="191304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99"/>
          <p:cNvSpPr/>
          <p:nvPr/>
        </p:nvSpPr>
        <p:spPr>
          <a:xfrm>
            <a:off x="4965840" y="2432160"/>
            <a:ext cx="1180800" cy="1085760"/>
          </a:xfrm>
          <a:prstGeom prst="roundRect">
            <a:avLst>
              <a:gd name="adj" fmla="val 4384"/>
            </a:avLst>
          </a:prstGeom>
          <a:gradFill rotWithShape="0">
            <a:gsLst>
              <a:gs pos="0">
                <a:srgbClr val="dcdcdc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AutoShape 100"/>
          <p:cNvSpPr/>
          <p:nvPr/>
        </p:nvSpPr>
        <p:spPr>
          <a:xfrm>
            <a:off x="7586640" y="2432160"/>
            <a:ext cx="1181160" cy="1085760"/>
          </a:xfrm>
          <a:prstGeom prst="roundRect">
            <a:avLst>
              <a:gd name="adj" fmla="val 4384"/>
            </a:avLst>
          </a:prstGeom>
          <a:gradFill rotWithShape="0">
            <a:gsLst>
              <a:gs pos="0">
                <a:srgbClr val="dcdcdc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AutoShape 102"/>
          <p:cNvSpPr/>
          <p:nvPr/>
        </p:nvSpPr>
        <p:spPr>
          <a:xfrm>
            <a:off x="4975200" y="2449440"/>
            <a:ext cx="1152720" cy="223920"/>
          </a:xfrm>
          <a:prstGeom prst="roundRect">
            <a:avLst>
              <a:gd name="adj" fmla="val 21278"/>
            </a:avLst>
          </a:prstGeom>
          <a:gradFill rotWithShape="0">
            <a:gsLst>
              <a:gs pos="0">
                <a:srgbClr val="ffffff"/>
              </a:gs>
              <a:gs pos="100000">
                <a:srgbClr val="dcdcdc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AutoShape 104"/>
          <p:cNvSpPr/>
          <p:nvPr/>
        </p:nvSpPr>
        <p:spPr>
          <a:xfrm>
            <a:off x="7596360" y="2449440"/>
            <a:ext cx="1150920" cy="223920"/>
          </a:xfrm>
          <a:prstGeom prst="roundRect">
            <a:avLst>
              <a:gd name="adj" fmla="val 21278"/>
            </a:avLst>
          </a:prstGeom>
          <a:gradFill rotWithShape="0">
            <a:gsLst>
              <a:gs pos="0">
                <a:srgbClr val="ffffff"/>
              </a:gs>
              <a:gs pos="100000">
                <a:srgbClr val="dcdcdc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직사각형 98"/>
          <p:cNvSpPr/>
          <p:nvPr/>
        </p:nvSpPr>
        <p:spPr>
          <a:xfrm>
            <a:off x="4781520" y="2392200"/>
            <a:ext cx="15526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Arial"/>
                <a:ea typeface="맑은 고딕"/>
              </a:rPr>
              <a:t>Energy</a:t>
            </a:r>
            <a:br>
              <a:rPr sz="1300"/>
            </a:br>
            <a:r>
              <a:rPr b="1" lang="en-US" sz="1300" spc="-1" strike="noStrike">
                <a:solidFill>
                  <a:srgbClr val="003366"/>
                </a:solidFill>
                <a:latin typeface="Arial"/>
                <a:ea typeface="맑은 고딕"/>
              </a:rPr>
              <a:t>Efficiency,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Arial"/>
                <a:ea typeface="맑은 고딕"/>
              </a:rPr>
              <a:t>CCS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Arial"/>
                <a:ea typeface="맑은 고딕"/>
              </a:rPr>
              <a:t>Resources,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Arial"/>
                <a:ea typeface="맑은 고딕"/>
              </a:rPr>
              <a:t>Resources</a:t>
            </a:r>
            <a:br>
              <a:rPr sz="1300"/>
            </a:br>
            <a:r>
              <a:rPr b="1" lang="en-US" sz="1300" spc="-1" strike="noStrike">
                <a:solidFill>
                  <a:srgbClr val="003366"/>
                </a:solidFill>
                <a:latin typeface="Arial"/>
                <a:ea typeface="맑은 고딕"/>
              </a:rPr>
              <a:t>Recovery R&amp;D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08" name="Group 116"/>
          <p:cNvGrpSpPr/>
          <p:nvPr/>
        </p:nvGrpSpPr>
        <p:grpSpPr>
          <a:xfrm>
            <a:off x="6191280" y="1862280"/>
            <a:ext cx="1371600" cy="1815480"/>
            <a:chOff x="6191280" y="1862280"/>
            <a:chExt cx="1371600" cy="1815480"/>
          </a:xfrm>
        </p:grpSpPr>
        <p:grpSp>
          <p:nvGrpSpPr>
            <p:cNvPr id="609" name="Group 115"/>
            <p:cNvGrpSpPr/>
            <p:nvPr/>
          </p:nvGrpSpPr>
          <p:grpSpPr>
            <a:xfrm>
              <a:off x="6227640" y="1862280"/>
              <a:ext cx="1304640" cy="1815480"/>
              <a:chOff x="6227640" y="1862280"/>
              <a:chExt cx="1304640" cy="1815480"/>
            </a:xfrm>
          </p:grpSpPr>
          <p:pic>
            <p:nvPicPr>
              <p:cNvPr id="610" name="Picture 95" descr="su_32"/>
              <p:cNvPicPr/>
              <p:nvPr/>
            </p:nvPicPr>
            <p:blipFill>
              <a:blip r:embed="rId12"/>
              <a:stretch/>
            </p:blipFill>
            <p:spPr>
              <a:xfrm>
                <a:off x="6227640" y="1862280"/>
                <a:ext cx="1304640" cy="181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AutoShape 101"/>
              <p:cNvSpPr/>
              <p:nvPr/>
            </p:nvSpPr>
            <p:spPr>
              <a:xfrm>
                <a:off x="6258600" y="2514240"/>
                <a:ext cx="1221120" cy="1121040"/>
              </a:xfrm>
              <a:prstGeom prst="roundRect">
                <a:avLst>
                  <a:gd name="adj" fmla="val 4384"/>
                </a:avLst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2" name="AutoShape 103"/>
              <p:cNvSpPr/>
              <p:nvPr/>
            </p:nvSpPr>
            <p:spPr>
              <a:xfrm>
                <a:off x="6258600" y="2532600"/>
                <a:ext cx="1191240" cy="231120"/>
              </a:xfrm>
              <a:prstGeom prst="roundRect">
                <a:avLst>
                  <a:gd name="adj" fmla="val 2127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cdcd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13" name="직사각형 99"/>
            <p:cNvSpPr/>
            <p:nvPr/>
          </p:nvSpPr>
          <p:spPr>
            <a:xfrm>
              <a:off x="6191280" y="2698560"/>
              <a:ext cx="137160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00"/>
                  </a:solidFill>
                  <a:latin typeface="Arial"/>
                  <a:ea typeface="맑은 고딕"/>
                </a:rPr>
                <a:t>Nuclear Power,</a:t>
              </a:r>
              <a:br>
                <a:rPr sz="1300"/>
              </a:br>
              <a:r>
                <a:rPr b="1" lang="en-US" sz="1300" spc="-1" strike="noStrike">
                  <a:solidFill>
                    <a:srgbClr val="003300"/>
                  </a:solidFill>
                  <a:latin typeface="Arial"/>
                  <a:ea typeface="맑은 고딕"/>
                </a:rPr>
                <a:t>Nuclear Waste</a:t>
              </a:r>
              <a:br>
                <a:rPr sz="1300"/>
              </a:br>
              <a:r>
                <a:rPr b="1" lang="en-US" sz="1300" spc="-1" strike="noStrike">
                  <a:solidFill>
                    <a:srgbClr val="003300"/>
                  </a:solidFill>
                  <a:latin typeface="Arial"/>
                  <a:ea typeface="맑은 고딕"/>
                </a:rPr>
                <a:t>Management</a:t>
              </a:r>
              <a:br>
                <a:rPr sz="1300"/>
              </a:br>
              <a:r>
                <a:rPr b="1" lang="en-US" sz="1300" spc="-1" strike="noStrike">
                  <a:solidFill>
                    <a:srgbClr val="003300"/>
                  </a:solidFill>
                  <a:latin typeface="Arial"/>
                  <a:ea typeface="맑은 고딕"/>
                </a:rPr>
                <a:t>R&amp;D</a:t>
              </a:r>
              <a:endParaRPr b="0" lang="en-US" sz="13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14" name="직사각형 100"/>
          <p:cNvSpPr/>
          <p:nvPr/>
        </p:nvSpPr>
        <p:spPr>
          <a:xfrm>
            <a:off x="7634160" y="2666880"/>
            <a:ext cx="10638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3300"/>
                </a:solidFill>
                <a:latin typeface="Arial"/>
                <a:ea typeface="맑은 고딕"/>
              </a:rPr>
              <a:t>New and Renewable Energy R&amp;D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5" name="Picture 114" descr="logo"/>
          <p:cNvPicPr/>
          <p:nvPr/>
        </p:nvPicPr>
        <p:blipFill>
          <a:blip r:embed="rId13"/>
          <a:stretch/>
        </p:blipFill>
        <p:spPr>
          <a:xfrm>
            <a:off x="5132520" y="3865680"/>
            <a:ext cx="3406680" cy="10411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19" descr=""/>
          <p:cNvPicPr/>
          <p:nvPr/>
        </p:nvPicPr>
        <p:blipFill>
          <a:blip r:embed="rId14"/>
          <a:srcRect l="1180" t="0" r="3542" b="0"/>
          <a:stretch/>
        </p:blipFill>
        <p:spPr>
          <a:xfrm>
            <a:off x="189000" y="5072040"/>
            <a:ext cx="888372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10"/>
          <p:cNvSpPr/>
          <p:nvPr/>
        </p:nvSpPr>
        <p:spPr>
          <a:xfrm>
            <a:off x="6858000" y="3103560"/>
            <a:ext cx="1800360" cy="936720"/>
          </a:xfrm>
          <a:prstGeom prst="roundRect">
            <a:avLst>
              <a:gd name="adj" fmla="val 2356"/>
            </a:avLst>
          </a:prstGeom>
          <a:solidFill>
            <a:srgbClr val="26262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8" name="TextBox 25"/>
          <p:cNvSpPr/>
          <p:nvPr/>
        </p:nvSpPr>
        <p:spPr>
          <a:xfrm>
            <a:off x="285840" y="500040"/>
            <a:ext cx="85010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R&amp;D Areas</a:t>
            </a:r>
            <a:r>
              <a:rPr b="0" lang="ko-KR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19" name="모서리가 둥근 직사각형 48"/>
          <p:cNvGrpSpPr/>
          <p:nvPr/>
        </p:nvGrpSpPr>
        <p:grpSpPr>
          <a:xfrm>
            <a:off x="6620040" y="1547640"/>
            <a:ext cx="2315880" cy="4834080"/>
            <a:chOff x="6620040" y="1547640"/>
            <a:chExt cx="2315880" cy="4834080"/>
          </a:xfrm>
        </p:grpSpPr>
        <p:pic>
          <p:nvPicPr>
            <p:cNvPr id="620" name="모서리가 둥근 직사각형 48" descr=""/>
            <p:cNvPicPr/>
            <p:nvPr/>
          </p:nvPicPr>
          <p:blipFill>
            <a:blip r:embed="rId1"/>
            <a:stretch/>
          </p:blipFill>
          <p:spPr>
            <a:xfrm>
              <a:off x="6620040" y="1547640"/>
              <a:ext cx="2315880" cy="483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6746760" y="1674720"/>
              <a:ext cx="2060640" cy="45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22" name="모서리가 둥근 직사각형 49"/>
          <p:cNvGrpSpPr/>
          <p:nvPr/>
        </p:nvGrpSpPr>
        <p:grpSpPr>
          <a:xfrm>
            <a:off x="262080" y="1547640"/>
            <a:ext cx="6267240" cy="4834080"/>
            <a:chOff x="262080" y="1547640"/>
            <a:chExt cx="6267240" cy="4834080"/>
          </a:xfrm>
        </p:grpSpPr>
        <p:pic>
          <p:nvPicPr>
            <p:cNvPr id="623" name="모서리가 둥근 직사각형 49" descr=""/>
            <p:cNvPicPr/>
            <p:nvPr/>
          </p:nvPicPr>
          <p:blipFill>
            <a:blip r:embed="rId2"/>
            <a:stretch/>
          </p:blipFill>
          <p:spPr>
            <a:xfrm>
              <a:off x="262080" y="1547640"/>
              <a:ext cx="6267240" cy="483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426960" y="1712880"/>
              <a:ext cx="5932440" cy="45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625" name="TextBox 50" descr=""/>
          <p:cNvPicPr/>
          <p:nvPr/>
        </p:nvPicPr>
        <p:blipFill>
          <a:blip r:embed="rId3"/>
          <a:stretch/>
        </p:blipFill>
        <p:spPr>
          <a:xfrm>
            <a:off x="633240" y="1000080"/>
            <a:ext cx="5370840" cy="542880"/>
          </a:xfrm>
          <a:prstGeom prst="rect">
            <a:avLst/>
          </a:prstGeom>
          <a:ln w="0">
            <a:noFill/>
          </a:ln>
        </p:spPr>
      </p:pic>
      <p:pic>
        <p:nvPicPr>
          <p:cNvPr id="626" name="TextBox 51" descr=""/>
          <p:cNvPicPr/>
          <p:nvPr/>
        </p:nvPicPr>
        <p:blipFill>
          <a:blip r:embed="rId4"/>
          <a:stretch/>
        </p:blipFill>
        <p:spPr>
          <a:xfrm>
            <a:off x="6162840" y="1000080"/>
            <a:ext cx="3084480" cy="542880"/>
          </a:xfrm>
          <a:prstGeom prst="rect">
            <a:avLst/>
          </a:prstGeom>
          <a:ln w="0">
            <a:noFill/>
          </a:ln>
        </p:spPr>
      </p:pic>
      <p:sp>
        <p:nvSpPr>
          <p:cNvPr id="627" name="AutoShape 10"/>
          <p:cNvSpPr/>
          <p:nvPr/>
        </p:nvSpPr>
        <p:spPr>
          <a:xfrm>
            <a:off x="500040" y="2004840"/>
            <a:ext cx="1800360" cy="936720"/>
          </a:xfrm>
          <a:prstGeom prst="roundRect">
            <a:avLst>
              <a:gd name="adj" fmla="val 2356"/>
            </a:avLst>
          </a:prstGeom>
          <a:solidFill>
            <a:srgbClr val="0070c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8" name="Text Box 54"/>
          <p:cNvSpPr/>
          <p:nvPr/>
        </p:nvSpPr>
        <p:spPr>
          <a:xfrm>
            <a:off x="357120" y="2278440"/>
            <a:ext cx="2057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nergy efficienc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9" name="AutoShape 56"/>
          <p:cNvSpPr/>
          <p:nvPr/>
        </p:nvSpPr>
        <p:spPr>
          <a:xfrm>
            <a:off x="500040" y="200988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0" name="AutoShape 56"/>
          <p:cNvSpPr/>
          <p:nvPr/>
        </p:nvSpPr>
        <p:spPr>
          <a:xfrm flipV="1">
            <a:off x="500040" y="278388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1" name="AutoShape 10"/>
          <p:cNvSpPr/>
          <p:nvPr/>
        </p:nvSpPr>
        <p:spPr>
          <a:xfrm>
            <a:off x="2500200" y="2004840"/>
            <a:ext cx="1800360" cy="936720"/>
          </a:xfrm>
          <a:prstGeom prst="roundRect">
            <a:avLst>
              <a:gd name="adj" fmla="val 2356"/>
            </a:avLst>
          </a:prstGeom>
          <a:solidFill>
            <a:srgbClr val="0066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2" name="Text Box 54"/>
          <p:cNvSpPr/>
          <p:nvPr/>
        </p:nvSpPr>
        <p:spPr>
          <a:xfrm>
            <a:off x="2657520" y="2117880"/>
            <a:ext cx="1500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New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3" name="AutoShape 56"/>
          <p:cNvSpPr/>
          <p:nvPr/>
        </p:nvSpPr>
        <p:spPr>
          <a:xfrm>
            <a:off x="2500200" y="200988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4" name="AutoShape 56"/>
          <p:cNvSpPr/>
          <p:nvPr/>
        </p:nvSpPr>
        <p:spPr>
          <a:xfrm flipV="1">
            <a:off x="2500200" y="278388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5" name="AutoShape 10"/>
          <p:cNvSpPr/>
          <p:nvPr/>
        </p:nvSpPr>
        <p:spPr>
          <a:xfrm>
            <a:off x="4500720" y="2000160"/>
            <a:ext cx="1800000" cy="936720"/>
          </a:xfrm>
          <a:prstGeom prst="roundRect">
            <a:avLst>
              <a:gd name="adj" fmla="val 2356"/>
            </a:avLst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6" name="Text Box 54"/>
          <p:cNvSpPr/>
          <p:nvPr/>
        </p:nvSpPr>
        <p:spPr>
          <a:xfrm>
            <a:off x="4389480" y="1881720"/>
            <a:ext cx="200016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ower generation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and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lectricity deliver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7" name="AutoShape 56"/>
          <p:cNvSpPr/>
          <p:nvPr/>
        </p:nvSpPr>
        <p:spPr>
          <a:xfrm>
            <a:off x="4500720" y="2004840"/>
            <a:ext cx="1800000" cy="14472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8" name="AutoShape 56"/>
          <p:cNvSpPr/>
          <p:nvPr/>
        </p:nvSpPr>
        <p:spPr>
          <a:xfrm flipV="1">
            <a:off x="4500720" y="2779560"/>
            <a:ext cx="1800000" cy="14472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9" name="AutoShape 10"/>
          <p:cNvSpPr/>
          <p:nvPr/>
        </p:nvSpPr>
        <p:spPr>
          <a:xfrm>
            <a:off x="4500720" y="3057480"/>
            <a:ext cx="1800000" cy="936720"/>
          </a:xfrm>
          <a:prstGeom prst="roundRect">
            <a:avLst>
              <a:gd name="adj" fmla="val 2356"/>
            </a:avLst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0" name="Text Box 54"/>
          <p:cNvSpPr/>
          <p:nvPr/>
        </p:nvSpPr>
        <p:spPr>
          <a:xfrm>
            <a:off x="4657680" y="3216240"/>
            <a:ext cx="1500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Nuclear Pow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1" name="AutoShape 56"/>
          <p:cNvSpPr/>
          <p:nvPr/>
        </p:nvSpPr>
        <p:spPr>
          <a:xfrm>
            <a:off x="4500720" y="3062160"/>
            <a:ext cx="1800000" cy="14472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AutoShape 56"/>
          <p:cNvSpPr/>
          <p:nvPr/>
        </p:nvSpPr>
        <p:spPr>
          <a:xfrm flipV="1">
            <a:off x="4500720" y="3836880"/>
            <a:ext cx="1800000" cy="14472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3" name="AutoShape 10"/>
          <p:cNvSpPr/>
          <p:nvPr/>
        </p:nvSpPr>
        <p:spPr>
          <a:xfrm>
            <a:off x="4500720" y="4138560"/>
            <a:ext cx="1800000" cy="936720"/>
          </a:xfrm>
          <a:prstGeom prst="roundRect">
            <a:avLst>
              <a:gd name="adj" fmla="val 2356"/>
            </a:avLst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4" name="AutoShape 56"/>
          <p:cNvSpPr/>
          <p:nvPr/>
        </p:nvSpPr>
        <p:spPr>
          <a:xfrm>
            <a:off x="4500720" y="4143240"/>
            <a:ext cx="1800000" cy="14472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5" name="AutoShape 56"/>
          <p:cNvSpPr/>
          <p:nvPr/>
        </p:nvSpPr>
        <p:spPr>
          <a:xfrm flipV="1">
            <a:off x="4500720" y="4917960"/>
            <a:ext cx="1800000" cy="14472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AutoShape 10"/>
          <p:cNvSpPr/>
          <p:nvPr/>
        </p:nvSpPr>
        <p:spPr>
          <a:xfrm>
            <a:off x="6858000" y="2039760"/>
            <a:ext cx="1800360" cy="936720"/>
          </a:xfrm>
          <a:prstGeom prst="roundRect">
            <a:avLst>
              <a:gd name="adj" fmla="val 2356"/>
            </a:avLst>
          </a:prstGeom>
          <a:solidFill>
            <a:srgbClr val="26262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Text Box 54"/>
          <p:cNvSpPr/>
          <p:nvPr/>
        </p:nvSpPr>
        <p:spPr>
          <a:xfrm>
            <a:off x="7015320" y="1962000"/>
            <a:ext cx="150012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Human resources developme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AutoShape 56"/>
          <p:cNvSpPr/>
          <p:nvPr/>
        </p:nvSpPr>
        <p:spPr>
          <a:xfrm>
            <a:off x="6858000" y="204480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AutoShape 56"/>
          <p:cNvSpPr/>
          <p:nvPr/>
        </p:nvSpPr>
        <p:spPr>
          <a:xfrm flipV="1">
            <a:off x="6858000" y="281880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Text Box 54"/>
          <p:cNvSpPr/>
          <p:nvPr/>
        </p:nvSpPr>
        <p:spPr>
          <a:xfrm>
            <a:off x="7015320" y="2988360"/>
            <a:ext cx="150012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ooper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AutoShape 56"/>
          <p:cNvSpPr/>
          <p:nvPr/>
        </p:nvSpPr>
        <p:spPr>
          <a:xfrm>
            <a:off x="6858000" y="311004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AutoShape 56"/>
          <p:cNvSpPr/>
          <p:nvPr/>
        </p:nvSpPr>
        <p:spPr>
          <a:xfrm flipV="1">
            <a:off x="6858000" y="388224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AutoShape 10"/>
          <p:cNvSpPr/>
          <p:nvPr/>
        </p:nvSpPr>
        <p:spPr>
          <a:xfrm>
            <a:off x="500040" y="3070080"/>
            <a:ext cx="1800360" cy="935280"/>
          </a:xfrm>
          <a:prstGeom prst="roundRect">
            <a:avLst>
              <a:gd name="adj" fmla="val 2356"/>
            </a:avLst>
          </a:prstGeom>
          <a:solidFill>
            <a:srgbClr val="0070c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Text Box 54"/>
          <p:cNvSpPr/>
          <p:nvPr/>
        </p:nvSpPr>
        <p:spPr>
          <a:xfrm>
            <a:off x="371520" y="3376800"/>
            <a:ext cx="19857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GHG Reduc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5" name="AutoShape 56"/>
          <p:cNvSpPr/>
          <p:nvPr/>
        </p:nvSpPr>
        <p:spPr>
          <a:xfrm>
            <a:off x="500040" y="307512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6" name="AutoShape 56"/>
          <p:cNvSpPr/>
          <p:nvPr/>
        </p:nvSpPr>
        <p:spPr>
          <a:xfrm flipV="1">
            <a:off x="500040" y="384732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7" name="Text Box 54"/>
          <p:cNvSpPr/>
          <p:nvPr/>
        </p:nvSpPr>
        <p:spPr>
          <a:xfrm>
            <a:off x="4643280" y="4069440"/>
            <a:ext cx="150048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Radioactive waste manageme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8" name="AutoShape 10"/>
          <p:cNvSpPr/>
          <p:nvPr/>
        </p:nvSpPr>
        <p:spPr>
          <a:xfrm>
            <a:off x="6865920" y="4135320"/>
            <a:ext cx="1800360" cy="936720"/>
          </a:xfrm>
          <a:prstGeom prst="roundRect">
            <a:avLst>
              <a:gd name="adj" fmla="val 2356"/>
            </a:avLst>
          </a:prstGeom>
          <a:solidFill>
            <a:srgbClr val="26262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9" name="Text Box 54"/>
          <p:cNvSpPr/>
          <p:nvPr/>
        </p:nvSpPr>
        <p:spPr>
          <a:xfrm>
            <a:off x="7023240" y="4283280"/>
            <a:ext cx="1500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xpert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Network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0" name="AutoShape 56"/>
          <p:cNvSpPr/>
          <p:nvPr/>
        </p:nvSpPr>
        <p:spPr>
          <a:xfrm>
            <a:off x="6865920" y="414036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1" name="AutoShape 56"/>
          <p:cNvSpPr/>
          <p:nvPr/>
        </p:nvSpPr>
        <p:spPr>
          <a:xfrm flipV="1">
            <a:off x="6865920" y="491436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2" name="AutoShape 10"/>
          <p:cNvSpPr/>
          <p:nvPr/>
        </p:nvSpPr>
        <p:spPr>
          <a:xfrm>
            <a:off x="498600" y="4110120"/>
            <a:ext cx="1800000" cy="934920"/>
          </a:xfrm>
          <a:prstGeom prst="roundRect">
            <a:avLst>
              <a:gd name="adj" fmla="val 2356"/>
            </a:avLst>
          </a:prstGeom>
          <a:solidFill>
            <a:srgbClr val="0070c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3" name="Text Box 54"/>
          <p:cNvSpPr/>
          <p:nvPr/>
        </p:nvSpPr>
        <p:spPr>
          <a:xfrm>
            <a:off x="369720" y="4358160"/>
            <a:ext cx="1986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4" name="AutoShape 56"/>
          <p:cNvSpPr/>
          <p:nvPr/>
        </p:nvSpPr>
        <p:spPr>
          <a:xfrm>
            <a:off x="498600" y="4114800"/>
            <a:ext cx="180000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5" name="AutoShape 56"/>
          <p:cNvSpPr/>
          <p:nvPr/>
        </p:nvSpPr>
        <p:spPr>
          <a:xfrm flipV="1">
            <a:off x="498600" y="4887360"/>
            <a:ext cx="180000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6" name="AutoShape 10"/>
          <p:cNvSpPr/>
          <p:nvPr/>
        </p:nvSpPr>
        <p:spPr>
          <a:xfrm>
            <a:off x="2500200" y="3044880"/>
            <a:ext cx="1800360" cy="936720"/>
          </a:xfrm>
          <a:prstGeom prst="roundRect">
            <a:avLst>
              <a:gd name="adj" fmla="val 2356"/>
            </a:avLst>
          </a:prstGeom>
          <a:solidFill>
            <a:srgbClr val="0066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7" name="Text Box 54"/>
          <p:cNvSpPr/>
          <p:nvPr/>
        </p:nvSpPr>
        <p:spPr>
          <a:xfrm>
            <a:off x="2657520" y="3176640"/>
            <a:ext cx="1500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Renewable Energ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8" name="AutoShape 56"/>
          <p:cNvSpPr/>
          <p:nvPr/>
        </p:nvSpPr>
        <p:spPr>
          <a:xfrm>
            <a:off x="2500200" y="304956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9" name="AutoShape 56"/>
          <p:cNvSpPr/>
          <p:nvPr/>
        </p:nvSpPr>
        <p:spPr>
          <a:xfrm flipV="1">
            <a:off x="2500200" y="382356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0" name="AutoShape 10"/>
          <p:cNvSpPr/>
          <p:nvPr/>
        </p:nvSpPr>
        <p:spPr>
          <a:xfrm>
            <a:off x="485640" y="5137200"/>
            <a:ext cx="1800360" cy="934920"/>
          </a:xfrm>
          <a:prstGeom prst="roundRect">
            <a:avLst>
              <a:gd name="adj" fmla="val 2356"/>
            </a:avLst>
          </a:prstGeom>
          <a:solidFill>
            <a:srgbClr val="0070c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1" name="Text Box 54"/>
          <p:cNvSpPr/>
          <p:nvPr/>
        </p:nvSpPr>
        <p:spPr>
          <a:xfrm>
            <a:off x="357120" y="5141880"/>
            <a:ext cx="19861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nergy &amp; Resource Recycl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2" name="AutoShape 56"/>
          <p:cNvSpPr/>
          <p:nvPr/>
        </p:nvSpPr>
        <p:spPr>
          <a:xfrm>
            <a:off x="485640" y="514188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3" name="AutoShape 56"/>
          <p:cNvSpPr/>
          <p:nvPr/>
        </p:nvSpPr>
        <p:spPr>
          <a:xfrm flipV="1">
            <a:off x="485640" y="591444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그림 7" descr="111.png"/>
          <p:cNvPicPr/>
          <p:nvPr/>
        </p:nvPicPr>
        <p:blipFill>
          <a:blip r:embed="rId1"/>
          <a:stretch/>
        </p:blipFill>
        <p:spPr>
          <a:xfrm>
            <a:off x="214200" y="3643200"/>
            <a:ext cx="2003400" cy="3286080"/>
          </a:xfrm>
          <a:prstGeom prst="rect">
            <a:avLst/>
          </a:prstGeom>
          <a:ln w="0">
            <a:noFill/>
          </a:ln>
        </p:spPr>
      </p:pic>
      <p:pic>
        <p:nvPicPr>
          <p:cNvPr id="675" name="그림 9" descr="con-bar.png"/>
          <p:cNvPicPr/>
          <p:nvPr/>
        </p:nvPicPr>
        <p:blipFill>
          <a:blip r:embed="rId2"/>
          <a:stretch/>
        </p:blipFill>
        <p:spPr>
          <a:xfrm>
            <a:off x="2604960" y="3286080"/>
            <a:ext cx="6500880" cy="1000080"/>
          </a:xfrm>
          <a:prstGeom prst="rect">
            <a:avLst/>
          </a:prstGeom>
          <a:ln w="0">
            <a:noFill/>
          </a:ln>
        </p:spPr>
      </p:pic>
      <p:sp>
        <p:nvSpPr>
          <p:cNvPr id="676" name="TextBox 10"/>
          <p:cNvSpPr/>
          <p:nvPr/>
        </p:nvSpPr>
        <p:spPr>
          <a:xfrm>
            <a:off x="4905720" y="3533760"/>
            <a:ext cx="30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V R&amp;D Program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7" name="TextBox 11"/>
          <p:cNvSpPr/>
          <p:nvPr/>
        </p:nvSpPr>
        <p:spPr>
          <a:xfrm>
            <a:off x="3521160" y="34974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Box 153"/>
          <p:cNvSpPr/>
          <p:nvPr/>
        </p:nvSpPr>
        <p:spPr>
          <a:xfrm>
            <a:off x="150840" y="285840"/>
            <a:ext cx="8993160" cy="703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Plan of New &amp; Renewable Energy Technology Development and Dissemination Progres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9" name="그룹 16"/>
          <p:cNvGrpSpPr/>
          <p:nvPr/>
        </p:nvGrpSpPr>
        <p:grpSpPr>
          <a:xfrm>
            <a:off x="500040" y="1143000"/>
            <a:ext cx="8085240" cy="6720480"/>
            <a:chOff x="500040" y="1143000"/>
            <a:chExt cx="8085240" cy="6720480"/>
          </a:xfrm>
        </p:grpSpPr>
        <p:sp>
          <p:nvSpPr>
            <p:cNvPr id="680" name="AutoShape 3"/>
            <p:cNvSpPr/>
            <p:nvPr/>
          </p:nvSpPr>
          <p:spPr>
            <a:xfrm>
              <a:off x="1660680" y="2386800"/>
              <a:ext cx="5454000" cy="1013760"/>
            </a:xfrm>
            <a:prstGeom prst="upArrow">
              <a:avLst>
                <a:gd name="adj1" fmla="val 51065"/>
                <a:gd name="adj2" fmla="val 54398"/>
              </a:avLst>
            </a:prstGeom>
            <a:gradFill rotWithShape="0">
              <a:gsLst>
                <a:gs pos="0">
                  <a:srgbClr val="bfbfbf">
                    <a:alpha val="79215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AutoShape 2"/>
            <p:cNvSpPr/>
            <p:nvPr/>
          </p:nvSpPr>
          <p:spPr>
            <a:xfrm>
              <a:off x="630720" y="3453120"/>
              <a:ext cx="3663000" cy="2980440"/>
            </a:xfrm>
            <a:prstGeom prst="roundRect">
              <a:avLst>
                <a:gd name="adj" fmla="val 152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70196"/>
                  </a:srgbClr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682" name="그룹 20" descr=""/>
            <p:cNvPicPr/>
            <p:nvPr/>
          </p:nvPicPr>
          <p:blipFill>
            <a:blip r:embed="rId1"/>
            <a:stretch/>
          </p:blipFill>
          <p:spPr>
            <a:xfrm>
              <a:off x="500040" y="2281320"/>
              <a:ext cx="3985560" cy="15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직사각형 33"/>
            <p:cNvSpPr/>
            <p:nvPr/>
          </p:nvSpPr>
          <p:spPr>
            <a:xfrm>
              <a:off x="1335240" y="2388600"/>
              <a:ext cx="3029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Achieve 11% of                                     New&amp;Renewable Energy penetration rat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AutoShape 2"/>
            <p:cNvSpPr/>
            <p:nvPr/>
          </p:nvSpPr>
          <p:spPr>
            <a:xfrm>
              <a:off x="4575600" y="3453120"/>
              <a:ext cx="3804120" cy="3051360"/>
            </a:xfrm>
            <a:prstGeom prst="roundRect">
              <a:avLst>
                <a:gd name="adj" fmla="val 152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70196"/>
                  </a:srgbClr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685" name="그룹 28" descr=""/>
            <p:cNvPicPr/>
            <p:nvPr/>
          </p:nvPicPr>
          <p:blipFill>
            <a:blip r:embed="rId2"/>
            <a:stretch/>
          </p:blipFill>
          <p:spPr>
            <a:xfrm>
              <a:off x="4449600" y="2281320"/>
              <a:ext cx="4135680" cy="14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직사각형 35"/>
            <p:cNvSpPr/>
            <p:nvPr/>
          </p:nvSpPr>
          <p:spPr>
            <a:xfrm>
              <a:off x="5350680" y="2388600"/>
              <a:ext cx="309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Industrialization of New&amp;Renewable Energy as Green Growth Sourc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687" name="AutoShape 4" descr=""/>
            <p:cNvPicPr/>
            <p:nvPr/>
          </p:nvPicPr>
          <p:blipFill>
            <a:blip r:embed="rId3"/>
            <a:stretch/>
          </p:blipFill>
          <p:spPr>
            <a:xfrm>
              <a:off x="1648080" y="1143000"/>
              <a:ext cx="5915160" cy="13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Text Box 5"/>
            <p:cNvSpPr/>
            <p:nvPr/>
          </p:nvSpPr>
          <p:spPr>
            <a:xfrm>
              <a:off x="630720" y="3524040"/>
              <a:ext cx="3733560" cy="28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2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Structure dissemination systmem of cost-efficient New&amp;Renewable Energy 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177840" indent="-177840">
                <a:lnSpc>
                  <a:spcPct val="12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Expand the infrastructure of hardware and software for expansion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177840" indent="-177840">
                <a:lnSpc>
                  <a:spcPct val="12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Introduce market mechanism and private-led system for industrial ability security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9" name="Text Box 5"/>
            <p:cNvSpPr/>
            <p:nvPr/>
          </p:nvSpPr>
          <p:spPr>
            <a:xfrm>
              <a:off x="4716720" y="3453120"/>
              <a:ext cx="3566160" cy="44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2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Dominate future market in advance through strategic technology development and original technology security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177840" indent="-177840">
                <a:lnSpc>
                  <a:spcPct val="12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Expand the industrial infrastructure through localization of component material and equipment facilities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177840" indent="-177840">
                <a:lnSpc>
                  <a:spcPct val="12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Dominate New&amp;Renewable Energy economic feasibility in advance through development of high-efficiency and low-cost technology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177840" indent="-17784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90" name="AutoShape 122"/>
          <p:cNvSpPr/>
          <p:nvPr/>
        </p:nvSpPr>
        <p:spPr>
          <a:xfrm>
            <a:off x="500040" y="2571840"/>
            <a:ext cx="889200" cy="503280"/>
          </a:xfrm>
          <a:prstGeom prst="roundRect">
            <a:avLst>
              <a:gd name="adj" fmla="val 24606"/>
            </a:avLst>
          </a:prstGeom>
          <a:solidFill>
            <a:srgbClr val="0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Goal</a:t>
            </a:r>
            <a:r>
              <a:rPr b="0" lang="ko-KR" sz="18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HY견명조"/>
                <a:ea typeface="HY견명조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1" name="AutoShape 122"/>
          <p:cNvSpPr/>
          <p:nvPr/>
        </p:nvSpPr>
        <p:spPr>
          <a:xfrm>
            <a:off x="4500720" y="2571840"/>
            <a:ext cx="888840" cy="503280"/>
          </a:xfrm>
          <a:prstGeom prst="roundRect">
            <a:avLst>
              <a:gd name="adj" fmla="val 24606"/>
            </a:avLst>
          </a:prstGeom>
          <a:solidFill>
            <a:srgbClr val="0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Goal</a:t>
            </a:r>
            <a:r>
              <a:rPr b="1" lang="en-US" sz="2000" spc="-1" strike="noStrike">
                <a:solidFill>
                  <a:srgbClr val="ffff99"/>
                </a:solidFill>
                <a:latin typeface="HY견명조"/>
                <a:ea typeface="HY견명조"/>
              </a:rPr>
              <a:t>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3" descr="07-2"/>
          <p:cNvPicPr/>
          <p:nvPr/>
        </p:nvPicPr>
        <p:blipFill>
          <a:blip r:embed="rId1"/>
          <a:srcRect l="9689" t="20278" r="50315" b="47087"/>
          <a:stretch/>
        </p:blipFill>
        <p:spPr>
          <a:xfrm>
            <a:off x="642960" y="1406520"/>
            <a:ext cx="7765920" cy="31939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6" descr="c1"/>
          <p:cNvPicPr/>
          <p:nvPr/>
        </p:nvPicPr>
        <p:blipFill>
          <a:blip r:embed="rId2">
            <a:grayscl/>
          </a:blip>
          <a:stretch/>
        </p:blipFill>
        <p:spPr>
          <a:xfrm>
            <a:off x="5913360" y="3530520"/>
            <a:ext cx="1811520" cy="10209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6" descr="c1"/>
          <p:cNvPicPr/>
          <p:nvPr/>
        </p:nvPicPr>
        <p:blipFill>
          <a:blip r:embed="rId3">
            <a:grayscl/>
          </a:blip>
          <a:stretch/>
        </p:blipFill>
        <p:spPr>
          <a:xfrm>
            <a:off x="1809720" y="3530520"/>
            <a:ext cx="1811520" cy="1020960"/>
          </a:xfrm>
          <a:prstGeom prst="rect">
            <a:avLst/>
          </a:prstGeom>
          <a:ln w="0">
            <a:noFill/>
          </a:ln>
        </p:spPr>
      </p:pic>
      <p:sp>
        <p:nvSpPr>
          <p:cNvPr id="695" name="WordArt 70"/>
          <p:cNvSpPr txBox="1"/>
          <p:nvPr/>
        </p:nvSpPr>
        <p:spPr>
          <a:xfrm>
            <a:off x="2143080" y="3929040"/>
            <a:ext cx="1143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HY헤드라인M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HY헤드라인M"/>
              </a:rPr>
              <a:t>2008 (2.4%)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HY헤드라인M"/>
              <a:ea typeface="HY헤드라인M"/>
            </a:endParaRPr>
          </a:p>
        </p:txBody>
      </p:sp>
      <p:pic>
        <p:nvPicPr>
          <p:cNvPr id="696" name="Picture 74" descr="123"/>
          <p:cNvPicPr/>
          <p:nvPr/>
        </p:nvPicPr>
        <p:blipFill>
          <a:blip r:embed="rId4"/>
          <a:stretch/>
        </p:blipFill>
        <p:spPr>
          <a:xfrm>
            <a:off x="1900080" y="2470320"/>
            <a:ext cx="1641600" cy="141732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75" descr="124"/>
          <p:cNvPicPr/>
          <p:nvPr/>
        </p:nvPicPr>
        <p:blipFill>
          <a:blip r:embed="rId5"/>
          <a:stretch/>
        </p:blipFill>
        <p:spPr>
          <a:xfrm>
            <a:off x="6018120" y="2371680"/>
            <a:ext cx="1679760" cy="145116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76"/>
          <p:cNvSpPr/>
          <p:nvPr/>
        </p:nvSpPr>
        <p:spPr>
          <a:xfrm>
            <a:off x="6966360" y="1798560"/>
            <a:ext cx="105480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Geothermal: 3.8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Text Box 77"/>
          <p:cNvSpPr/>
          <p:nvPr/>
        </p:nvSpPr>
        <p:spPr>
          <a:xfrm>
            <a:off x="7138800" y="2046240"/>
            <a:ext cx="80316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Ocean.: 4.7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0" name="Text Box 78"/>
          <p:cNvSpPr/>
          <p:nvPr/>
        </p:nvSpPr>
        <p:spPr>
          <a:xfrm>
            <a:off x="7075080" y="2652840"/>
            <a:ext cx="3949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Was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33.4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Text Box 79"/>
          <p:cNvSpPr/>
          <p:nvPr/>
        </p:nvSpPr>
        <p:spPr>
          <a:xfrm>
            <a:off x="6109920" y="3075120"/>
            <a:ext cx="5212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Bioma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31.4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2" name="Text Box 80"/>
          <p:cNvSpPr/>
          <p:nvPr/>
        </p:nvSpPr>
        <p:spPr>
          <a:xfrm>
            <a:off x="5585400" y="3411360"/>
            <a:ext cx="4100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Hydro: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 4.4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Text Box 81"/>
          <p:cNvSpPr/>
          <p:nvPr/>
        </p:nvSpPr>
        <p:spPr>
          <a:xfrm>
            <a:off x="5081760" y="2376360"/>
            <a:ext cx="11311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Wind power: 12.6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Text Box 82"/>
          <p:cNvSpPr/>
          <p:nvPr/>
        </p:nvSpPr>
        <p:spPr>
          <a:xfrm>
            <a:off x="5001120" y="2151000"/>
            <a:ext cx="12862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HY헤드라인M"/>
              </a:rPr>
              <a:t>Solar power : 4.1%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Text Box 83"/>
          <p:cNvSpPr/>
          <p:nvPr/>
        </p:nvSpPr>
        <p:spPr>
          <a:xfrm>
            <a:off x="5047920" y="1940040"/>
            <a:ext cx="114480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Solarthermal.: 5.7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6" name="Freeform 84"/>
          <p:cNvSpPr/>
          <p:nvPr/>
        </p:nvSpPr>
        <p:spPr>
          <a:xfrm>
            <a:off x="5977080" y="3365640"/>
            <a:ext cx="981000" cy="3808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7" name="Line 85"/>
          <p:cNvSpPr/>
          <p:nvPr/>
        </p:nvSpPr>
        <p:spPr>
          <a:xfrm flipH="1" flipV="1">
            <a:off x="6221520" y="2481120"/>
            <a:ext cx="303120" cy="18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Freeform 86"/>
          <p:cNvSpPr/>
          <p:nvPr/>
        </p:nvSpPr>
        <p:spPr>
          <a:xfrm>
            <a:off x="6253200" y="2251080"/>
            <a:ext cx="382680" cy="36972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9" name="Freeform 87"/>
          <p:cNvSpPr/>
          <p:nvPr/>
        </p:nvSpPr>
        <p:spPr>
          <a:xfrm>
            <a:off x="6213600" y="2033640"/>
            <a:ext cx="527040" cy="5094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Freeform 88"/>
          <p:cNvSpPr/>
          <p:nvPr/>
        </p:nvSpPr>
        <p:spPr>
          <a:xfrm>
            <a:off x="6853320" y="1889280"/>
            <a:ext cx="104760" cy="5727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Freeform 89"/>
          <p:cNvSpPr/>
          <p:nvPr/>
        </p:nvSpPr>
        <p:spPr>
          <a:xfrm>
            <a:off x="6942240" y="2151000"/>
            <a:ext cx="195120" cy="311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Text Box 90"/>
          <p:cNvSpPr/>
          <p:nvPr/>
        </p:nvSpPr>
        <p:spPr>
          <a:xfrm>
            <a:off x="2531520" y="3218040"/>
            <a:ext cx="3949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Was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78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3" name="Text Box 91"/>
          <p:cNvSpPr/>
          <p:nvPr/>
        </p:nvSpPr>
        <p:spPr>
          <a:xfrm>
            <a:off x="2183040" y="2665440"/>
            <a:ext cx="3949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Hydr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11.3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4" name="Freeform 92"/>
          <p:cNvSpPr/>
          <p:nvPr/>
        </p:nvSpPr>
        <p:spPr>
          <a:xfrm>
            <a:off x="2311560" y="2376360"/>
            <a:ext cx="339480" cy="37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5" name="Text Box 93"/>
          <p:cNvSpPr/>
          <p:nvPr/>
        </p:nvSpPr>
        <p:spPr>
          <a:xfrm>
            <a:off x="1457280" y="2305080"/>
            <a:ext cx="8794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Biomass: 7.3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Freeform 94"/>
          <p:cNvSpPr/>
          <p:nvPr/>
        </p:nvSpPr>
        <p:spPr>
          <a:xfrm>
            <a:off x="2475000" y="2173320"/>
            <a:ext cx="247680" cy="379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Text Box 95"/>
          <p:cNvSpPr/>
          <p:nvPr/>
        </p:nvSpPr>
        <p:spPr>
          <a:xfrm>
            <a:off x="1381680" y="2075040"/>
            <a:ext cx="10609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Wind power: 1.6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Freeform 96"/>
          <p:cNvSpPr/>
          <p:nvPr/>
        </p:nvSpPr>
        <p:spPr>
          <a:xfrm>
            <a:off x="2522520" y="1995480"/>
            <a:ext cx="236520" cy="574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Text Box 97"/>
          <p:cNvSpPr/>
          <p:nvPr/>
        </p:nvSpPr>
        <p:spPr>
          <a:xfrm>
            <a:off x="1327680" y="1889280"/>
            <a:ext cx="1246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HY헤드라인M"/>
              </a:rPr>
              <a:t>Solar power: 1.0%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Freeform 98"/>
          <p:cNvSpPr/>
          <p:nvPr/>
        </p:nvSpPr>
        <p:spPr>
          <a:xfrm>
            <a:off x="2700360" y="1830240"/>
            <a:ext cx="120600" cy="7048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1" name="Text Box 99"/>
          <p:cNvSpPr/>
          <p:nvPr/>
        </p:nvSpPr>
        <p:spPr>
          <a:xfrm>
            <a:off x="2055600" y="172872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Etc.: 0.8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2" name="Picture 8" descr="arr002_05_"/>
          <p:cNvPicPr/>
          <p:nvPr/>
        </p:nvPicPr>
        <p:blipFill>
          <a:blip r:embed="rId6"/>
          <a:stretch/>
        </p:blipFill>
        <p:spPr>
          <a:xfrm>
            <a:off x="4214880" y="3017880"/>
            <a:ext cx="669960" cy="272880"/>
          </a:xfrm>
          <a:prstGeom prst="rect">
            <a:avLst/>
          </a:prstGeom>
          <a:ln w="0">
            <a:noFill/>
          </a:ln>
        </p:spPr>
      </p:pic>
      <p:sp>
        <p:nvSpPr>
          <p:cNvPr id="723" name="WordArt 70"/>
          <p:cNvSpPr txBox="1"/>
          <p:nvPr/>
        </p:nvSpPr>
        <p:spPr>
          <a:xfrm>
            <a:off x="6286680" y="3929040"/>
            <a:ext cx="1206360" cy="2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HY헤드라인M"/>
              </a:rPr>
              <a:t>2030 (11%)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HY헤드라인M"/>
              <a:ea typeface="HY헤드라인M"/>
            </a:endParaRPr>
          </a:p>
        </p:txBody>
      </p:sp>
      <p:sp>
        <p:nvSpPr>
          <p:cNvPr id="724" name="TextBox 153"/>
          <p:cNvSpPr/>
          <p:nvPr/>
        </p:nvSpPr>
        <p:spPr>
          <a:xfrm>
            <a:off x="214200" y="500040"/>
            <a:ext cx="8707680" cy="703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Deployment Expansion Plan in each New&amp;Renewable Energy area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1500120" y="4583160"/>
            <a:ext cx="29289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 2008, Supply 6.36 mil. TOE of New&amp;Renewable Energy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77840" indent="-177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PV 1% (59,ooo TO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6" name="Text Box 5"/>
          <p:cNvSpPr/>
          <p:nvPr/>
        </p:nvSpPr>
        <p:spPr>
          <a:xfrm>
            <a:off x="5143680" y="4579920"/>
            <a:ext cx="30715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ntil 2030,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upply 33.027mil. TOE of New&amp;Renewable Energ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77840" indent="-177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PV 4.1% (1.364 mil. TO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7" name="Text Box 82"/>
          <p:cNvSpPr/>
          <p:nvPr/>
        </p:nvSpPr>
        <p:spPr>
          <a:xfrm>
            <a:off x="3860640" y="3429000"/>
            <a:ext cx="17024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HY헤드라인M"/>
              </a:rPr>
              <a:t>Invest total 6 bil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HY헤드라인M"/>
              </a:rPr>
              <a:t>In R&amp;D until 203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Box 25"/>
          <p:cNvSpPr/>
          <p:nvPr/>
        </p:nvSpPr>
        <p:spPr>
          <a:xfrm>
            <a:off x="365040" y="500040"/>
            <a:ext cx="8778960" cy="703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PV Implementation Strategy ( 3</a:t>
            </a:r>
            <a:r>
              <a:rPr b="0" lang="en-US" sz="2000" spc="-1" strike="noStrike" baseline="30000">
                <a:solidFill>
                  <a:srgbClr val="ffff99"/>
                </a:solidFill>
                <a:latin typeface="HY헤드라인M"/>
                <a:ea typeface="HY헤드라인M"/>
              </a:rPr>
              <a:t>rd</a:t>
            </a:r>
            <a:r>
              <a:rPr b="0" lang="en-US" sz="20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New&amp;Renewable Energy Act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9" name="내용 개체 틀 9"/>
          <p:cNvSpPr/>
          <p:nvPr/>
        </p:nvSpPr>
        <p:spPr>
          <a:xfrm>
            <a:off x="714240" y="2000160"/>
            <a:ext cx="7858440" cy="1714680"/>
          </a:xfrm>
          <a:prstGeom prst="rect">
            <a:avLst/>
          </a:prstGeom>
          <a:solidFill>
            <a:srgbClr val="fdeada"/>
          </a:solidFill>
          <a:ln w="93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Develop  Solar cell process technology for economic feasibil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Develop  localization of PV Development system and standard system for promo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Develop the evaluation technology of PV performance  measurement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HY헤드라인M"/>
                <a:ea typeface="HY헤드라인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아래쪽 화살표 59"/>
          <p:cNvSpPr/>
          <p:nvPr/>
        </p:nvSpPr>
        <p:spPr>
          <a:xfrm rot="16200000">
            <a:off x="3214800" y="1428840"/>
            <a:ext cx="357120" cy="357120"/>
          </a:xfrm>
          <a:prstGeom prst="downArrow">
            <a:avLst>
              <a:gd name="adj1" fmla="val 50000"/>
              <a:gd name="adj2" fmla="val 32935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1" name="다이어그램 62" descr=""/>
          <p:cNvPicPr/>
          <p:nvPr/>
        </p:nvPicPr>
        <p:blipFill>
          <a:blip r:embed="rId5"/>
          <a:stretch/>
        </p:blipFill>
        <p:spPr>
          <a:xfrm>
            <a:off x="701640" y="1079640"/>
            <a:ext cx="2316240" cy="858600"/>
          </a:xfrm>
          <a:prstGeom prst="rect">
            <a:avLst/>
          </a:prstGeom>
          <a:ln w="0">
            <a:noFill/>
          </a:ln>
        </p:spPr>
      </p:pic>
      <p:pic>
        <p:nvPicPr>
          <p:cNvPr id="732" name="다이어그램 63" descr=""/>
          <p:cNvPicPr/>
          <p:nvPr/>
        </p:nvPicPr>
        <p:blipFill>
          <a:blip r:embed="rId6"/>
          <a:stretch/>
        </p:blipFill>
        <p:spPr>
          <a:xfrm>
            <a:off x="3700440" y="1079640"/>
            <a:ext cx="1962000" cy="858600"/>
          </a:xfrm>
          <a:prstGeom prst="rect">
            <a:avLst/>
          </a:prstGeom>
          <a:ln w="0">
            <a:noFill/>
          </a:ln>
        </p:spPr>
      </p:pic>
      <p:pic>
        <p:nvPicPr>
          <p:cNvPr id="733" name="다이어그램 64" descr=""/>
          <p:cNvPicPr/>
          <p:nvPr/>
        </p:nvPicPr>
        <p:blipFill>
          <a:blip r:embed="rId7"/>
          <a:stretch/>
        </p:blipFill>
        <p:spPr>
          <a:xfrm>
            <a:off x="6242040" y="1109520"/>
            <a:ext cx="2523960" cy="858960"/>
          </a:xfrm>
          <a:prstGeom prst="rect">
            <a:avLst/>
          </a:prstGeom>
          <a:ln w="0">
            <a:noFill/>
          </a:ln>
        </p:spPr>
      </p:pic>
      <p:sp>
        <p:nvSpPr>
          <p:cNvPr id="734" name="아래쪽 화살표 65"/>
          <p:cNvSpPr/>
          <p:nvPr/>
        </p:nvSpPr>
        <p:spPr>
          <a:xfrm rot="16200000">
            <a:off x="5857920" y="1428840"/>
            <a:ext cx="357120" cy="357120"/>
          </a:xfrm>
          <a:prstGeom prst="downArrow">
            <a:avLst>
              <a:gd name="adj1" fmla="val 50000"/>
              <a:gd name="adj2" fmla="val 32935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714240" y="3797280"/>
          <a:ext cx="7643880" cy="2595600"/>
        </p:xfrm>
        <a:graphic>
          <a:graphicData uri="http://schemas.openxmlformats.org/drawingml/2006/table">
            <a:tbl>
              <a:tblPr/>
              <a:tblGrid>
                <a:gridCol w="2349720"/>
                <a:gridCol w="1765080"/>
                <a:gridCol w="1764000"/>
                <a:gridCol w="17650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Di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20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옛체"/>
                          <a:ea typeface="휴먼옛체"/>
                        </a:rPr>
                        <a:t>Unit price of Electricity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옛체"/>
                          <a:ea typeface="휴먼옛체"/>
                        </a:rPr>
                        <a:t>(USD/kW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옛체"/>
                          <a:ea typeface="휴먼옛체"/>
                        </a:rPr>
                        <a:t>Price of syste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옛체"/>
                          <a:ea typeface="휴먼옛체"/>
                        </a:rPr>
                        <a:t>(USD/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옛체"/>
                          <a:ea typeface="휴먼옛체"/>
                        </a:rPr>
                        <a:t>Internation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옛체"/>
                          <a:ea typeface="휴먼옛체"/>
                        </a:rPr>
                        <a:t>market sh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% (‘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% (‘3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옛체"/>
                          <a:ea typeface="휴먼옛체"/>
                        </a:rPr>
                        <a:t>Amount of ex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옛체"/>
                          <a:ea typeface="휴먼옛체"/>
                        </a:rPr>
                        <a:t>(bil U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‘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7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‘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08:38:57Z</dcterms:created>
  <dc:creator>balgun</dc:creator>
  <dc:description/>
  <dc:language>en-US</dc:language>
  <cp:lastModifiedBy>admin</cp:lastModifiedBy>
  <dcterms:modified xsi:type="dcterms:W3CDTF">2010-04-13T09:14:15Z</dcterms:modified>
  <cp:revision>419</cp:revision>
  <dc:subject/>
  <dc:title>슬라이드 1</dc:title>
</cp:coreProperties>
</file>