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36.png" ContentType="image/png"/>
  <Override PartName="/ppt/media/image9.jpeg" ContentType="image/jpeg"/>
  <Override PartName="/ppt/media/image11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0.png" ContentType="image/png"/>
  <Override PartName="/ppt/media/image59.jpeg" ContentType="image/jpeg"/>
  <Override PartName="/ppt/media/image6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20.png" ContentType="image/png"/>
  <Override PartName="/ppt/media/image35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7.png" ContentType="image/png"/>
  <Override PartName="/ppt/media/image19.png" ContentType="image/png"/>
  <Override PartName="/ppt/media/image1.jpeg" ContentType="image/jpeg"/>
  <Override PartName="/ppt/media/image21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30.png" ContentType="image/png"/>
  <Override PartName="/ppt/media/image31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wmf" ContentType="image/x-wmf"/>
  <Override PartName="/ppt/media/image50.png" ContentType="image/png"/>
  <Override PartName="/ppt/media/image51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5.png" ContentType="image/png"/>
  <Override PartName="/ppt/media/image56.png" ContentType="image/png"/>
  <Override PartName="/ppt/media/image5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0C3-DA72-486C-915A-159F9E59B6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  <a:ea typeface="궁서"/>
            </a:endParaRPr>
          </a:p>
        </p:txBody>
      </p:sp>
      <p:sp>
        <p:nvSpPr>
          <p:cNvPr id="8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AF7-194B-4C8E-A166-135E0CC339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C84-72AA-4FED-85B0-5772D04E8F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8E37-640A-4FE7-AFE7-F022E3AECA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ACAE-16B8-48C0-9AF0-3EE2846A809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7D5B-9766-42BE-A7E9-C15577500E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536-B2E8-4792-9A0C-5D09612270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4C9-1B20-4A24-8700-CCD0BFA451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FDA7-93D4-4F52-B2FB-01274F9D49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127-F1C7-4346-A11B-A1DFD398D6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A5A9-F600-45AF-AE5C-E28E830D5A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2923-F0DA-480B-9D59-AD7573964C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Today, I will briefly talk about overview of KETEP, PV R&amp;D program and status of PV deployment &amp; industry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85C-1E4F-42B4-91CB-B43DCC80A4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88BE-525A-47B8-8AD6-33FB3D4D4A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7412-D2DB-4180-89CA-189F5757F2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1862-04E0-4DE7-879D-F7F3A2DFE4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A4B7-10D2-4FF3-8EDE-80753EE11C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5E6-AE9B-41FF-800F-59F02532DB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E51-91A0-4002-BA1B-E84EB0B6E3D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2D1-3FB6-4C33-99C3-7342CD6245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D58-301A-4267-A507-00113D6F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4C7-E8B3-4F3A-896E-B2D5FD9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BD57-7DB2-4F23-A026-F177826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0FF0C-6F72-49E2-81F1-F858F09D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0CAB1-9727-4FE8-AAD8-C65939FE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10A0-EAFD-42D4-BFD4-7AD1ACF1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B66D-5B70-496E-8908-7214E19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A146D-836D-40AF-A3F2-C22B121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0419-B2B7-4C1D-AE75-F75EBEE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F7B37-9790-4225-A880-2BF756AB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1A24-8BEF-4408-BB0F-494B7ECE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322E7-D5A9-4151-9484-F7F2FDF9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15C-E8A5-4660-B24F-34A2DC3A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CD03B-234E-41E1-A01E-B2B4259D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AD65C-5031-417B-A880-59F1DD4C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4FD00-6F75-4F0C-B0AC-A800664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1129F-E621-400F-BD6F-95CEBB2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AAF6-3402-4A07-844D-08C0804A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7D4C5-E8C1-421C-B428-4FB85FC9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6EC7E-02EC-4B8E-9D15-CC4D116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442A9-395A-4DA6-BF23-5F2B206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B392-8D2E-4295-B11B-4155EFF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6B926-FC23-4B0F-8E3D-870DCDCF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B41-43A2-4D96-8C18-5529E9F8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43179-C3A1-4D93-AF77-C68517B9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D9CE1-B653-4648-B799-7725DAA5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8F53C-47EB-4E2D-9FA4-C663692C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83CE9-21E0-4C86-A4EE-9277AE4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54799-6BA7-4C8B-A00C-121F1FF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7B595-3E89-4379-892A-6582F65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21E79-CE97-4C6A-9C95-FF64B68F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B30B4-F80C-40BB-B0C4-4FF6677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F56D-D37C-46A9-856A-22D3086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9CC4A-4E1F-4F2E-8BE2-797AEE6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E3E2-D9C4-4AAD-8101-086CFA92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35FF-1337-488E-847D-3F03CE26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1DA75-8635-4333-946E-45CE18D0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87533-7263-4F56-8F0E-061011D8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AE76-1DDD-4277-9A42-49C83254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26E31-064D-44A5-991A-85F913E9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146C7-92F7-4C4C-BF11-70E943F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6BB1F-6336-4748-92D7-2B6B5136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AEF6B-3CA8-4B62-8FF3-4453E3C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7E879-EEC4-4C4B-936B-20B8F4CB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26457-483A-4CD8-BCF5-A30B027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A17-1059-4A43-A19B-3AC0137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0C927-EF6A-46E0-9850-014C7F8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61593-BE90-4C9F-83AD-8CC126AC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490F-B1CC-41BB-A85A-0BBBF21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57E2B-FF8D-489D-8965-9919574F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4C0CA-18AF-43B2-B415-D4E42935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E97A-13CB-40CD-A4F1-B7907846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D66-92B3-4A48-B641-335C016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EE5-E332-4C88-9784-26FBC74E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366B-7CC5-4664-A46F-F147976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7318-D383-49D5-81DD-FF739C1A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E05-17BB-4E7A-8F17-C74242B2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354A-4EE3-481C-806E-7084C01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B079-BE72-42B0-8F14-6939FEE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4164-10C9-4D46-B059-93723AB8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E2AE-BC5C-471C-B002-74A03BCF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BD31-1D26-4F73-9F13-092EBD9D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221C-06B0-4798-8663-4745A7E8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E055-5C34-48D4-BE5D-FCC4AE4F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ACD1-F941-4F58-B9B8-C4AF494E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47C8-452F-4368-9D44-D7A6735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39ED-BB7B-41A3-88D8-6455BF2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D33-E720-4F0F-BA65-A9068641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5853-AD22-4B60-A693-A70908F3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9FA2-C59E-463C-99E3-37D7FA7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2C56-BBEF-41AB-93F5-CEBA125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5169-CBBD-412C-A762-53C2358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77AA-0C70-43BF-B2C2-7D97E07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83FC-594C-4B59-94DC-01665111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5CF8-3409-4E50-9819-A9D5A708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05A-621F-499B-BCD5-3B4C066D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8B22D-1E31-4B51-88FE-2E1420C1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B37-29AB-43FA-8E59-91BDC19A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5284-13FF-46D3-B642-AF95BAE5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9FC4-AB5A-476E-B72E-D3B4CC5F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C9EC-7942-4538-B3B8-3B327B67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CF33-3AF0-4F61-BDB0-B02A8B8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B5C6-3871-4349-8BF1-5897025E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C0B3-7028-4CB5-A7B7-40B68E7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F0E0-F5FC-42DB-8CE6-C0C9F57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FC8B-D818-4D54-A47F-92FA667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F6D0-75EC-4BCA-B06E-9FB7B9D9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BB6EC-E1DD-4A4A-A364-70163867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BD5-AD1D-4500-BAD4-A728856B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3B62B-505E-4182-95EF-980C8EF6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F9AE5-373B-4AEB-BF61-F45B68E9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5748-31A4-4C30-9B61-8209A691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EB995-D316-4DD7-B669-E854809A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5241E-C697-45C4-AF32-3708362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A82B-ACAD-4A29-973D-FEF48BB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E632-FDC7-4D96-BFB8-C477A99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31286-251F-45C9-83AF-F98779C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2A30-97A6-4AA7-9820-0F2147C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D3FC-AF31-4390-BCA5-AF497AB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15F-ECC5-488F-B6D3-F874F4A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B2C1-B490-4F05-9984-692813C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D829-74B8-4A0D-91BB-7D5E322D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E5B6-611D-48F2-B96E-176EC8FF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ED9A-1A8E-4DC6-8CB6-A5F1BD23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722A-FCD1-4A05-9878-4BE1FAD0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3FCB-281D-4870-BD39-C6889812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3B4D-9740-457F-BBB6-3B06373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C4D38-6B85-4105-B6C6-46D82EC0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0831E-E6C0-481D-8C6E-BD62CAFE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A75F-6C3C-4EE0-9EDE-77F5A9A6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631-35C3-4095-9411-6964119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121D-10CF-4C60-94C5-982434E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492D-4128-41B1-813B-FCB5644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DDB6-2734-4E85-9431-AC46C61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852A3-EC8F-428E-B487-E3B7D12B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A2A3F-9EC5-434C-9029-8CBCBFA8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B81E-1BB4-40C0-8DD7-4AA1A20C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A7A7E-3E4B-40BD-AB76-99E46144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1771-F942-421A-90B0-F08B454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B757-8177-43A6-9E36-08822769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13F0-D18A-46CB-BC90-6615CAEF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FAF-6EF1-43B4-83F4-3484CAB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4835-D142-4F93-9E54-367DA582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2CC3B-6EC9-46FE-9E23-082A77DC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F857-7672-4BF5-A702-D71EA6D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6463-3E05-436C-8E31-AFD14E4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67E19-360A-4EB5-A416-8AEB604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66E5-7FE2-4670-A8BA-9F0A3AFC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7016E-383B-432D-96F4-644C75EC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70B4F-D89D-427D-916C-C99F668E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D4090-E12D-445E-B59E-D3CE2B0A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5257-B6E2-4CF7-9C7D-E7B319C7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D499-A3B7-4EF1-BC1E-5828FB50470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ketep_logo_1.JPG"/>
          <p:cNvPicPr/>
          <p:nvPr/>
        </p:nvPicPr>
        <p:blipFill>
          <a:blip r:embed="rId3"/>
          <a:stretch/>
        </p:blipFill>
        <p:spPr>
          <a:xfrm>
            <a:off x="6705720" y="6456240"/>
            <a:ext cx="1000080" cy="382680"/>
          </a:xfrm>
          <a:prstGeom prst="rect">
            <a:avLst/>
          </a:prstGeom>
          <a:ln w="0">
            <a:noFill/>
          </a:ln>
        </p:spPr>
      </p:pic>
      <p:pic>
        <p:nvPicPr>
          <p:cNvPr id="6" name="그림 7" descr="ketep_logo_3.JPG"/>
          <p:cNvPicPr/>
          <p:nvPr/>
        </p:nvPicPr>
        <p:blipFill>
          <a:blip r:embed="rId4"/>
          <a:stretch/>
        </p:blipFill>
        <p:spPr>
          <a:xfrm>
            <a:off x="7743960" y="6369120"/>
            <a:ext cx="135720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050B-985C-47F3-A9C1-6E3A36F282A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964-4127-44E3-9394-F3F30A48F4F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DB0-6AB8-4355-88CE-8C786FAD49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그림 6" descr="ketep_logo_1.JPG"/>
          <p:cNvPicPr/>
          <p:nvPr/>
        </p:nvPicPr>
        <p:blipFill>
          <a:blip r:embed="rId3"/>
          <a:stretch/>
        </p:blipFill>
        <p:spPr>
          <a:xfrm>
            <a:off x="6705720" y="6456240"/>
            <a:ext cx="1000080" cy="382680"/>
          </a:xfrm>
          <a:prstGeom prst="rect">
            <a:avLst/>
          </a:prstGeom>
          <a:ln w="0">
            <a:noFill/>
          </a:ln>
        </p:spPr>
      </p:pic>
      <p:pic>
        <p:nvPicPr>
          <p:cNvPr id="492" name="그림 7" descr="ketep_logo_3.JPG"/>
          <p:cNvPicPr/>
          <p:nvPr/>
        </p:nvPicPr>
        <p:blipFill>
          <a:blip r:embed="rId4"/>
          <a:stretch/>
        </p:blipFill>
        <p:spPr>
          <a:xfrm>
            <a:off x="7743960" y="6369120"/>
            <a:ext cx="1357200" cy="4507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360-CE09-43FE-A4D0-50BE40B5400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C9CF-C9E6-47D9-BA7C-1003972E7BE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81F-BC0E-401A-8188-0B8B1D825F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ABD4-40B2-4F8D-847B-C04E6F4A781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0A8-B65E-4F3F-884F-75782C17D5A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7FF-3472-411D-9142-835CEA877E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270D-A525-46D7-A7B1-5842EF3A0A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85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8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" descr="003"/>
          <p:cNvPicPr/>
          <p:nvPr/>
        </p:nvPicPr>
        <p:blipFill>
          <a:blip r:embed="rId1"/>
          <a:stretch/>
        </p:blipFill>
        <p:spPr>
          <a:xfrm>
            <a:off x="3460680" y="3941640"/>
            <a:ext cx="1683000" cy="1987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004"/>
          <p:cNvPicPr/>
          <p:nvPr/>
        </p:nvPicPr>
        <p:blipFill>
          <a:blip r:embed="rId2"/>
          <a:stretch/>
        </p:blipFill>
        <p:spPr>
          <a:xfrm>
            <a:off x="7964640" y="3397320"/>
            <a:ext cx="933120" cy="1152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4"/>
          <p:cNvPicPr/>
          <p:nvPr/>
        </p:nvPicPr>
        <p:blipFill>
          <a:blip r:embed="rId3"/>
          <a:stretch/>
        </p:blipFill>
        <p:spPr>
          <a:xfrm>
            <a:off x="2655720" y="4824360"/>
            <a:ext cx="933480" cy="1152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001"/>
          <p:cNvPicPr/>
          <p:nvPr/>
        </p:nvPicPr>
        <p:blipFill>
          <a:blip r:embed="rId4"/>
          <a:srcRect l="0" t="0" r="0" b="3431"/>
          <a:stretch/>
        </p:blipFill>
        <p:spPr>
          <a:xfrm>
            <a:off x="419040" y="3643200"/>
            <a:ext cx="2035080" cy="2428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002"/>
          <p:cNvPicPr/>
          <p:nvPr/>
        </p:nvPicPr>
        <p:blipFill>
          <a:blip r:embed="rId5"/>
          <a:srcRect l="0" t="0" r="0" b="3753"/>
          <a:stretch/>
        </p:blipFill>
        <p:spPr>
          <a:xfrm>
            <a:off x="5851440" y="3097080"/>
            <a:ext cx="2435400" cy="2981520"/>
          </a:xfrm>
          <a:prstGeom prst="rect">
            <a:avLst/>
          </a:prstGeom>
          <a:ln w="0">
            <a:noFill/>
          </a:ln>
        </p:spPr>
      </p:pic>
      <p:grpSp>
        <p:nvGrpSpPr>
          <p:cNvPr id="543" name="그룹 10"/>
          <p:cNvGrpSpPr/>
          <p:nvPr/>
        </p:nvGrpSpPr>
        <p:grpSpPr>
          <a:xfrm>
            <a:off x="428760" y="911160"/>
            <a:ext cx="8572320" cy="4960800"/>
            <a:chOff x="428760" y="911160"/>
            <a:chExt cx="8572320" cy="4960800"/>
          </a:xfrm>
        </p:grpSpPr>
        <p:sp>
          <p:nvSpPr>
            <p:cNvPr id="544" name="WordArt 12"/>
            <p:cNvSpPr txBox="1"/>
            <p:nvPr/>
          </p:nvSpPr>
          <p:spPr>
            <a:xfrm>
              <a:off x="1395000" y="911160"/>
              <a:ext cx="6606000" cy="110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0">
                    <a:noFill/>
                  </a:ln>
                  <a:solidFill>
                    <a:srgbClr val="333333"/>
                  </a:solidFill>
                  <a:latin typeface="HY헤드라인M"/>
                </a:rPr>
                <a:t> </a:t>
              </a:r>
              <a:endParaRPr b="0" lang="en-US" sz="4400" spc="1" strike="noStrike">
                <a:ln w="0">
                  <a:noFill/>
                </a:ln>
                <a:solidFill>
                  <a:srgbClr val="333333"/>
                </a:solidFill>
                <a:latin typeface="HY헤드라인M"/>
                <a:ea typeface="HY헤드라인M"/>
              </a:endParaRPr>
            </a:p>
          </p:txBody>
        </p:sp>
        <p:sp>
          <p:nvSpPr>
            <p:cNvPr id="545" name="Text Box 33"/>
            <p:cNvSpPr/>
            <p:nvPr/>
          </p:nvSpPr>
          <p:spPr>
            <a:xfrm>
              <a:off x="428760" y="3857760"/>
              <a:ext cx="8572320" cy="2014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Korea Institute of Energy Technology Evaluation and Planning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 April, 201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46" name="TextBox 12" descr=""/>
          <p:cNvPicPr/>
          <p:nvPr/>
        </p:nvPicPr>
        <p:blipFill>
          <a:blip r:embed="rId6"/>
          <a:stretch/>
        </p:blipFill>
        <p:spPr>
          <a:xfrm>
            <a:off x="523800" y="858960"/>
            <a:ext cx="844416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5" descr="arr003"/>
          <p:cNvPicPr/>
          <p:nvPr/>
        </p:nvPicPr>
        <p:blipFill>
          <a:blip r:embed="rId1"/>
          <a:stretch/>
        </p:blipFill>
        <p:spPr>
          <a:xfrm>
            <a:off x="106200" y="2714760"/>
            <a:ext cx="9109080" cy="135720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187"/>
          <p:cNvSpPr/>
          <p:nvPr/>
        </p:nvSpPr>
        <p:spPr>
          <a:xfrm>
            <a:off x="3214800" y="4313160"/>
            <a:ext cx="2439720" cy="6159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Start roadmap bas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Mid-Large projects </a:t>
            </a:r>
            <a:r>
              <a:rPr b="0" lang="ko-KR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Expansion o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jor companies’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articipation (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Establish domesti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roduct line system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271440" indent="-96840">
              <a:lnSpc>
                <a:spcPct val="14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Establishment of P-Si Production line(</a:t>
            </a:r>
            <a:r>
              <a:rPr b="0" lang="en-US" sz="1200" spc="-1" strike="noStrike">
                <a:solidFill>
                  <a:srgbClr val="953735"/>
                </a:solidFill>
                <a:latin typeface="굴림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08, OCI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AutoShape 43"/>
          <p:cNvSpPr/>
          <p:nvPr/>
        </p:nvSpPr>
        <p:spPr>
          <a:xfrm>
            <a:off x="285840" y="4357800"/>
            <a:ext cx="2651040" cy="7142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Start</a:t>
            </a:r>
            <a:r>
              <a:rPr b="0" lang="ko-KR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Research develop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Sponsored by govern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stitute and University focus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asic research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Small and medium sized industry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ased short term researc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271440" indent="-96840">
              <a:lnSpc>
                <a:spcPct val="14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Establish Solar Cell product line(</a:t>
            </a:r>
            <a:r>
              <a:rPr b="0" lang="en-US" sz="1200" spc="-1" strike="noStrike">
                <a:solidFill>
                  <a:srgbClr val="953735"/>
                </a:solidFill>
                <a:latin typeface="맑은 고딕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03, KP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AutoShape 32"/>
          <p:cNvSpPr/>
          <p:nvPr/>
        </p:nvSpPr>
        <p:spPr>
          <a:xfrm>
            <a:off x="6122880" y="3656160"/>
            <a:ext cx="2748240" cy="7016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Promote it as the growth pow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Of next gener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Green Energy Developmen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rategy Roadmap (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9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Securing domestic market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omination of international mark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3" marL="271440" indent="-96840">
              <a:lnSpc>
                <a:spcPct val="14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Progress localization of equipmen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3" marL="271440" indent="-96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In priority (after</a:t>
            </a:r>
            <a:r>
              <a:rPr b="0" lang="en-US" sz="1200" spc="-1" strike="noStrike">
                <a:solidFill>
                  <a:srgbClr val="953735"/>
                </a:solidFill>
                <a:latin typeface="굴림"/>
                <a:ea typeface="HY헤드라인M"/>
              </a:rPr>
              <a:t>’</a:t>
            </a:r>
            <a:r>
              <a:rPr b="0" lang="en-US" sz="1200" spc="-1" strike="noStrike">
                <a:solidFill>
                  <a:srgbClr val="953735"/>
                </a:solidFill>
                <a:latin typeface="HY헤드라인M"/>
                <a:ea typeface="HY헤드라인M"/>
              </a:rPr>
              <a:t>08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3" marL="271440" indent="-96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TextBox 9"/>
          <p:cNvSpPr/>
          <p:nvPr/>
        </p:nvSpPr>
        <p:spPr>
          <a:xfrm>
            <a:off x="357120" y="3357720"/>
            <a:ext cx="255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3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Research 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asic and Applic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TextBox 10"/>
          <p:cNvSpPr/>
          <p:nvPr/>
        </p:nvSpPr>
        <p:spPr>
          <a:xfrm>
            <a:off x="3406320" y="3000240"/>
            <a:ext cx="217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8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Groundwork o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mmercial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TextBox 11"/>
          <p:cNvSpPr/>
          <p:nvPr/>
        </p:nvSpPr>
        <p:spPr>
          <a:xfrm>
            <a:off x="6429240" y="2643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HY헤드라인M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08~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Expor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dustrial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3" name="Picture 97" descr="표지-하살표2"/>
          <p:cNvPicPr/>
          <p:nvPr/>
        </p:nvPicPr>
        <p:blipFill>
          <a:blip r:embed="rId2"/>
          <a:stretch/>
        </p:blipFill>
        <p:spPr>
          <a:xfrm>
            <a:off x="208080" y="3206880"/>
            <a:ext cx="498240" cy="50616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110"/>
          <p:cNvSpPr/>
          <p:nvPr/>
        </p:nvSpPr>
        <p:spPr>
          <a:xfrm>
            <a:off x="214200" y="2428920"/>
            <a:ext cx="2786040" cy="785880"/>
          </a:xfrm>
          <a:prstGeom prst="roundRect">
            <a:avLst>
              <a:gd name="adj" fmla="val 12176"/>
            </a:avLst>
          </a:prstGeom>
          <a:solidFill>
            <a:srgbClr val="dce6f2">
              <a:alpha val="88000"/>
            </a:srgbClr>
          </a:solidFill>
          <a:ln w="2844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‘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88 Enactment o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Alternative 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 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Development A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5" name="Picture 97" descr="표지-하살표2"/>
          <p:cNvPicPr/>
          <p:nvPr/>
        </p:nvPicPr>
        <p:blipFill>
          <a:blip r:embed="rId3"/>
          <a:stretch/>
        </p:blipFill>
        <p:spPr>
          <a:xfrm>
            <a:off x="3193920" y="2676600"/>
            <a:ext cx="519120" cy="61596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110"/>
          <p:cNvSpPr/>
          <p:nvPr/>
        </p:nvSpPr>
        <p:spPr>
          <a:xfrm>
            <a:off x="3071880" y="1857240"/>
            <a:ext cx="2928960" cy="785880"/>
          </a:xfrm>
          <a:prstGeom prst="roundRect">
            <a:avLst>
              <a:gd name="adj" fmla="val 12176"/>
            </a:avLst>
          </a:prstGeom>
          <a:solidFill>
            <a:srgbClr val="dce6f2">
              <a:alpha val="88000"/>
            </a:srgbClr>
          </a:solidFill>
          <a:ln w="28440">
            <a:solidFill>
              <a:srgbClr val="5cfd1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’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03 Launch o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Research Cente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(Progress Projec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7" name="Picture 97" descr="표지-하살표2"/>
          <p:cNvPicPr/>
          <p:nvPr/>
        </p:nvPicPr>
        <p:blipFill>
          <a:blip r:embed="rId4"/>
          <a:stretch/>
        </p:blipFill>
        <p:spPr>
          <a:xfrm>
            <a:off x="6192720" y="2249640"/>
            <a:ext cx="532080" cy="68256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110"/>
          <p:cNvSpPr/>
          <p:nvPr/>
        </p:nvSpPr>
        <p:spPr>
          <a:xfrm>
            <a:off x="6000840" y="1143000"/>
            <a:ext cx="2928960" cy="1071720"/>
          </a:xfrm>
          <a:prstGeom prst="roundRect">
            <a:avLst>
              <a:gd name="adj" fmla="val 12176"/>
            </a:avLst>
          </a:prstGeom>
          <a:solidFill>
            <a:srgbClr val="dce6f2">
              <a:alpha val="88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’</a:t>
            </a:r>
            <a:r>
              <a:rPr b="0" lang="en-US" sz="1600" spc="-1" strike="noStrike">
                <a:solidFill>
                  <a:srgbClr val="17375e"/>
                </a:solidFill>
                <a:latin typeface="맑은 고딕"/>
                <a:ea typeface="HY울릉도M"/>
              </a:rPr>
              <a:t>08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 Reorganization o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Program Progress System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(detailed program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‘</a:t>
            </a:r>
            <a:r>
              <a:rPr b="0" lang="en-US" sz="1600" spc="-1" strike="noStrike">
                <a:solidFill>
                  <a:srgbClr val="17375e"/>
                </a:solidFill>
                <a:latin typeface="HY울릉도M"/>
                <a:ea typeface="HY울릉도M"/>
              </a:rPr>
              <a:t>09 KETEP establish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TextBox 18"/>
          <p:cNvSpPr/>
          <p:nvPr/>
        </p:nvSpPr>
        <p:spPr>
          <a:xfrm>
            <a:off x="209520" y="500040"/>
            <a:ext cx="4940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Background of Photovoltaic R&amp;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Box 25"/>
          <p:cNvSpPr/>
          <p:nvPr/>
        </p:nvSpPr>
        <p:spPr>
          <a:xfrm>
            <a:off x="167760" y="500040"/>
            <a:ext cx="42663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Government Funding for PV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TextBox 14"/>
          <p:cNvSpPr/>
          <p:nvPr/>
        </p:nvSpPr>
        <p:spPr>
          <a:xfrm>
            <a:off x="1928880" y="542916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l (USD)                   50              100             150              200             25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TextBox 16"/>
          <p:cNvSpPr/>
          <p:nvPr/>
        </p:nvSpPr>
        <p:spPr>
          <a:xfrm>
            <a:off x="2003400" y="1571760"/>
            <a:ext cx="48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3" name="차트 2"/>
          <p:cNvGraphicFramePr/>
          <p:nvPr/>
        </p:nvGraphicFramePr>
        <p:xfrm>
          <a:off x="1714680" y="1500120"/>
          <a:ext cx="578628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차트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500120"/>
                    <a:ext cx="578628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25"/>
          <p:cNvSpPr/>
          <p:nvPr/>
        </p:nvSpPr>
        <p:spPr>
          <a:xfrm>
            <a:off x="285840" y="500040"/>
            <a:ext cx="8501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Funding for Types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f Technology in PV Cell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6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347760" y="11574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4"/>
          <p:cNvSpPr/>
          <p:nvPr/>
        </p:nvSpPr>
        <p:spPr>
          <a:xfrm>
            <a:off x="725400" y="121428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009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Total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57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rojects</a:t>
            </a:r>
            <a:r>
              <a:rPr b="1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Rectangle 74"/>
          <p:cNvSpPr/>
          <p:nvPr/>
        </p:nvSpPr>
        <p:spPr>
          <a:xfrm>
            <a:off x="785880" y="1571760"/>
            <a:ext cx="835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Decrease in  crystalline</a:t>
            </a:r>
            <a:r>
              <a:rPr b="1" lang="ko-KR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V( </a:t>
            </a:r>
            <a:r>
              <a:rPr b="1" lang="en-US" sz="1500" spc="-1" strike="noStrike">
                <a:solidFill>
                  <a:srgbClr val="000066"/>
                </a:solidFill>
                <a:latin typeface="맑은 고딕"/>
                <a:ea typeface="맑은 고딕"/>
              </a:rPr>
              <a:t>‘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07. 74% → </a:t>
            </a:r>
            <a:r>
              <a:rPr b="1" lang="en-US" sz="1500" spc="-1" strike="noStrike">
                <a:solidFill>
                  <a:srgbClr val="000066"/>
                </a:solidFill>
                <a:latin typeface="맑은 고딕"/>
                <a:ea typeface="맑은 고딕"/>
              </a:rPr>
              <a:t>’</a:t>
            </a: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09. 45%), significant increase in thin fil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9" name="Picture 157" descr="k-57"/>
          <p:cNvPicPr/>
          <p:nvPr/>
        </p:nvPicPr>
        <p:blipFill>
          <a:blip r:embed="rId2"/>
          <a:stretch/>
        </p:blipFill>
        <p:spPr>
          <a:xfrm>
            <a:off x="714240" y="1643040"/>
            <a:ext cx="12888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0" name=""/>
          <p:cNvGraphicFramePr/>
          <p:nvPr/>
        </p:nvGraphicFramePr>
        <p:xfrm>
          <a:off x="357120" y="1878120"/>
          <a:ext cx="8358120" cy="4457520"/>
        </p:xfrm>
        <a:graphic>
          <a:graphicData uri="http://schemas.openxmlformats.org/drawingml/2006/table">
            <a:tbl>
              <a:tblPr/>
              <a:tblGrid>
                <a:gridCol w="1214640"/>
                <a:gridCol w="730080"/>
                <a:gridCol w="127080"/>
                <a:gridCol w="785880"/>
                <a:gridCol w="141120"/>
                <a:gridCol w="430200"/>
                <a:gridCol w="785880"/>
                <a:gridCol w="585720"/>
                <a:gridCol w="271440"/>
                <a:gridCol w="714600"/>
                <a:gridCol w="857160"/>
                <a:gridCol w="155520"/>
                <a:gridCol w="701640"/>
                <a:gridCol w="857160"/>
              </a:tblGrid>
              <a:tr h="32004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mil 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200">
                <a:tc row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5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26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rystalline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7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4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morphous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 thin fi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426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ye-sensiti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rga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ce6f2">
                        <a:alpha val="73000"/>
                      </a:srgbClr>
                    </a:solidFill>
                  </a:tcPr>
                </a:tc>
              </a:tr>
              <a:tr h="3412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25"/>
          <p:cNvSpPr/>
          <p:nvPr/>
        </p:nvSpPr>
        <p:spPr>
          <a:xfrm>
            <a:off x="378360" y="500040"/>
            <a:ext cx="6456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funding for types of PV value chai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2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347760" y="11574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74"/>
          <p:cNvSpPr/>
          <p:nvPr/>
        </p:nvSpPr>
        <p:spPr>
          <a:xfrm>
            <a:off x="375840" y="1214280"/>
            <a:ext cx="81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Expansion from focus on </a:t>
            </a:r>
            <a:r>
              <a:rPr b="1" lang="en-US" sz="20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components</a:t>
            </a: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 and materials into equip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Rectangle 74"/>
          <p:cNvSpPr/>
          <p:nvPr/>
        </p:nvSpPr>
        <p:spPr>
          <a:xfrm>
            <a:off x="734760" y="1611360"/>
            <a:ext cx="53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Component/material  :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007(97.2%) → 2009(72.1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5" name="Picture 157" descr="k-57"/>
          <p:cNvPicPr/>
          <p:nvPr/>
        </p:nvPicPr>
        <p:blipFill>
          <a:blip r:embed="rId2"/>
          <a:stretch/>
        </p:blipFill>
        <p:spPr>
          <a:xfrm>
            <a:off x="714240" y="1714680"/>
            <a:ext cx="128880" cy="14256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74"/>
          <p:cNvSpPr/>
          <p:nvPr/>
        </p:nvSpPr>
        <p:spPr>
          <a:xfrm>
            <a:off x="771480" y="1962000"/>
            <a:ext cx="56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anufacturing equipment  :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007(0%)  → 2009(26.0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7" name="Picture 157" descr="k-57"/>
          <p:cNvPicPr/>
          <p:nvPr/>
        </p:nvPicPr>
        <p:blipFill>
          <a:blip r:embed="rId3"/>
          <a:stretch/>
        </p:blipFill>
        <p:spPr>
          <a:xfrm>
            <a:off x="706320" y="2071800"/>
            <a:ext cx="12888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8" name=""/>
          <p:cNvGraphicFramePr/>
          <p:nvPr/>
        </p:nvGraphicFramePr>
        <p:xfrm>
          <a:off x="357120" y="2286000"/>
          <a:ext cx="8383680" cy="3795840"/>
        </p:xfrm>
        <a:graphic>
          <a:graphicData uri="http://schemas.openxmlformats.org/drawingml/2006/table">
            <a:tbl>
              <a:tblPr/>
              <a:tblGrid>
                <a:gridCol w="1258920"/>
                <a:gridCol w="685800"/>
                <a:gridCol w="127080"/>
                <a:gridCol w="779400"/>
                <a:gridCol w="147600"/>
                <a:gridCol w="573120"/>
                <a:gridCol w="857160"/>
                <a:gridCol w="371520"/>
                <a:gridCol w="438120"/>
                <a:gridCol w="690840"/>
                <a:gridCol w="895320"/>
                <a:gridCol w="890280"/>
                <a:gridCol w="668520"/>
              </a:tblGrid>
              <a:tr h="36972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mil 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row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5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108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3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Project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320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omponent, 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9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7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7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Manu-facturing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84807"/>
                          </a:solidFill>
                          <a:latin typeface="휴먼엑스포"/>
                          <a:ea typeface="휴먼엑스포"/>
                        </a:rPr>
                        <a:t>2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3.79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36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Box 10"/>
          <p:cNvSpPr/>
          <p:nvPr/>
        </p:nvSpPr>
        <p:spPr>
          <a:xfrm>
            <a:off x="258480" y="500040"/>
            <a:ext cx="4505760" cy="429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Major Projects in PV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Rectangle 74"/>
          <p:cNvSpPr/>
          <p:nvPr/>
        </p:nvSpPr>
        <p:spPr>
          <a:xfrm>
            <a:off x="615960" y="1035000"/>
            <a:ext cx="64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roject in Types of Technology and Research Organiz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Rectangle 74"/>
          <p:cNvSpPr/>
          <p:nvPr/>
        </p:nvSpPr>
        <p:spPr>
          <a:xfrm>
            <a:off x="775800" y="1382760"/>
            <a:ext cx="46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</a:t>
            </a:r>
            <a:r>
              <a:rPr b="0" lang="en-US" sz="1600" spc="-1" strike="noStrike">
                <a:solidFill>
                  <a:srgbClr val="ffc000"/>
                </a:solidFill>
                <a:latin typeface="휴먼모음T"/>
                <a:ea typeface="휴먼모음T"/>
              </a:rPr>
              <a:t>(Past)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Focused on developing crystalline Si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PV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Rectangle 74"/>
          <p:cNvSpPr/>
          <p:nvPr/>
        </p:nvSpPr>
        <p:spPr>
          <a:xfrm>
            <a:off x="832320" y="1643040"/>
            <a:ext cx="7329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</a:t>
            </a:r>
            <a:r>
              <a:rPr b="0" lang="en-US" sz="1600" spc="-1" strike="noStrike">
                <a:solidFill>
                  <a:srgbClr val="ffc000"/>
                </a:solidFill>
                <a:latin typeface="휴먼모음T"/>
                <a:ea typeface="휴먼모음T"/>
              </a:rPr>
              <a:t>(Present)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·Leading corporations participating in developing thin film PV, including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amorphous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Si thin film, CIGS,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dye-sensitiz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·Development of crystalline Si PV production equipment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and low-cost and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high-efficiency technologi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357120" y="3251160"/>
          <a:ext cx="8358120" cy="3106800"/>
        </p:xfrm>
        <a:graphic>
          <a:graphicData uri="http://schemas.openxmlformats.org/drawingml/2006/table">
            <a:tbl>
              <a:tblPr/>
              <a:tblGrid>
                <a:gridCol w="1071720"/>
                <a:gridCol w="1643040"/>
                <a:gridCol w="5643360"/>
              </a:tblGrid>
              <a:tr h="356040">
                <a:tc gridSpan="2">
                  <a:txBody>
                    <a:bodyPr lIns="64800" rIns="64800" tIns="18000" bIns="18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Types of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Research 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45680">
                <a:tc rowSpan="3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rystalline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 raw 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Renew Energy(MG Si), Mirinet Solar(UMG), Innovation Silicon(UMG)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Korea Institute of Industrial Technology(Poly S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ingot, wa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Glosil(policyrstalline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ingo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olar cell,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yundai Heavy Industry(rear electrode), S&amp;T(cell, equipment)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 Energy(subtrate module, equipmen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morphous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i thin fi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amsung Electronics(heterojuction), LG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Electronic (Triple junction)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TG Solar(Poly Si thin film), Korea Institute of Energy Research(KIER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G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Innotech(cell), S&amp;U Precision(equipment), K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ye-Sensitiz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ongjin Semi-Chem(cell), KIST, ET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Orga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GIST, KRICT, KI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4" name="TextBox 14"/>
          <p:cNvSpPr/>
          <p:nvPr/>
        </p:nvSpPr>
        <p:spPr>
          <a:xfrm>
            <a:off x="3120120" y="287640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R&amp;D projects in 2009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5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266760" y="996840"/>
            <a:ext cx="296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25"/>
          <p:cNvSpPr/>
          <p:nvPr/>
        </p:nvSpPr>
        <p:spPr>
          <a:xfrm>
            <a:off x="232200" y="500040"/>
            <a:ext cx="3407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Major Project Survey 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7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262080" y="11430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74"/>
          <p:cNvSpPr/>
          <p:nvPr/>
        </p:nvSpPr>
        <p:spPr>
          <a:xfrm>
            <a:off x="500040" y="11793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Development of large area (above 4 inch) high-efficiency cell us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amorphous/crystalline silicon heterojun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Rectangle 74"/>
          <p:cNvSpPr/>
          <p:nvPr/>
        </p:nvSpPr>
        <p:spPr>
          <a:xfrm>
            <a:off x="495360" y="1608120"/>
            <a:ext cx="23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Rectangle 74"/>
          <p:cNvSpPr/>
          <p:nvPr/>
        </p:nvSpPr>
        <p:spPr>
          <a:xfrm>
            <a:off x="511200" y="21430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Partners: Lexu, Dongjin Semi-Chem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Rectangle 74"/>
          <p:cNvSpPr/>
          <p:nvPr/>
        </p:nvSpPr>
        <p:spPr>
          <a:xfrm>
            <a:off x="344880" y="2557440"/>
            <a:ext cx="84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photoelectrochemical efficiency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above 22% (1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㎠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), 19% abo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(&gt;100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㎠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Rectangle 74"/>
          <p:cNvSpPr/>
          <p:nvPr/>
        </p:nvSpPr>
        <p:spPr>
          <a:xfrm>
            <a:off x="460440" y="2963880"/>
            <a:ext cx="69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13 M$(Gov. 6 M$)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Rectangle 74"/>
          <p:cNvSpPr/>
          <p:nvPr/>
        </p:nvSpPr>
        <p:spPr>
          <a:xfrm>
            <a:off x="511200" y="17892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Main Researcher: Samsung Electronic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39" descr="011"/>
          <p:cNvPicPr/>
          <p:nvPr/>
        </p:nvPicPr>
        <p:blipFill>
          <a:blip r:embed="rId2">
            <a:lum contrast="24000"/>
          </a:blip>
          <a:srcRect l="0" t="0" r="92837" b="77009"/>
          <a:stretch/>
        </p:blipFill>
        <p:spPr>
          <a:xfrm>
            <a:off x="262080" y="360216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74"/>
          <p:cNvSpPr/>
          <p:nvPr/>
        </p:nvSpPr>
        <p:spPr>
          <a:xfrm>
            <a:off x="294480" y="3638520"/>
            <a:ext cx="90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Production technology development of low-cost large area 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thin film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Si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PV 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Rectangle 74"/>
          <p:cNvSpPr/>
          <p:nvPr/>
        </p:nvSpPr>
        <p:spPr>
          <a:xfrm>
            <a:off x="446040" y="4357800"/>
            <a:ext cx="86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Research Partners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G Electronics, 3M Korea, KCC, DMS, JS ENG, Abaco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                              Cham&amp;C,  YS Sum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74"/>
          <p:cNvSpPr/>
          <p:nvPr/>
        </p:nvSpPr>
        <p:spPr>
          <a:xfrm>
            <a:off x="412200" y="4962600"/>
            <a:ext cx="71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Stabilization efficiency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12% beyond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(2.2m×2.8m),  0.8$/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446040" y="4000680"/>
            <a:ext cx="86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Main Researcher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Rectangle 74"/>
          <p:cNvSpPr/>
          <p:nvPr/>
        </p:nvSpPr>
        <p:spPr>
          <a:xfrm>
            <a:off x="500040" y="5391000"/>
            <a:ext cx="69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34 M$(Gov. 20.8 M$)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25"/>
          <p:cNvSpPr/>
          <p:nvPr/>
        </p:nvSpPr>
        <p:spPr>
          <a:xfrm>
            <a:off x="205920" y="500040"/>
            <a:ext cx="351072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Major Project Survey I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1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262080" y="114300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74"/>
          <p:cNvSpPr/>
          <p:nvPr/>
        </p:nvSpPr>
        <p:spPr>
          <a:xfrm>
            <a:off x="293760" y="114300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Glass board 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CIGS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type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thin film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solar cell module</a:t>
            </a:r>
            <a:r>
              <a:rPr b="1" lang="ko-KR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production technolog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Rectangle 74"/>
          <p:cNvSpPr/>
          <p:nvPr/>
        </p:nvSpPr>
        <p:spPr>
          <a:xfrm>
            <a:off x="486720" y="1500120"/>
            <a:ext cx="34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Main Researcher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G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Inno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Rectangle 74"/>
          <p:cNvSpPr/>
          <p:nvPr/>
        </p:nvSpPr>
        <p:spPr>
          <a:xfrm>
            <a:off x="596880" y="1857240"/>
            <a:ext cx="70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Partner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3M Korea, KCC, DMS, JS ENG, Abaco, Cham&amp;C, YS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Sum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Rectangle 74"/>
          <p:cNvSpPr/>
          <p:nvPr/>
        </p:nvSpPr>
        <p:spPr>
          <a:xfrm>
            <a:off x="511200" y="2273400"/>
            <a:ext cx="809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37×47 cm2 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odul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16%, 60×120 cm2 modul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14%,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                proto type for mass production  (30MW/y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Rectangle 74"/>
          <p:cNvSpPr/>
          <p:nvPr/>
        </p:nvSpPr>
        <p:spPr>
          <a:xfrm>
            <a:off x="533520" y="2962440"/>
            <a:ext cx="69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- 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21.3 M$(Gov. 13.8 M$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39" descr="011"/>
          <p:cNvPicPr/>
          <p:nvPr/>
        </p:nvPicPr>
        <p:blipFill>
          <a:blip r:embed="rId2">
            <a:lum contrast="24000"/>
          </a:blip>
          <a:srcRect l="0" t="0" r="92837" b="77009"/>
          <a:stretch/>
        </p:blipFill>
        <p:spPr>
          <a:xfrm>
            <a:off x="262080" y="3571920"/>
            <a:ext cx="296640" cy="5032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74"/>
          <p:cNvSpPr/>
          <p:nvPr/>
        </p:nvSpPr>
        <p:spPr>
          <a:xfrm>
            <a:off x="517680" y="3619440"/>
            <a:ext cx="90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휴먼모음T"/>
                <a:ea typeface="휴먼모음T"/>
              </a:rPr>
              <a:t>Development of low-cost/high-efficiency equipment for crystalline Si solar 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Rectangle 74"/>
          <p:cNvSpPr/>
          <p:nvPr/>
        </p:nvSpPr>
        <p:spPr>
          <a:xfrm>
            <a:off x="412560" y="3973680"/>
            <a:ext cx="26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ain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Researcher: S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Rectangle 74"/>
          <p:cNvSpPr/>
          <p:nvPr/>
        </p:nvSpPr>
        <p:spPr>
          <a:xfrm>
            <a:off x="473040" y="4359240"/>
            <a:ext cx="852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Objective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: localizing in-line production equipment of 50MW/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(mono-c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&gt;17.5%, poly-c</a:t>
            </a:r>
            <a:r>
              <a:rPr b="1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&gt;17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Rectangle 74"/>
          <p:cNvSpPr/>
          <p:nvPr/>
        </p:nvSpPr>
        <p:spPr>
          <a:xfrm>
            <a:off x="379440" y="4975200"/>
            <a:ext cx="729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Conducting project Special Purpose Corporation (SPC) for promoting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the  commercialization of the proj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Rectangle 74"/>
          <p:cNvSpPr/>
          <p:nvPr/>
        </p:nvSpPr>
        <p:spPr>
          <a:xfrm>
            <a:off x="598680" y="5676840"/>
            <a:ext cx="3121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휴먼모음T"/>
                <a:ea typeface="휴먼모음T"/>
              </a:rPr>
              <a:t>- </a:t>
            </a:r>
            <a:r>
              <a:rPr b="1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Budget : </a:t>
            </a:r>
            <a:r>
              <a:rPr b="1" lang="en-US" sz="16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24 M$(Gov. 17 M$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그림 7" descr="111.png"/>
          <p:cNvPicPr/>
          <p:nvPr/>
        </p:nvPicPr>
        <p:blipFill>
          <a:blip r:embed="rId1"/>
          <a:stretch/>
        </p:blipFill>
        <p:spPr>
          <a:xfrm>
            <a:off x="214200" y="3643200"/>
            <a:ext cx="2003400" cy="3286080"/>
          </a:xfrm>
          <a:prstGeom prst="rect">
            <a:avLst/>
          </a:prstGeom>
          <a:ln w="0">
            <a:noFill/>
          </a:ln>
        </p:spPr>
      </p:pic>
      <p:pic>
        <p:nvPicPr>
          <p:cNvPr id="804" name="그림 9" descr="con-bar.png"/>
          <p:cNvPicPr/>
          <p:nvPr/>
        </p:nvPicPr>
        <p:blipFill>
          <a:blip r:embed="rId2"/>
          <a:stretch/>
        </p:blipFill>
        <p:spPr>
          <a:xfrm>
            <a:off x="2643120" y="3286080"/>
            <a:ext cx="6500880" cy="1000080"/>
          </a:xfrm>
          <a:prstGeom prst="rect">
            <a:avLst/>
          </a:prstGeom>
          <a:ln w="0">
            <a:noFill/>
          </a:ln>
        </p:spPr>
      </p:pic>
      <p:sp>
        <p:nvSpPr>
          <p:cNvPr id="805" name="TextBox 10"/>
          <p:cNvSpPr/>
          <p:nvPr/>
        </p:nvSpPr>
        <p:spPr>
          <a:xfrm>
            <a:off x="4353120" y="3533760"/>
            <a:ext cx="45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V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ployment &amp; Indust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Box 11"/>
          <p:cNvSpPr/>
          <p:nvPr/>
        </p:nvSpPr>
        <p:spPr>
          <a:xfrm>
            <a:off x="3297960" y="3497400"/>
            <a:ext cx="5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Box 10"/>
          <p:cNvSpPr/>
          <p:nvPr/>
        </p:nvSpPr>
        <p:spPr>
          <a:xfrm>
            <a:off x="264600" y="500040"/>
            <a:ext cx="38048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Status of PV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39" descr="011"/>
          <p:cNvPicPr/>
          <p:nvPr/>
        </p:nvPicPr>
        <p:blipFill>
          <a:blip r:embed="rId1">
            <a:lum contrast="24000"/>
          </a:blip>
          <a:srcRect l="0" t="0" r="92837" b="77009"/>
          <a:stretch/>
        </p:blipFill>
        <p:spPr>
          <a:xfrm>
            <a:off x="345960" y="1214280"/>
            <a:ext cx="297000" cy="5032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74"/>
          <p:cNvSpPr/>
          <p:nvPr/>
        </p:nvSpPr>
        <p:spPr>
          <a:xfrm>
            <a:off x="609480" y="1285920"/>
            <a:ext cx="7605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275MW of PV system installed</a:t>
            </a:r>
            <a:r>
              <a:rPr b="0" lang="ko-KR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in 2008 (354MW accumulate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Market share of domestic module : 22% in commercial power plant,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                               85%</a:t>
            </a:r>
            <a:r>
              <a:rPr b="0" lang="ko-KR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모음T"/>
                <a:ea typeface="휴먼모음T"/>
              </a:rPr>
              <a:t>in non-commercial pla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428760" y="3000240"/>
          <a:ext cx="8256600" cy="3273480"/>
        </p:xfrm>
        <a:graphic>
          <a:graphicData uri="http://schemas.openxmlformats.org/drawingml/2006/table">
            <a:tbl>
              <a:tblPr/>
              <a:tblGrid>
                <a:gridCol w="1357200"/>
                <a:gridCol w="1085760"/>
                <a:gridCol w="271440"/>
                <a:gridCol w="1171800"/>
                <a:gridCol w="114120"/>
                <a:gridCol w="1328760"/>
                <a:gridCol w="1452600"/>
                <a:gridCol w="1474920"/>
              </a:tblGrid>
              <a:tr h="3574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 row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Type of PV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 gridSpan="7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Capacity (kW) [Domestic share (%)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83520" rIns="83520" tIns="0" bIns="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</a:tr>
              <a:tr h="7318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Commer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2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1.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,0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12.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,8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19.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59,110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22.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on-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,3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95.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,766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39.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3,2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38.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6,5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49.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6,5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휴먼엑스포"/>
                          <a:ea typeface="휴먼엑스포"/>
                        </a:rPr>
                        <a:t>(85.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,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2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5,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83520" rIns="8352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75,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3520" marR="8352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811" name="Rectangle 74"/>
          <p:cNvSpPr/>
          <p:nvPr/>
        </p:nvSpPr>
        <p:spPr>
          <a:xfrm>
            <a:off x="1400040" y="2452680"/>
            <a:ext cx="54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※ </a:t>
            </a:r>
            <a:r>
              <a:rPr b="0" lang="ko-KR" sz="16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Market share of module for commercial power plan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Rectangle 74"/>
          <p:cNvSpPr/>
          <p:nvPr/>
        </p:nvSpPr>
        <p:spPr>
          <a:xfrm>
            <a:off x="1275480" y="2786040"/>
            <a:ext cx="402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   </a:t>
            </a:r>
            <a:r>
              <a:rPr b="0" lang="en-US" sz="1500" spc="-1" strike="noStrike">
                <a:solidFill>
                  <a:srgbClr val="000066"/>
                </a:solidFill>
                <a:latin typeface="휴먼둥근헤드라인"/>
                <a:ea typeface="휴먼둥근헤드라인"/>
              </a:rPr>
              <a:t>- 20~25% among Korea, China, Japan, U.S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모서리가 둥근 직사각형 23"/>
          <p:cNvSpPr/>
          <p:nvPr/>
        </p:nvSpPr>
        <p:spPr>
          <a:xfrm>
            <a:off x="428760" y="2428920"/>
            <a:ext cx="8215200" cy="714240"/>
          </a:xfrm>
          <a:prstGeom prst="roundRect">
            <a:avLst>
              <a:gd name="adj" fmla="val 9556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Box 10"/>
          <p:cNvSpPr/>
          <p:nvPr/>
        </p:nvSpPr>
        <p:spPr>
          <a:xfrm>
            <a:off x="221400" y="500040"/>
            <a:ext cx="5403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Overview of Leading PV Compani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1361880" cy="15717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3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792000" cy="725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3"/>
          <a:stretch/>
        </p:blipFill>
        <p:spPr>
          <a:xfrm>
            <a:off x="7143840" y="114300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7"/>
          <p:cNvSpPr/>
          <p:nvPr/>
        </p:nvSpPr>
        <p:spPr>
          <a:xfrm>
            <a:off x="297000" y="2871720"/>
            <a:ext cx="8643960" cy="647640"/>
          </a:xfrm>
          <a:custGeom>
            <a:avLst/>
            <a:gdLst>
              <a:gd name="textAreaLeft" fmla="*/ 0 w 8643960"/>
              <a:gd name="textAreaRight" fmla="*/ 8643960 w 8643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95" y="0"/>
                </a:lnTo>
                <a:lnTo>
                  <a:pt x="21600" y="10800"/>
                </a:lnTo>
                <a:lnTo>
                  <a:pt x="2059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16200000"/>
          </a:gradFill>
          <a:ln w="25560">
            <a:solidFill>
              <a:srgbClr val="5e5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8"/>
          <p:cNvSpPr/>
          <p:nvPr/>
        </p:nvSpPr>
        <p:spPr>
          <a:xfrm>
            <a:off x="518760" y="304956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Poly-sil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9"/>
          <p:cNvSpPr/>
          <p:nvPr/>
        </p:nvSpPr>
        <p:spPr>
          <a:xfrm>
            <a:off x="2319480" y="2928960"/>
            <a:ext cx="68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Waf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Ing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5417640" y="30495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Solar 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Text Box 12"/>
          <p:cNvSpPr/>
          <p:nvPr/>
        </p:nvSpPr>
        <p:spPr>
          <a:xfrm>
            <a:off x="7273080" y="3049560"/>
            <a:ext cx="8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726000" y="30495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MS PGothic"/>
              </a:rPr>
              <a:t>Solar Ce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Rectangle 18"/>
          <p:cNvSpPr/>
          <p:nvPr/>
        </p:nvSpPr>
        <p:spPr>
          <a:xfrm>
            <a:off x="2286000" y="1935000"/>
            <a:ext cx="792000" cy="76068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5" name="Picture 19" descr="mc-Si solar cell"/>
          <p:cNvPicPr/>
          <p:nvPr/>
        </p:nvPicPr>
        <p:blipFill>
          <a:blip r:embed="rId4"/>
          <a:stretch/>
        </p:blipFill>
        <p:spPr>
          <a:xfrm>
            <a:off x="3884760" y="1143000"/>
            <a:ext cx="761760" cy="7650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21"/>
          <p:cNvSpPr/>
          <p:nvPr/>
        </p:nvSpPr>
        <p:spPr>
          <a:xfrm>
            <a:off x="428760" y="3714840"/>
            <a:ext cx="1357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OC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C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orea Sil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22"/>
          <p:cNvSpPr/>
          <p:nvPr/>
        </p:nvSpPr>
        <p:spPr>
          <a:xfrm>
            <a:off x="2143080" y="3751200"/>
            <a:ext cx="150012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iltr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ex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mart Ace</a:t>
            </a:r>
            <a:r>
              <a:rPr b="1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Woongjin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Glosi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Nexsol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Neo Semitec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Text Box 23"/>
          <p:cNvSpPr/>
          <p:nvPr/>
        </p:nvSpPr>
        <p:spPr>
          <a:xfrm>
            <a:off x="5286240" y="3714840"/>
            <a:ext cx="18576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D 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Hyundai Heavy I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ymphony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olar Tec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SI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3571920" y="3714840"/>
            <a:ext cx="17859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P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Hyundai Heavy I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Millinet 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TX</a:t>
            </a:r>
            <a:r>
              <a:rPr b="1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ISC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hinsung E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G electronic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Text Box 25"/>
          <p:cNvSpPr/>
          <p:nvPr/>
        </p:nvSpPr>
        <p:spPr>
          <a:xfrm>
            <a:off x="7130880" y="3714840"/>
            <a:ext cx="1727280" cy="30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KD Sol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Hyundai Heavy I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-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ymphony Energ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olar Tec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SI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LG C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Samsung C&amp;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AutoShape 205"/>
          <p:cNvSpPr/>
          <p:nvPr/>
        </p:nvSpPr>
        <p:spPr>
          <a:xfrm>
            <a:off x="285840" y="4786200"/>
            <a:ext cx="1785960" cy="1428840"/>
          </a:xfrm>
          <a:prstGeom prst="roundRect">
            <a:avLst>
              <a:gd name="adj" fmla="val 14972"/>
            </a:avLst>
          </a:prstGeom>
          <a:solidFill>
            <a:srgbClr val="dbebed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굴림"/>
              </a:rPr>
              <a:t>Joosung Engineer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F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17"/>
          <p:cNvSpPr/>
          <p:nvPr/>
        </p:nvSpPr>
        <p:spPr>
          <a:xfrm>
            <a:off x="415800" y="4762440"/>
            <a:ext cx="142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Arial Black"/>
                <a:ea typeface="MS PGothic"/>
              </a:rPr>
              <a:t>Manufacturing</a:t>
            </a:r>
            <a:br>
              <a:rPr sz="1400"/>
            </a:br>
            <a:r>
              <a:rPr b="0" lang="en-US" sz="1400" spc="-1" strike="noStrike">
                <a:solidFill>
                  <a:srgbClr val="17375e"/>
                </a:solidFill>
                <a:latin typeface="Arial Black"/>
                <a:ea typeface="MS PGothic"/>
              </a:rPr>
              <a:t> Equi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3" name="Picture 4" descr=""/>
          <p:cNvPicPr/>
          <p:nvPr/>
        </p:nvPicPr>
        <p:blipFill>
          <a:blip r:embed="rId5"/>
          <a:stretch/>
        </p:blipFill>
        <p:spPr>
          <a:xfrm>
            <a:off x="3714840" y="1935000"/>
            <a:ext cx="1008000" cy="779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"/>
          <p:cNvPicPr/>
          <p:nvPr/>
        </p:nvPicPr>
        <p:blipFill>
          <a:blip r:embed="rId6"/>
          <a:stretch/>
        </p:blipFill>
        <p:spPr>
          <a:xfrm>
            <a:off x="5286240" y="12142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간지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8" name="그룹 37"/>
          <p:cNvGrpSpPr/>
          <p:nvPr/>
        </p:nvGrpSpPr>
        <p:grpSpPr>
          <a:xfrm>
            <a:off x="285840" y="4541400"/>
            <a:ext cx="7308720" cy="530640"/>
            <a:chOff x="285840" y="4541400"/>
            <a:chExt cx="7308720" cy="530640"/>
          </a:xfrm>
        </p:grpSpPr>
        <p:grpSp>
          <p:nvGrpSpPr>
            <p:cNvPr id="549" name="Group 56"/>
            <p:cNvGrpSpPr/>
            <p:nvPr/>
          </p:nvGrpSpPr>
          <p:grpSpPr>
            <a:xfrm>
              <a:off x="285840" y="4541400"/>
              <a:ext cx="7308720" cy="530640"/>
              <a:chOff x="285840" y="4541400"/>
              <a:chExt cx="7308720" cy="530640"/>
            </a:xfrm>
          </p:grpSpPr>
          <p:pic>
            <p:nvPicPr>
              <p:cNvPr id="550" name="Picture 57" descr="바"/>
              <p:cNvPicPr/>
              <p:nvPr/>
            </p:nvPicPr>
            <p:blipFill>
              <a:blip r:embed="rId2"/>
              <a:stretch/>
            </p:blipFill>
            <p:spPr>
              <a:xfrm>
                <a:off x="285840" y="454176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Picture 58" descr="바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285840" y="454104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2" name="Group 59"/>
              <p:cNvGrpSpPr/>
              <p:nvPr/>
            </p:nvGrpSpPr>
            <p:grpSpPr>
              <a:xfrm>
                <a:off x="285840" y="4541400"/>
                <a:ext cx="7308720" cy="530280"/>
                <a:chOff x="285840" y="4541400"/>
                <a:chExt cx="7308720" cy="530280"/>
              </a:xfrm>
            </p:grpSpPr>
            <p:pic>
              <p:nvPicPr>
                <p:cNvPr id="553" name="Picture 60" descr="바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85840" y="454212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61" descr="바"/>
                <p:cNvPicPr/>
                <p:nvPr/>
              </p:nvPicPr>
              <p:blipFill>
                <a:blip r:embed="rId5"/>
                <a:stretch/>
              </p:blipFill>
              <p:spPr>
                <a:xfrm rot="10800000">
                  <a:off x="285840" y="454104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5" name="Text Box 99"/>
            <p:cNvSpPr/>
            <p:nvPr/>
          </p:nvSpPr>
          <p:spPr>
            <a:xfrm>
              <a:off x="1638000" y="4555800"/>
              <a:ext cx="464904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c1c1d"/>
                  </a:solidFill>
                  <a:latin typeface="HY헤드라인M"/>
                  <a:ea typeface="HY헤드라인M"/>
                </a:rPr>
                <a:t>3. PV Deployment &amp; Industry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56" name="그룹 36"/>
          <p:cNvGrpSpPr/>
          <p:nvPr/>
        </p:nvGrpSpPr>
        <p:grpSpPr>
          <a:xfrm>
            <a:off x="285840" y="3541320"/>
            <a:ext cx="7308720" cy="530640"/>
            <a:chOff x="285840" y="3541320"/>
            <a:chExt cx="7308720" cy="530640"/>
          </a:xfrm>
        </p:grpSpPr>
        <p:grpSp>
          <p:nvGrpSpPr>
            <p:cNvPr id="557" name="Group 50"/>
            <p:cNvGrpSpPr/>
            <p:nvPr/>
          </p:nvGrpSpPr>
          <p:grpSpPr>
            <a:xfrm>
              <a:off x="285840" y="3541320"/>
              <a:ext cx="7308720" cy="530640"/>
              <a:chOff x="285840" y="3541320"/>
              <a:chExt cx="7308720" cy="530640"/>
            </a:xfrm>
          </p:grpSpPr>
          <p:pic>
            <p:nvPicPr>
              <p:cNvPr id="558" name="Picture 51" descr="바"/>
              <p:cNvPicPr/>
              <p:nvPr/>
            </p:nvPicPr>
            <p:blipFill>
              <a:blip r:embed="rId6"/>
              <a:stretch/>
            </p:blipFill>
            <p:spPr>
              <a:xfrm>
                <a:off x="285840" y="354168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52" descr="바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285840" y="354096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0" name="Group 53"/>
              <p:cNvGrpSpPr/>
              <p:nvPr/>
            </p:nvGrpSpPr>
            <p:grpSpPr>
              <a:xfrm>
                <a:off x="285840" y="3541320"/>
                <a:ext cx="7308720" cy="530280"/>
                <a:chOff x="285840" y="3541320"/>
                <a:chExt cx="7308720" cy="530280"/>
              </a:xfrm>
            </p:grpSpPr>
            <p:pic>
              <p:nvPicPr>
                <p:cNvPr id="561" name="Picture 54" descr="바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285840" y="354204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55" descr="바"/>
                <p:cNvPicPr/>
                <p:nvPr/>
              </p:nvPicPr>
              <p:blipFill>
                <a:blip r:embed="rId9"/>
                <a:stretch/>
              </p:blipFill>
              <p:spPr>
                <a:xfrm rot="10800000">
                  <a:off x="285840" y="354096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3" name="Text Box 104"/>
            <p:cNvSpPr/>
            <p:nvPr/>
          </p:nvSpPr>
          <p:spPr>
            <a:xfrm>
              <a:off x="1632600" y="3579480"/>
              <a:ext cx="317232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c1c1d"/>
                  </a:solidFill>
                  <a:latin typeface="HY헤드라인M"/>
                  <a:ea typeface="HY헤드라인M"/>
                </a:rPr>
                <a:t>2. PV R&amp;D Program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64" name="Text Box 3" descr=""/>
          <p:cNvPicPr/>
          <p:nvPr/>
        </p:nvPicPr>
        <p:blipFill>
          <a:blip r:embed="rId10"/>
          <a:stretch/>
        </p:blipFill>
        <p:spPr>
          <a:xfrm>
            <a:off x="231840" y="450720"/>
            <a:ext cx="5467320" cy="1878120"/>
          </a:xfrm>
          <a:prstGeom prst="rect">
            <a:avLst/>
          </a:prstGeom>
          <a:ln w="0">
            <a:noFill/>
          </a:ln>
        </p:spPr>
      </p:pic>
      <p:grpSp>
        <p:nvGrpSpPr>
          <p:cNvPr id="565" name="그룹 35"/>
          <p:cNvGrpSpPr/>
          <p:nvPr/>
        </p:nvGrpSpPr>
        <p:grpSpPr>
          <a:xfrm>
            <a:off x="285840" y="2571480"/>
            <a:ext cx="7308720" cy="530640"/>
            <a:chOff x="285840" y="2571480"/>
            <a:chExt cx="7308720" cy="530640"/>
          </a:xfrm>
        </p:grpSpPr>
        <p:grpSp>
          <p:nvGrpSpPr>
            <p:cNvPr id="566" name="Group 49"/>
            <p:cNvGrpSpPr/>
            <p:nvPr/>
          </p:nvGrpSpPr>
          <p:grpSpPr>
            <a:xfrm>
              <a:off x="285840" y="2571480"/>
              <a:ext cx="7308720" cy="530640"/>
              <a:chOff x="285840" y="2571480"/>
              <a:chExt cx="7308720" cy="530640"/>
            </a:xfrm>
          </p:grpSpPr>
          <p:pic>
            <p:nvPicPr>
              <p:cNvPr id="567" name="Picture 34" descr="바"/>
              <p:cNvPicPr/>
              <p:nvPr/>
            </p:nvPicPr>
            <p:blipFill>
              <a:blip r:embed="rId11"/>
              <a:stretch/>
            </p:blipFill>
            <p:spPr>
              <a:xfrm>
                <a:off x="285840" y="257184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35" descr="바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285840" y="2571120"/>
                <a:ext cx="7308720" cy="5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9" name="Group 45"/>
              <p:cNvGrpSpPr/>
              <p:nvPr/>
            </p:nvGrpSpPr>
            <p:grpSpPr>
              <a:xfrm>
                <a:off x="285840" y="2571480"/>
                <a:ext cx="7308720" cy="530280"/>
                <a:chOff x="285840" y="2571480"/>
                <a:chExt cx="7308720" cy="530280"/>
              </a:xfrm>
            </p:grpSpPr>
            <p:pic>
              <p:nvPicPr>
                <p:cNvPr id="570" name="Picture 46" descr="바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285840" y="257220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Picture 47" descr="바"/>
                <p:cNvPicPr/>
                <p:nvPr/>
              </p:nvPicPr>
              <p:blipFill>
                <a:blip r:embed="rId14"/>
                <a:stretch/>
              </p:blipFill>
              <p:spPr>
                <a:xfrm rot="10800000">
                  <a:off x="285840" y="2571120"/>
                  <a:ext cx="7308720" cy="52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2" name="Text Box 94"/>
            <p:cNvSpPr/>
            <p:nvPr/>
          </p:nvSpPr>
          <p:spPr>
            <a:xfrm>
              <a:off x="1636560" y="2581200"/>
              <a:ext cx="3931200" cy="48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c1c1d"/>
                  </a:solidFill>
                  <a:latin typeface="HY헤드라인M"/>
                  <a:ea typeface="HY헤드라인M"/>
                </a:rPr>
                <a:t>1. Introduction of KETEP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Box 10"/>
          <p:cNvSpPr/>
          <p:nvPr/>
        </p:nvSpPr>
        <p:spPr>
          <a:xfrm>
            <a:off x="214920" y="500040"/>
            <a:ext cx="27104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Installation Cas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6" name="Picture 2" descr="신안2"/>
          <p:cNvPicPr/>
          <p:nvPr/>
        </p:nvPicPr>
        <p:blipFill>
          <a:blip r:embed="rId1"/>
          <a:stretch/>
        </p:blipFill>
        <p:spPr>
          <a:xfrm>
            <a:off x="571680" y="1098720"/>
            <a:ext cx="8001000" cy="518796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3"/>
          <p:cNvSpPr/>
          <p:nvPr/>
        </p:nvSpPr>
        <p:spPr>
          <a:xfrm>
            <a:off x="716040" y="1281240"/>
            <a:ext cx="485604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Location : Sinan, Jeollanamd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Power : 24M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Area : 670,000</a:t>
            </a: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Application type : Power pl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Box 10"/>
          <p:cNvSpPr/>
          <p:nvPr/>
        </p:nvSpPr>
        <p:spPr>
          <a:xfrm>
            <a:off x="214920" y="500040"/>
            <a:ext cx="27104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Installation Cas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9" name="Group 2"/>
          <p:cNvGrpSpPr/>
          <p:nvPr/>
        </p:nvGrpSpPr>
        <p:grpSpPr>
          <a:xfrm>
            <a:off x="571680" y="1071720"/>
            <a:ext cx="8001000" cy="5214960"/>
            <a:chOff x="571680" y="1071720"/>
            <a:chExt cx="8001000" cy="5214960"/>
          </a:xfrm>
        </p:grpSpPr>
        <p:pic>
          <p:nvPicPr>
            <p:cNvPr id="840" name="Picture 3" descr="전체"/>
            <p:cNvPicPr/>
            <p:nvPr/>
          </p:nvPicPr>
          <p:blipFill>
            <a:blip r:embed="rId1"/>
            <a:stretch/>
          </p:blipFill>
          <p:spPr>
            <a:xfrm>
              <a:off x="571680" y="1071720"/>
              <a:ext cx="8001000" cy="5214960"/>
            </a:xfrm>
            <a:prstGeom prst="rect">
              <a:avLst/>
            </a:prstGeom>
            <a:ln w="9360">
              <a:solidFill>
                <a:srgbClr val="800080"/>
              </a:solidFill>
              <a:miter/>
            </a:ln>
          </p:spPr>
        </p:pic>
        <p:pic>
          <p:nvPicPr>
            <p:cNvPr id="841" name="Picture 4" descr="정면"/>
            <p:cNvPicPr/>
            <p:nvPr/>
          </p:nvPicPr>
          <p:blipFill>
            <a:blip r:embed="rId2"/>
            <a:stretch/>
          </p:blipFill>
          <p:spPr>
            <a:xfrm>
              <a:off x="5272200" y="3694320"/>
              <a:ext cx="2844720" cy="23983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</p:grpSp>
      <p:sp>
        <p:nvSpPr>
          <p:cNvPr id="842" name="모서리가 둥근 직사각형 6"/>
          <p:cNvSpPr/>
          <p:nvPr/>
        </p:nvSpPr>
        <p:spPr>
          <a:xfrm>
            <a:off x="571680" y="1143000"/>
            <a:ext cx="4000320" cy="1571760"/>
          </a:xfrm>
          <a:prstGeom prst="roundRect">
            <a:avLst>
              <a:gd name="adj" fmla="val 16667"/>
            </a:avLst>
          </a:prstGeom>
          <a:solidFill>
            <a:srgbClr val="dce6f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644400" y="1214280"/>
            <a:ext cx="38563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Location : Daeje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Power : 12k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66760" indent="-266760">
              <a:lnSpc>
                <a:spcPct val="120000"/>
              </a:lnSpc>
              <a:spcBef>
                <a:spcPts val="1125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휴먼모음T"/>
                <a:ea typeface="휴먼모음T"/>
              </a:rPr>
              <a:t>Application type : BIPV (Façad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직사각형 2" descr=""/>
          <p:cNvPicPr/>
          <p:nvPr/>
        </p:nvPicPr>
        <p:blipFill>
          <a:blip r:embed="rId1"/>
          <a:stretch/>
        </p:blipFill>
        <p:spPr>
          <a:xfrm>
            <a:off x="1792440" y="2432160"/>
            <a:ext cx="58402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그림 7" descr="111.png"/>
          <p:cNvPicPr/>
          <p:nvPr/>
        </p:nvPicPr>
        <p:blipFill>
          <a:blip r:embed="rId1"/>
          <a:stretch/>
        </p:blipFill>
        <p:spPr>
          <a:xfrm>
            <a:off x="214200" y="3643200"/>
            <a:ext cx="2003400" cy="3286080"/>
          </a:xfrm>
          <a:prstGeom prst="rect">
            <a:avLst/>
          </a:prstGeom>
          <a:ln w="0">
            <a:noFill/>
          </a:ln>
        </p:spPr>
      </p:pic>
      <p:pic>
        <p:nvPicPr>
          <p:cNvPr id="574" name="그림 9" descr="con-bar.png"/>
          <p:cNvPicPr/>
          <p:nvPr/>
        </p:nvPicPr>
        <p:blipFill>
          <a:blip r:embed="rId2"/>
          <a:stretch/>
        </p:blipFill>
        <p:spPr>
          <a:xfrm>
            <a:off x="2604960" y="3286080"/>
            <a:ext cx="6500880" cy="1000080"/>
          </a:xfrm>
          <a:prstGeom prst="rect">
            <a:avLst/>
          </a:prstGeom>
          <a:ln w="0">
            <a:noFill/>
          </a:ln>
        </p:spPr>
      </p:pic>
      <p:sp>
        <p:nvSpPr>
          <p:cNvPr id="575" name="TextBox 10"/>
          <p:cNvSpPr/>
          <p:nvPr/>
        </p:nvSpPr>
        <p:spPr>
          <a:xfrm>
            <a:off x="4925880" y="353376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troduction of KETE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TextBox 11"/>
          <p:cNvSpPr/>
          <p:nvPr/>
        </p:nvSpPr>
        <p:spPr>
          <a:xfrm>
            <a:off x="3508200" y="3497400"/>
            <a:ext cx="3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5"/>
          <p:cNvSpPr/>
          <p:nvPr/>
        </p:nvSpPr>
        <p:spPr>
          <a:xfrm>
            <a:off x="285840" y="500040"/>
            <a:ext cx="8501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National Energy R&amp;D Planning &amp; Management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8" name="Picture 120" descr="k-346-"/>
          <p:cNvPicPr/>
          <p:nvPr/>
        </p:nvPicPr>
        <p:blipFill>
          <a:blip r:embed="rId1"/>
          <a:stretch/>
        </p:blipFill>
        <p:spPr>
          <a:xfrm>
            <a:off x="3914640" y="1628640"/>
            <a:ext cx="879480" cy="3311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D:\개인자료실\바_아이콘_버튼\박스\na_x47.png"/>
          <p:cNvPicPr/>
          <p:nvPr/>
        </p:nvPicPr>
        <p:blipFill>
          <a:blip r:embed="rId2"/>
          <a:stretch/>
        </p:blipFill>
        <p:spPr>
          <a:xfrm>
            <a:off x="4770360" y="1052640"/>
            <a:ext cx="4254480" cy="42526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D:\개인자료실\바_아이콘_버튼\박스\na_x48.png"/>
          <p:cNvPicPr/>
          <p:nvPr/>
        </p:nvPicPr>
        <p:blipFill>
          <a:blip r:embed="rId3"/>
          <a:stretch/>
        </p:blipFill>
        <p:spPr>
          <a:xfrm>
            <a:off x="285840" y="1052640"/>
            <a:ext cx="4254480" cy="4252680"/>
          </a:xfrm>
          <a:prstGeom prst="rect">
            <a:avLst/>
          </a:prstGeom>
          <a:ln w="0">
            <a:noFill/>
          </a:ln>
        </p:spPr>
      </p:pic>
      <p:sp>
        <p:nvSpPr>
          <p:cNvPr id="581" name="직사각형 9"/>
          <p:cNvSpPr/>
          <p:nvPr/>
        </p:nvSpPr>
        <p:spPr>
          <a:xfrm>
            <a:off x="287280" y="5726160"/>
            <a:ext cx="70009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trategic planning of total energy technology R&amp;D of Kore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 indent="-1810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Systematic Evaluation and Management Proces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직사각형 75"/>
          <p:cNvSpPr/>
          <p:nvPr/>
        </p:nvSpPr>
        <p:spPr>
          <a:xfrm>
            <a:off x="406440" y="2981160"/>
            <a:ext cx="3952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맑은 고딕"/>
              </a:rPr>
              <a:t>Korea Institute of Energy and Resources Technology Evaluation and Planning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1811880" y="1162080"/>
            <a:ext cx="9320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맑은 고딕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4" name="Picture 78" descr="g_x16"/>
          <p:cNvPicPr/>
          <p:nvPr/>
        </p:nvPicPr>
        <p:blipFill>
          <a:blip r:embed="rId4"/>
          <a:stretch/>
        </p:blipFill>
        <p:spPr>
          <a:xfrm>
            <a:off x="311040" y="1681200"/>
            <a:ext cx="1427400" cy="1409760"/>
          </a:xfrm>
          <a:prstGeom prst="rect">
            <a:avLst/>
          </a:prstGeom>
          <a:ln w="0">
            <a:noFill/>
          </a:ln>
        </p:spPr>
      </p:pic>
      <p:sp>
        <p:nvSpPr>
          <p:cNvPr id="585" name="직사각형 15"/>
          <p:cNvSpPr/>
          <p:nvPr/>
        </p:nvSpPr>
        <p:spPr>
          <a:xfrm>
            <a:off x="490680" y="1940040"/>
            <a:ext cx="109836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Energy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Efficiency &amp;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Resources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HY견고딕"/>
              </a:rPr>
              <a:t>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6" name="Picture 77" descr="g_x15"/>
          <p:cNvPicPr/>
          <p:nvPr/>
        </p:nvPicPr>
        <p:blipFill>
          <a:blip r:embed="rId5"/>
          <a:stretch/>
        </p:blipFill>
        <p:spPr>
          <a:xfrm>
            <a:off x="1681200" y="1798560"/>
            <a:ext cx="1431720" cy="1265400"/>
          </a:xfrm>
          <a:prstGeom prst="rect">
            <a:avLst/>
          </a:prstGeom>
          <a:ln w="0">
            <a:noFill/>
          </a:ln>
        </p:spPr>
      </p:pic>
      <p:sp>
        <p:nvSpPr>
          <p:cNvPr id="587" name="직사각형 17"/>
          <p:cNvSpPr/>
          <p:nvPr/>
        </p:nvSpPr>
        <p:spPr>
          <a:xfrm>
            <a:off x="1819440" y="1930320"/>
            <a:ext cx="114300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Power</a:t>
            </a:r>
            <a:br>
              <a:rPr sz="1300"/>
            </a:b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Generation,</a:t>
            </a:r>
            <a:br>
              <a:rPr sz="1300"/>
            </a:b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Nuclear</a:t>
            </a:r>
            <a:br>
              <a:rPr sz="1300"/>
            </a:b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HY견고딕"/>
              </a:rPr>
              <a:t>Power 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8" name="Group 83"/>
          <p:cNvGrpSpPr/>
          <p:nvPr/>
        </p:nvGrpSpPr>
        <p:grpSpPr>
          <a:xfrm>
            <a:off x="2932200" y="1733400"/>
            <a:ext cx="1468440" cy="1251000"/>
            <a:chOff x="2932200" y="1733400"/>
            <a:chExt cx="1468440" cy="1251000"/>
          </a:xfrm>
        </p:grpSpPr>
        <p:pic>
          <p:nvPicPr>
            <p:cNvPr id="589" name="Picture 76" descr="g_x13"/>
            <p:cNvPicPr/>
            <p:nvPr/>
          </p:nvPicPr>
          <p:blipFill>
            <a:blip r:embed="rId6"/>
            <a:stretch/>
          </p:blipFill>
          <p:spPr>
            <a:xfrm>
              <a:off x="2932200" y="1733400"/>
              <a:ext cx="14684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직사각형 20"/>
            <p:cNvSpPr/>
            <p:nvPr/>
          </p:nvSpPr>
          <p:spPr>
            <a:xfrm>
              <a:off x="3125880" y="1903320"/>
              <a:ext cx="1117800" cy="796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HY견고딕"/>
                </a:rPr>
                <a:t>New and Renewable Energy R&amp;D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1" name="AutoShape 84"/>
          <p:cNvSpPr/>
          <p:nvPr/>
        </p:nvSpPr>
        <p:spPr>
          <a:xfrm>
            <a:off x="982800" y="3606840"/>
            <a:ext cx="230040" cy="287280"/>
          </a:xfrm>
          <a:prstGeom prst="upDownArrow">
            <a:avLst>
              <a:gd name="adj1" fmla="val 62083"/>
              <a:gd name="adj2" fmla="val 42813"/>
            </a:avLst>
          </a:prstGeom>
          <a:gradFill rotWithShape="0">
            <a:gsLst>
              <a:gs pos="0">
                <a:srgbClr val="0099cc"/>
              </a:gs>
              <a:gs pos="50000">
                <a:srgbClr val="00ffff"/>
              </a:gs>
              <a:gs pos="100000">
                <a:srgbClr val="0099cc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2" name="Picture 85" descr="g_x21"/>
          <p:cNvPicPr/>
          <p:nvPr/>
        </p:nvPicPr>
        <p:blipFill>
          <a:blip r:embed="rId7"/>
          <a:stretch/>
        </p:blipFill>
        <p:spPr>
          <a:xfrm>
            <a:off x="3052800" y="3986280"/>
            <a:ext cx="1368360" cy="987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6" descr="g_x22"/>
          <p:cNvPicPr/>
          <p:nvPr/>
        </p:nvPicPr>
        <p:blipFill>
          <a:blip r:embed="rId8"/>
          <a:stretch/>
        </p:blipFill>
        <p:spPr>
          <a:xfrm>
            <a:off x="422280" y="3986280"/>
            <a:ext cx="1368360" cy="987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7" descr="g_x24"/>
          <p:cNvPicPr/>
          <p:nvPr/>
        </p:nvPicPr>
        <p:blipFill>
          <a:blip r:embed="rId9"/>
          <a:stretch/>
        </p:blipFill>
        <p:spPr>
          <a:xfrm>
            <a:off x="1738440" y="3986280"/>
            <a:ext cx="1368360" cy="98748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88"/>
          <p:cNvSpPr/>
          <p:nvPr/>
        </p:nvSpPr>
        <p:spPr>
          <a:xfrm>
            <a:off x="2268360" y="3606840"/>
            <a:ext cx="230400" cy="287280"/>
          </a:xfrm>
          <a:prstGeom prst="upDownArrow">
            <a:avLst>
              <a:gd name="adj1" fmla="val 62083"/>
              <a:gd name="adj2" fmla="val 42745"/>
            </a:avLst>
          </a:pr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AutoShape 89"/>
          <p:cNvSpPr/>
          <p:nvPr/>
        </p:nvSpPr>
        <p:spPr>
          <a:xfrm>
            <a:off x="3583080" y="3606840"/>
            <a:ext cx="230040" cy="287280"/>
          </a:xfrm>
          <a:prstGeom prst="upDownArrow">
            <a:avLst>
              <a:gd name="adj1" fmla="val 62083"/>
              <a:gd name="adj2" fmla="val 42813"/>
            </a:avLst>
          </a:prstGeom>
          <a:gradFill rotWithShape="0">
            <a:gsLst>
              <a:gs pos="0">
                <a:srgbClr val="33cc33"/>
              </a:gs>
              <a:gs pos="50000">
                <a:srgbClr val="99ff66"/>
              </a:gs>
              <a:gs pos="100000">
                <a:srgbClr val="33cc33"/>
              </a:gs>
            </a:gsLst>
            <a:lin ang="5400000"/>
          </a:gra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82"/>
          <p:cNvSpPr/>
          <p:nvPr/>
        </p:nvSpPr>
        <p:spPr>
          <a:xfrm>
            <a:off x="547560" y="4138560"/>
            <a:ext cx="993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맑은 고딕"/>
              </a:rPr>
              <a:t>KEMC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TextBox 83"/>
          <p:cNvSpPr/>
          <p:nvPr/>
        </p:nvSpPr>
        <p:spPr>
          <a:xfrm>
            <a:off x="1905120" y="4138560"/>
            <a:ext cx="928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맑은 고딕"/>
              </a:rPr>
              <a:t>KEPC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TextBox 85"/>
          <p:cNvSpPr/>
          <p:nvPr/>
        </p:nvSpPr>
        <p:spPr>
          <a:xfrm>
            <a:off x="3294000" y="4138560"/>
            <a:ext cx="78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맑은 고딕"/>
              </a:rPr>
              <a:t>NRE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TextBox 68"/>
          <p:cNvSpPr/>
          <p:nvPr/>
        </p:nvSpPr>
        <p:spPr>
          <a:xfrm>
            <a:off x="6149160" y="1171440"/>
            <a:ext cx="148536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맑은 고딕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1" name="Picture 96" descr="su_31"/>
          <p:cNvPicPr/>
          <p:nvPr/>
        </p:nvPicPr>
        <p:blipFill>
          <a:blip r:embed="rId10"/>
          <a:stretch/>
        </p:blipFill>
        <p:spPr>
          <a:xfrm>
            <a:off x="6913440" y="1643040"/>
            <a:ext cx="1889280" cy="1916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7" descr="su_30"/>
          <p:cNvPicPr/>
          <p:nvPr/>
        </p:nvPicPr>
        <p:blipFill>
          <a:blip r:embed="rId11"/>
          <a:stretch/>
        </p:blipFill>
        <p:spPr>
          <a:xfrm>
            <a:off x="4929120" y="1646280"/>
            <a:ext cx="1843200" cy="191304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99"/>
          <p:cNvSpPr/>
          <p:nvPr/>
        </p:nvSpPr>
        <p:spPr>
          <a:xfrm>
            <a:off x="4965840" y="2432160"/>
            <a:ext cx="1180800" cy="1085760"/>
          </a:xfrm>
          <a:prstGeom prst="roundRect">
            <a:avLst>
              <a:gd name="adj" fmla="val 4384"/>
            </a:avLst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AutoShape 100"/>
          <p:cNvSpPr/>
          <p:nvPr/>
        </p:nvSpPr>
        <p:spPr>
          <a:xfrm>
            <a:off x="7586640" y="2432160"/>
            <a:ext cx="1181160" cy="1085760"/>
          </a:xfrm>
          <a:prstGeom prst="roundRect">
            <a:avLst>
              <a:gd name="adj" fmla="val 4384"/>
            </a:avLst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AutoShape 102"/>
          <p:cNvSpPr/>
          <p:nvPr/>
        </p:nvSpPr>
        <p:spPr>
          <a:xfrm>
            <a:off x="4975200" y="2449440"/>
            <a:ext cx="1152720" cy="223920"/>
          </a:xfrm>
          <a:prstGeom prst="roundRect">
            <a:avLst>
              <a:gd name="adj" fmla="val 21278"/>
            </a:avLst>
          </a:prstGeom>
          <a:gradFill rotWithShape="0">
            <a:gsLst>
              <a:gs pos="0">
                <a:srgbClr val="ffffff"/>
              </a:gs>
              <a:gs pos="100000">
                <a:srgbClr val="dcdcd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AutoShape 104"/>
          <p:cNvSpPr/>
          <p:nvPr/>
        </p:nvSpPr>
        <p:spPr>
          <a:xfrm>
            <a:off x="7596360" y="2449440"/>
            <a:ext cx="1150920" cy="223920"/>
          </a:xfrm>
          <a:prstGeom prst="roundRect">
            <a:avLst>
              <a:gd name="adj" fmla="val 21278"/>
            </a:avLst>
          </a:prstGeom>
          <a:gradFill rotWithShape="0">
            <a:gsLst>
              <a:gs pos="0">
                <a:srgbClr val="ffffff"/>
              </a:gs>
              <a:gs pos="100000">
                <a:srgbClr val="dcdcd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직사각형 98"/>
          <p:cNvSpPr/>
          <p:nvPr/>
        </p:nvSpPr>
        <p:spPr>
          <a:xfrm>
            <a:off x="4781520" y="2392200"/>
            <a:ext cx="15526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Energy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Efficiency,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CCS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Resources,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Resources</a:t>
            </a:r>
            <a:br>
              <a:rPr sz="1300"/>
            </a:br>
            <a:r>
              <a:rPr b="1" lang="en-US" sz="1300" spc="-1" strike="noStrike">
                <a:solidFill>
                  <a:srgbClr val="003366"/>
                </a:solidFill>
                <a:latin typeface="Arial"/>
                <a:ea typeface="맑은 고딕"/>
              </a:rPr>
              <a:t>Recovery 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Group 116"/>
          <p:cNvGrpSpPr/>
          <p:nvPr/>
        </p:nvGrpSpPr>
        <p:grpSpPr>
          <a:xfrm>
            <a:off x="6191280" y="1862280"/>
            <a:ext cx="1371600" cy="1815480"/>
            <a:chOff x="6191280" y="1862280"/>
            <a:chExt cx="1371600" cy="1815480"/>
          </a:xfrm>
        </p:grpSpPr>
        <p:grpSp>
          <p:nvGrpSpPr>
            <p:cNvPr id="609" name="Group 115"/>
            <p:cNvGrpSpPr/>
            <p:nvPr/>
          </p:nvGrpSpPr>
          <p:grpSpPr>
            <a:xfrm>
              <a:off x="6227640" y="1862280"/>
              <a:ext cx="1304640" cy="1815480"/>
              <a:chOff x="6227640" y="1862280"/>
              <a:chExt cx="1304640" cy="1815480"/>
            </a:xfrm>
          </p:grpSpPr>
          <p:pic>
            <p:nvPicPr>
              <p:cNvPr id="610" name="Picture 95" descr="su_32"/>
              <p:cNvPicPr/>
              <p:nvPr/>
            </p:nvPicPr>
            <p:blipFill>
              <a:blip r:embed="rId12"/>
              <a:stretch/>
            </p:blipFill>
            <p:spPr>
              <a:xfrm>
                <a:off x="6227640" y="1862280"/>
                <a:ext cx="1304640" cy="18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AutoShape 101"/>
              <p:cNvSpPr/>
              <p:nvPr/>
            </p:nvSpPr>
            <p:spPr>
              <a:xfrm>
                <a:off x="6258600" y="2514240"/>
                <a:ext cx="1221120" cy="1121040"/>
              </a:xfrm>
              <a:prstGeom prst="roundRect">
                <a:avLst>
                  <a:gd name="adj" fmla="val 4384"/>
                </a:avLst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2" name="AutoShape 103"/>
              <p:cNvSpPr/>
              <p:nvPr/>
            </p:nvSpPr>
            <p:spPr>
              <a:xfrm>
                <a:off x="6258600" y="2532600"/>
                <a:ext cx="1191240" cy="231120"/>
              </a:xfrm>
              <a:prstGeom prst="roundRect">
                <a:avLst>
                  <a:gd name="adj" fmla="val 212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cdcd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3" name="직사각형 99"/>
            <p:cNvSpPr/>
            <p:nvPr/>
          </p:nvSpPr>
          <p:spPr>
            <a:xfrm>
              <a:off x="6191280" y="2698560"/>
              <a:ext cx="137160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Nuclear Power,</a:t>
              </a:r>
              <a:br>
                <a:rPr sz="1300"/>
              </a:b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Nuclear Waste</a:t>
              </a:r>
              <a:br>
                <a:rPr sz="1300"/>
              </a:b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Management</a:t>
              </a:r>
              <a:br>
                <a:rPr sz="1300"/>
              </a:br>
              <a:r>
                <a:rPr b="1" lang="en-US" sz="1300" spc="-1" strike="noStrike">
                  <a:solidFill>
                    <a:srgbClr val="003300"/>
                  </a:solidFill>
                  <a:latin typeface="Arial"/>
                  <a:ea typeface="맑은 고딕"/>
                </a:rPr>
                <a:t>R&amp;D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4" name="직사각형 100"/>
          <p:cNvSpPr/>
          <p:nvPr/>
        </p:nvSpPr>
        <p:spPr>
          <a:xfrm>
            <a:off x="7634160" y="2666880"/>
            <a:ext cx="10638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3300"/>
                </a:solidFill>
                <a:latin typeface="Arial"/>
                <a:ea typeface="맑은 고딕"/>
              </a:rPr>
              <a:t>New and Renewable Energy R&amp;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Picture 114" descr="logo"/>
          <p:cNvPicPr/>
          <p:nvPr/>
        </p:nvPicPr>
        <p:blipFill>
          <a:blip r:embed="rId13"/>
          <a:stretch/>
        </p:blipFill>
        <p:spPr>
          <a:xfrm>
            <a:off x="5132520" y="3865680"/>
            <a:ext cx="3406680" cy="1041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9" descr=""/>
          <p:cNvPicPr/>
          <p:nvPr/>
        </p:nvPicPr>
        <p:blipFill>
          <a:blip r:embed="rId14"/>
          <a:srcRect l="1180" t="0" r="3542" b="0"/>
          <a:stretch/>
        </p:blipFill>
        <p:spPr>
          <a:xfrm>
            <a:off x="189000" y="5072040"/>
            <a:ext cx="88837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0"/>
          <p:cNvSpPr/>
          <p:nvPr/>
        </p:nvSpPr>
        <p:spPr>
          <a:xfrm>
            <a:off x="6858000" y="310356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26262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TextBox 25"/>
          <p:cNvSpPr/>
          <p:nvPr/>
        </p:nvSpPr>
        <p:spPr>
          <a:xfrm>
            <a:off x="285840" y="500040"/>
            <a:ext cx="8501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R&amp;D Areas</a:t>
            </a:r>
            <a:r>
              <a:rPr b="0" lang="ko-KR" sz="24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9" name="모서리가 둥근 직사각형 48"/>
          <p:cNvGrpSpPr/>
          <p:nvPr/>
        </p:nvGrpSpPr>
        <p:grpSpPr>
          <a:xfrm>
            <a:off x="6620040" y="1547640"/>
            <a:ext cx="2315880" cy="4834080"/>
            <a:chOff x="6620040" y="1547640"/>
            <a:chExt cx="2315880" cy="4834080"/>
          </a:xfrm>
        </p:grpSpPr>
        <p:pic>
          <p:nvPicPr>
            <p:cNvPr id="620" name="모서리가 둥근 직사각형 48" descr=""/>
            <p:cNvPicPr/>
            <p:nvPr/>
          </p:nvPicPr>
          <p:blipFill>
            <a:blip r:embed="rId1"/>
            <a:stretch/>
          </p:blipFill>
          <p:spPr>
            <a:xfrm>
              <a:off x="6620040" y="1547640"/>
              <a:ext cx="231588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746760" y="1674720"/>
              <a:ext cx="2060640" cy="45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22" name="모서리가 둥근 직사각형 49"/>
          <p:cNvGrpSpPr/>
          <p:nvPr/>
        </p:nvGrpSpPr>
        <p:grpSpPr>
          <a:xfrm>
            <a:off x="262080" y="1547640"/>
            <a:ext cx="6267240" cy="4834080"/>
            <a:chOff x="262080" y="1547640"/>
            <a:chExt cx="6267240" cy="4834080"/>
          </a:xfrm>
        </p:grpSpPr>
        <p:pic>
          <p:nvPicPr>
            <p:cNvPr id="623" name="모서리가 둥근 직사각형 49" descr=""/>
            <p:cNvPicPr/>
            <p:nvPr/>
          </p:nvPicPr>
          <p:blipFill>
            <a:blip r:embed="rId2"/>
            <a:stretch/>
          </p:blipFill>
          <p:spPr>
            <a:xfrm>
              <a:off x="262080" y="1547640"/>
              <a:ext cx="626724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26960" y="1712880"/>
              <a:ext cx="59324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25" name="TextBox 50" descr=""/>
          <p:cNvPicPr/>
          <p:nvPr/>
        </p:nvPicPr>
        <p:blipFill>
          <a:blip r:embed="rId3"/>
          <a:stretch/>
        </p:blipFill>
        <p:spPr>
          <a:xfrm>
            <a:off x="633240" y="1000080"/>
            <a:ext cx="5370840" cy="54288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51" descr=""/>
          <p:cNvPicPr/>
          <p:nvPr/>
        </p:nvPicPr>
        <p:blipFill>
          <a:blip r:embed="rId4"/>
          <a:stretch/>
        </p:blipFill>
        <p:spPr>
          <a:xfrm>
            <a:off x="6162840" y="1000080"/>
            <a:ext cx="3084480" cy="54288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/>
          <p:cNvSpPr/>
          <p:nvPr/>
        </p:nvSpPr>
        <p:spPr>
          <a:xfrm>
            <a:off x="500040" y="200484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Text Box 54"/>
          <p:cNvSpPr/>
          <p:nvPr/>
        </p:nvSpPr>
        <p:spPr>
          <a:xfrm>
            <a:off x="357120" y="2278440"/>
            <a:ext cx="205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ergy efficienc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AutoShape 56"/>
          <p:cNvSpPr/>
          <p:nvPr/>
        </p:nvSpPr>
        <p:spPr>
          <a:xfrm>
            <a:off x="500040" y="2009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AutoShape 56"/>
          <p:cNvSpPr/>
          <p:nvPr/>
        </p:nvSpPr>
        <p:spPr>
          <a:xfrm flipV="1">
            <a:off x="500040" y="2783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AutoShape 10"/>
          <p:cNvSpPr/>
          <p:nvPr/>
        </p:nvSpPr>
        <p:spPr>
          <a:xfrm>
            <a:off x="2500200" y="200484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0066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Text Box 54"/>
          <p:cNvSpPr/>
          <p:nvPr/>
        </p:nvSpPr>
        <p:spPr>
          <a:xfrm>
            <a:off x="2657520" y="211788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AutoShape 56"/>
          <p:cNvSpPr/>
          <p:nvPr/>
        </p:nvSpPr>
        <p:spPr>
          <a:xfrm>
            <a:off x="2500200" y="2009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AutoShape 56"/>
          <p:cNvSpPr/>
          <p:nvPr/>
        </p:nvSpPr>
        <p:spPr>
          <a:xfrm flipV="1">
            <a:off x="2500200" y="2783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AutoShape 10"/>
          <p:cNvSpPr/>
          <p:nvPr/>
        </p:nvSpPr>
        <p:spPr>
          <a:xfrm>
            <a:off x="4500720" y="2000160"/>
            <a:ext cx="1800000" cy="936720"/>
          </a:xfrm>
          <a:prstGeom prst="roundRect">
            <a:avLst>
              <a:gd name="adj" fmla="val 235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 Box 54"/>
          <p:cNvSpPr/>
          <p:nvPr/>
        </p:nvSpPr>
        <p:spPr>
          <a:xfrm>
            <a:off x="4389480" y="1881720"/>
            <a:ext cx="2000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generat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lectricity deliver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AutoShape 56"/>
          <p:cNvSpPr/>
          <p:nvPr/>
        </p:nvSpPr>
        <p:spPr>
          <a:xfrm>
            <a:off x="4500720" y="200484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AutoShape 56"/>
          <p:cNvSpPr/>
          <p:nvPr/>
        </p:nvSpPr>
        <p:spPr>
          <a:xfrm flipV="1">
            <a:off x="4500720" y="277956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AutoShape 10"/>
          <p:cNvSpPr/>
          <p:nvPr/>
        </p:nvSpPr>
        <p:spPr>
          <a:xfrm>
            <a:off x="4500720" y="3057480"/>
            <a:ext cx="1800000" cy="936720"/>
          </a:xfrm>
          <a:prstGeom prst="roundRect">
            <a:avLst>
              <a:gd name="adj" fmla="val 235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Text Box 54"/>
          <p:cNvSpPr/>
          <p:nvPr/>
        </p:nvSpPr>
        <p:spPr>
          <a:xfrm>
            <a:off x="4657680" y="321624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Nuclear Pow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AutoShape 56"/>
          <p:cNvSpPr/>
          <p:nvPr/>
        </p:nvSpPr>
        <p:spPr>
          <a:xfrm>
            <a:off x="4500720" y="306216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AutoShape 56"/>
          <p:cNvSpPr/>
          <p:nvPr/>
        </p:nvSpPr>
        <p:spPr>
          <a:xfrm flipV="1">
            <a:off x="4500720" y="383688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AutoShape 10"/>
          <p:cNvSpPr/>
          <p:nvPr/>
        </p:nvSpPr>
        <p:spPr>
          <a:xfrm>
            <a:off x="4500720" y="4138560"/>
            <a:ext cx="1800000" cy="936720"/>
          </a:xfrm>
          <a:prstGeom prst="roundRect">
            <a:avLst>
              <a:gd name="adj" fmla="val 235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AutoShape 56"/>
          <p:cNvSpPr/>
          <p:nvPr/>
        </p:nvSpPr>
        <p:spPr>
          <a:xfrm>
            <a:off x="4500720" y="414324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AutoShape 56"/>
          <p:cNvSpPr/>
          <p:nvPr/>
        </p:nvSpPr>
        <p:spPr>
          <a:xfrm flipV="1">
            <a:off x="4500720" y="4917960"/>
            <a:ext cx="1800000" cy="14472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6858000" y="203976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26262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Text Box 54"/>
          <p:cNvSpPr/>
          <p:nvPr/>
        </p:nvSpPr>
        <p:spPr>
          <a:xfrm>
            <a:off x="7015320" y="1962000"/>
            <a:ext cx="15001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Human resources develop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AutoShape 56"/>
          <p:cNvSpPr/>
          <p:nvPr/>
        </p:nvSpPr>
        <p:spPr>
          <a:xfrm>
            <a:off x="6858000" y="204480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AutoShape 56"/>
          <p:cNvSpPr/>
          <p:nvPr/>
        </p:nvSpPr>
        <p:spPr>
          <a:xfrm flipV="1">
            <a:off x="6858000" y="281880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7015320" y="2988360"/>
            <a:ext cx="15001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oper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AutoShape 56"/>
          <p:cNvSpPr/>
          <p:nvPr/>
        </p:nvSpPr>
        <p:spPr>
          <a:xfrm>
            <a:off x="6858000" y="311004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AutoShape 56"/>
          <p:cNvSpPr/>
          <p:nvPr/>
        </p:nvSpPr>
        <p:spPr>
          <a:xfrm flipV="1">
            <a:off x="6858000" y="388224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500040" y="3070080"/>
            <a:ext cx="1800360" cy="93528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Text Box 54"/>
          <p:cNvSpPr/>
          <p:nvPr/>
        </p:nvSpPr>
        <p:spPr>
          <a:xfrm>
            <a:off x="371520" y="3376800"/>
            <a:ext cx="1985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GHG Redu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AutoShape 56"/>
          <p:cNvSpPr/>
          <p:nvPr/>
        </p:nvSpPr>
        <p:spPr>
          <a:xfrm>
            <a:off x="500040" y="307512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AutoShape 56"/>
          <p:cNvSpPr/>
          <p:nvPr/>
        </p:nvSpPr>
        <p:spPr>
          <a:xfrm flipV="1">
            <a:off x="500040" y="384732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Text Box 54"/>
          <p:cNvSpPr/>
          <p:nvPr/>
        </p:nvSpPr>
        <p:spPr>
          <a:xfrm>
            <a:off x="4643280" y="4069440"/>
            <a:ext cx="150048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adioactive waste manage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AutoShape 10"/>
          <p:cNvSpPr/>
          <p:nvPr/>
        </p:nvSpPr>
        <p:spPr>
          <a:xfrm>
            <a:off x="6865920" y="413532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26262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Text Box 54"/>
          <p:cNvSpPr/>
          <p:nvPr/>
        </p:nvSpPr>
        <p:spPr>
          <a:xfrm>
            <a:off x="7023240" y="428328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xper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Network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AutoShape 56"/>
          <p:cNvSpPr/>
          <p:nvPr/>
        </p:nvSpPr>
        <p:spPr>
          <a:xfrm>
            <a:off x="6865920" y="41403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AutoShape 56"/>
          <p:cNvSpPr/>
          <p:nvPr/>
        </p:nvSpPr>
        <p:spPr>
          <a:xfrm flipV="1">
            <a:off x="6865920" y="49143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498600" y="4110120"/>
            <a:ext cx="1800000" cy="93492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Text Box 54"/>
          <p:cNvSpPr/>
          <p:nvPr/>
        </p:nvSpPr>
        <p:spPr>
          <a:xfrm>
            <a:off x="369720" y="4358160"/>
            <a:ext cx="1986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AutoShape 56"/>
          <p:cNvSpPr/>
          <p:nvPr/>
        </p:nvSpPr>
        <p:spPr>
          <a:xfrm>
            <a:off x="498600" y="4114800"/>
            <a:ext cx="180000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AutoShape 56"/>
          <p:cNvSpPr/>
          <p:nvPr/>
        </p:nvSpPr>
        <p:spPr>
          <a:xfrm flipV="1">
            <a:off x="498600" y="4887360"/>
            <a:ext cx="180000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AutoShape 10"/>
          <p:cNvSpPr/>
          <p:nvPr/>
        </p:nvSpPr>
        <p:spPr>
          <a:xfrm>
            <a:off x="2500200" y="3044880"/>
            <a:ext cx="1800360" cy="936720"/>
          </a:xfrm>
          <a:prstGeom prst="roundRect">
            <a:avLst>
              <a:gd name="adj" fmla="val 2356"/>
            </a:avLst>
          </a:prstGeom>
          <a:solidFill>
            <a:srgbClr val="0066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Text Box 54"/>
          <p:cNvSpPr/>
          <p:nvPr/>
        </p:nvSpPr>
        <p:spPr>
          <a:xfrm>
            <a:off x="2657520" y="3176640"/>
            <a:ext cx="1500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AutoShape 56"/>
          <p:cNvSpPr/>
          <p:nvPr/>
        </p:nvSpPr>
        <p:spPr>
          <a:xfrm>
            <a:off x="2500200" y="30495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AutoShape 56"/>
          <p:cNvSpPr/>
          <p:nvPr/>
        </p:nvSpPr>
        <p:spPr>
          <a:xfrm flipV="1">
            <a:off x="2500200" y="382356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485640" y="5137200"/>
            <a:ext cx="1800360" cy="934920"/>
          </a:xfrm>
          <a:prstGeom prst="roundRect">
            <a:avLst>
              <a:gd name="adj" fmla="val 2356"/>
            </a:avLst>
          </a:pr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Text Box 54"/>
          <p:cNvSpPr/>
          <p:nvPr/>
        </p:nvSpPr>
        <p:spPr>
          <a:xfrm>
            <a:off x="357120" y="5141880"/>
            <a:ext cx="1986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ergy &amp; Resource Recyc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AutoShape 56"/>
          <p:cNvSpPr/>
          <p:nvPr/>
        </p:nvSpPr>
        <p:spPr>
          <a:xfrm>
            <a:off x="485640" y="514188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AutoShape 56"/>
          <p:cNvSpPr/>
          <p:nvPr/>
        </p:nvSpPr>
        <p:spPr>
          <a:xfrm flipV="1">
            <a:off x="485640" y="5914440"/>
            <a:ext cx="1800360" cy="144360"/>
          </a:xfrm>
          <a:prstGeom prst="roundRect">
            <a:avLst>
              <a:gd name="adj" fmla="val 24866"/>
            </a:avLst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0f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그림 7" descr="111.png"/>
          <p:cNvPicPr/>
          <p:nvPr/>
        </p:nvPicPr>
        <p:blipFill>
          <a:blip r:embed="rId1"/>
          <a:stretch/>
        </p:blipFill>
        <p:spPr>
          <a:xfrm>
            <a:off x="214200" y="3643200"/>
            <a:ext cx="2003400" cy="3286080"/>
          </a:xfrm>
          <a:prstGeom prst="rect">
            <a:avLst/>
          </a:prstGeom>
          <a:ln w="0">
            <a:noFill/>
          </a:ln>
        </p:spPr>
      </p:pic>
      <p:pic>
        <p:nvPicPr>
          <p:cNvPr id="675" name="그림 9" descr="con-bar.png"/>
          <p:cNvPicPr/>
          <p:nvPr/>
        </p:nvPicPr>
        <p:blipFill>
          <a:blip r:embed="rId2"/>
          <a:stretch/>
        </p:blipFill>
        <p:spPr>
          <a:xfrm>
            <a:off x="2604960" y="3286080"/>
            <a:ext cx="6500880" cy="1000080"/>
          </a:xfrm>
          <a:prstGeom prst="rect">
            <a:avLst/>
          </a:prstGeom>
          <a:ln w="0">
            <a:noFill/>
          </a:ln>
        </p:spPr>
      </p:pic>
      <p:sp>
        <p:nvSpPr>
          <p:cNvPr id="676" name="TextBox 10"/>
          <p:cNvSpPr/>
          <p:nvPr/>
        </p:nvSpPr>
        <p:spPr>
          <a:xfrm>
            <a:off x="4905720" y="353376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V R&amp;D Progra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3521160" y="34974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Box 153"/>
          <p:cNvSpPr/>
          <p:nvPr/>
        </p:nvSpPr>
        <p:spPr>
          <a:xfrm>
            <a:off x="150840" y="285840"/>
            <a:ext cx="899316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Plan of New &amp; Renewable Energy Technology Development and Dissemination Progr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9" name="그룹 16"/>
          <p:cNvGrpSpPr/>
          <p:nvPr/>
        </p:nvGrpSpPr>
        <p:grpSpPr>
          <a:xfrm>
            <a:off x="500040" y="1143000"/>
            <a:ext cx="8085240" cy="6720480"/>
            <a:chOff x="500040" y="1143000"/>
            <a:chExt cx="8085240" cy="6720480"/>
          </a:xfrm>
        </p:grpSpPr>
        <p:sp>
          <p:nvSpPr>
            <p:cNvPr id="680" name="AutoShape 3"/>
            <p:cNvSpPr/>
            <p:nvPr/>
          </p:nvSpPr>
          <p:spPr>
            <a:xfrm>
              <a:off x="1660680" y="2386800"/>
              <a:ext cx="5454000" cy="1013760"/>
            </a:xfrm>
            <a:prstGeom prst="upArrow">
              <a:avLst>
                <a:gd name="adj1" fmla="val 51065"/>
                <a:gd name="adj2" fmla="val 54398"/>
              </a:avLst>
            </a:prstGeom>
            <a:gradFill rotWithShape="0">
              <a:gsLst>
                <a:gs pos="0">
                  <a:srgbClr val="bfbfbf">
                    <a:alpha val="79215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630720" y="3453120"/>
              <a:ext cx="3663000" cy="2980440"/>
            </a:xfrm>
            <a:prstGeom prst="roundRect">
              <a:avLst>
                <a:gd name="adj" fmla="val 15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7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82" name="그룹 20" descr=""/>
            <p:cNvPicPr/>
            <p:nvPr/>
          </p:nvPicPr>
          <p:blipFill>
            <a:blip r:embed="rId1"/>
            <a:stretch/>
          </p:blipFill>
          <p:spPr>
            <a:xfrm>
              <a:off x="500040" y="2281320"/>
              <a:ext cx="3985560" cy="15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직사각형 33"/>
            <p:cNvSpPr/>
            <p:nvPr/>
          </p:nvSpPr>
          <p:spPr>
            <a:xfrm>
              <a:off x="1335240" y="2388600"/>
              <a:ext cx="3029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Achieve 11% of                                     New&amp;Renewable Energy penetration rat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4575600" y="3453120"/>
              <a:ext cx="3804120" cy="3051360"/>
            </a:xfrm>
            <a:prstGeom prst="roundRect">
              <a:avLst>
                <a:gd name="adj" fmla="val 15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7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85" name="그룹 28" descr=""/>
            <p:cNvPicPr/>
            <p:nvPr/>
          </p:nvPicPr>
          <p:blipFill>
            <a:blip r:embed="rId2"/>
            <a:stretch/>
          </p:blipFill>
          <p:spPr>
            <a:xfrm>
              <a:off x="4449600" y="2281320"/>
              <a:ext cx="4135680" cy="14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직사각형 35"/>
            <p:cNvSpPr/>
            <p:nvPr/>
          </p:nvSpPr>
          <p:spPr>
            <a:xfrm>
              <a:off x="5350680" y="2388600"/>
              <a:ext cx="309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Industrialization of New&amp;Renewable Energy as Green Growth Sourc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87" name="AutoShape 4" descr=""/>
            <p:cNvPicPr/>
            <p:nvPr/>
          </p:nvPicPr>
          <p:blipFill>
            <a:blip r:embed="rId3"/>
            <a:stretch/>
          </p:blipFill>
          <p:spPr>
            <a:xfrm>
              <a:off x="1648080" y="1143000"/>
              <a:ext cx="59151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5"/>
            <p:cNvSpPr/>
            <p:nvPr/>
          </p:nvSpPr>
          <p:spPr>
            <a:xfrm>
              <a:off x="630720" y="3524040"/>
              <a:ext cx="3733560" cy="28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tructure dissemination systmem of cost-efficient New&amp;Renewable Energy 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xpand the infrastructure of hardware and software for expansion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troduce market mechanism and private-led system for industrial ability securit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9" name="Text Box 5"/>
            <p:cNvSpPr/>
            <p:nvPr/>
          </p:nvSpPr>
          <p:spPr>
            <a:xfrm>
              <a:off x="4716720" y="3453120"/>
              <a:ext cx="3566160" cy="44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minate future market in advance through strategic technology development and original technology securit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xpand the industrial infrastructure through localization of component material and equipment facilities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ominate New&amp;Renewable Energy economic feasibility in advance through development of high-efficiency and low-cost technolog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177840" indent="-1778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90" name="AutoShape 122"/>
          <p:cNvSpPr/>
          <p:nvPr/>
        </p:nvSpPr>
        <p:spPr>
          <a:xfrm>
            <a:off x="500040" y="2571840"/>
            <a:ext cx="889200" cy="503280"/>
          </a:xfrm>
          <a:prstGeom prst="roundRect">
            <a:avLst>
              <a:gd name="adj" fmla="val 24606"/>
            </a:avLst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Goal</a:t>
            </a:r>
            <a:r>
              <a:rPr b="0" lang="ko-KR" sz="18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HY견명조"/>
                <a:ea typeface="HY견명조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AutoShape 122"/>
          <p:cNvSpPr/>
          <p:nvPr/>
        </p:nvSpPr>
        <p:spPr>
          <a:xfrm>
            <a:off x="4500720" y="2571840"/>
            <a:ext cx="888840" cy="503280"/>
          </a:xfrm>
          <a:prstGeom prst="roundRect">
            <a:avLst>
              <a:gd name="adj" fmla="val 24606"/>
            </a:avLst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Goal</a:t>
            </a:r>
            <a:r>
              <a:rPr b="1" lang="en-US" sz="2000" spc="-1" strike="noStrike">
                <a:solidFill>
                  <a:srgbClr val="ffff99"/>
                </a:solidFill>
                <a:latin typeface="HY견명조"/>
                <a:ea typeface="HY견명조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3" descr="07-2"/>
          <p:cNvPicPr/>
          <p:nvPr/>
        </p:nvPicPr>
        <p:blipFill>
          <a:blip r:embed="rId1"/>
          <a:srcRect l="9689" t="20278" r="50315" b="47087"/>
          <a:stretch/>
        </p:blipFill>
        <p:spPr>
          <a:xfrm>
            <a:off x="642960" y="1406520"/>
            <a:ext cx="7765920" cy="31939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6" descr="c1"/>
          <p:cNvPicPr/>
          <p:nvPr/>
        </p:nvPicPr>
        <p:blipFill>
          <a:blip r:embed="rId2">
            <a:grayscl/>
          </a:blip>
          <a:stretch/>
        </p:blipFill>
        <p:spPr>
          <a:xfrm>
            <a:off x="5913360" y="3530520"/>
            <a:ext cx="1811520" cy="10209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" descr="c1"/>
          <p:cNvPicPr/>
          <p:nvPr/>
        </p:nvPicPr>
        <p:blipFill>
          <a:blip r:embed="rId3">
            <a:grayscl/>
          </a:blip>
          <a:stretch/>
        </p:blipFill>
        <p:spPr>
          <a:xfrm>
            <a:off x="1809720" y="3530520"/>
            <a:ext cx="1811520" cy="1020960"/>
          </a:xfrm>
          <a:prstGeom prst="rect">
            <a:avLst/>
          </a:prstGeom>
          <a:ln w="0">
            <a:noFill/>
          </a:ln>
        </p:spPr>
      </p:pic>
      <p:sp>
        <p:nvSpPr>
          <p:cNvPr id="695" name="WordArt 70"/>
          <p:cNvSpPr txBox="1"/>
          <p:nvPr/>
        </p:nvSpPr>
        <p:spPr>
          <a:xfrm>
            <a:off x="2143080" y="3929040"/>
            <a:ext cx="1143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2008 (2.4%)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HY헤드라인M"/>
              <a:ea typeface="HY헤드라인M"/>
            </a:endParaRPr>
          </a:p>
        </p:txBody>
      </p:sp>
      <p:pic>
        <p:nvPicPr>
          <p:cNvPr id="696" name="Picture 74" descr="123"/>
          <p:cNvPicPr/>
          <p:nvPr/>
        </p:nvPicPr>
        <p:blipFill>
          <a:blip r:embed="rId4"/>
          <a:stretch/>
        </p:blipFill>
        <p:spPr>
          <a:xfrm>
            <a:off x="1900080" y="2470320"/>
            <a:ext cx="1641600" cy="1417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5" descr="124"/>
          <p:cNvPicPr/>
          <p:nvPr/>
        </p:nvPicPr>
        <p:blipFill>
          <a:blip r:embed="rId5"/>
          <a:stretch/>
        </p:blipFill>
        <p:spPr>
          <a:xfrm>
            <a:off x="6018120" y="2371680"/>
            <a:ext cx="1679760" cy="14511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76"/>
          <p:cNvSpPr/>
          <p:nvPr/>
        </p:nvSpPr>
        <p:spPr>
          <a:xfrm>
            <a:off x="6966360" y="1798560"/>
            <a:ext cx="10548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Geothermal: 3.8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Text Box 77"/>
          <p:cNvSpPr/>
          <p:nvPr/>
        </p:nvSpPr>
        <p:spPr>
          <a:xfrm>
            <a:off x="7138800" y="2046240"/>
            <a:ext cx="8031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Ocean.: 4.7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Text Box 78"/>
          <p:cNvSpPr/>
          <p:nvPr/>
        </p:nvSpPr>
        <p:spPr>
          <a:xfrm>
            <a:off x="7075080" y="2652840"/>
            <a:ext cx="394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as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33.4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Text Box 79"/>
          <p:cNvSpPr/>
          <p:nvPr/>
        </p:nvSpPr>
        <p:spPr>
          <a:xfrm>
            <a:off x="6109920" y="3075120"/>
            <a:ext cx="521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31.4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Text Box 80"/>
          <p:cNvSpPr/>
          <p:nvPr/>
        </p:nvSpPr>
        <p:spPr>
          <a:xfrm>
            <a:off x="5585400" y="3411360"/>
            <a:ext cx="410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Hydro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 4.4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Text Box 81"/>
          <p:cNvSpPr/>
          <p:nvPr/>
        </p:nvSpPr>
        <p:spPr>
          <a:xfrm>
            <a:off x="5081760" y="2376360"/>
            <a:ext cx="11311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ind power: 12.6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Text Box 82"/>
          <p:cNvSpPr/>
          <p:nvPr/>
        </p:nvSpPr>
        <p:spPr>
          <a:xfrm>
            <a:off x="5001120" y="2151000"/>
            <a:ext cx="12862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HY헤드라인M"/>
              </a:rPr>
              <a:t>Solar power : 4.1%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Text Box 83"/>
          <p:cNvSpPr/>
          <p:nvPr/>
        </p:nvSpPr>
        <p:spPr>
          <a:xfrm>
            <a:off x="5047920" y="1940040"/>
            <a:ext cx="11448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Solarthermal.: 5.7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Freeform 84"/>
          <p:cNvSpPr/>
          <p:nvPr/>
        </p:nvSpPr>
        <p:spPr>
          <a:xfrm>
            <a:off x="5977080" y="3365640"/>
            <a:ext cx="981000" cy="380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Line 85"/>
          <p:cNvSpPr/>
          <p:nvPr/>
        </p:nvSpPr>
        <p:spPr>
          <a:xfrm flipH="1" flipV="1">
            <a:off x="6221520" y="2481120"/>
            <a:ext cx="30312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Freeform 86"/>
          <p:cNvSpPr/>
          <p:nvPr/>
        </p:nvSpPr>
        <p:spPr>
          <a:xfrm>
            <a:off x="6253200" y="2251080"/>
            <a:ext cx="382680" cy="3697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Freeform 87"/>
          <p:cNvSpPr/>
          <p:nvPr/>
        </p:nvSpPr>
        <p:spPr>
          <a:xfrm>
            <a:off x="6213600" y="2033640"/>
            <a:ext cx="527040" cy="5094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Freeform 88"/>
          <p:cNvSpPr/>
          <p:nvPr/>
        </p:nvSpPr>
        <p:spPr>
          <a:xfrm>
            <a:off x="6853320" y="1889280"/>
            <a:ext cx="104760" cy="572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Freeform 89"/>
          <p:cNvSpPr/>
          <p:nvPr/>
        </p:nvSpPr>
        <p:spPr>
          <a:xfrm>
            <a:off x="6942240" y="2151000"/>
            <a:ext cx="195120" cy="311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Text Box 90"/>
          <p:cNvSpPr/>
          <p:nvPr/>
        </p:nvSpPr>
        <p:spPr>
          <a:xfrm>
            <a:off x="2531520" y="3218040"/>
            <a:ext cx="394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as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Text Box 91"/>
          <p:cNvSpPr/>
          <p:nvPr/>
        </p:nvSpPr>
        <p:spPr>
          <a:xfrm>
            <a:off x="2183040" y="2665440"/>
            <a:ext cx="394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Hydr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11.3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Freeform 92"/>
          <p:cNvSpPr/>
          <p:nvPr/>
        </p:nvSpPr>
        <p:spPr>
          <a:xfrm>
            <a:off x="2311560" y="2376360"/>
            <a:ext cx="339480" cy="37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Text Box 93"/>
          <p:cNvSpPr/>
          <p:nvPr/>
        </p:nvSpPr>
        <p:spPr>
          <a:xfrm>
            <a:off x="1457280" y="2305080"/>
            <a:ext cx="8794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Biomass: 7.3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Freeform 94"/>
          <p:cNvSpPr/>
          <p:nvPr/>
        </p:nvSpPr>
        <p:spPr>
          <a:xfrm>
            <a:off x="2475000" y="2173320"/>
            <a:ext cx="247680" cy="37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Text Box 95"/>
          <p:cNvSpPr/>
          <p:nvPr/>
        </p:nvSpPr>
        <p:spPr>
          <a:xfrm>
            <a:off x="1381680" y="2075040"/>
            <a:ext cx="10609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Wind power: 1.6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Freeform 96"/>
          <p:cNvSpPr/>
          <p:nvPr/>
        </p:nvSpPr>
        <p:spPr>
          <a:xfrm>
            <a:off x="2522520" y="1995480"/>
            <a:ext cx="236520" cy="574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Text Box 97"/>
          <p:cNvSpPr/>
          <p:nvPr/>
        </p:nvSpPr>
        <p:spPr>
          <a:xfrm>
            <a:off x="1327680" y="1889280"/>
            <a:ext cx="1246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HY헤드라인M"/>
              </a:rPr>
              <a:t>Solar power: 1.0%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Freeform 98"/>
          <p:cNvSpPr/>
          <p:nvPr/>
        </p:nvSpPr>
        <p:spPr>
          <a:xfrm>
            <a:off x="2700360" y="1830240"/>
            <a:ext cx="120600" cy="7048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Text Box 99"/>
          <p:cNvSpPr/>
          <p:nvPr/>
        </p:nvSpPr>
        <p:spPr>
          <a:xfrm>
            <a:off x="2055600" y="172872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Y헤드라인M"/>
              </a:rPr>
              <a:t>Etc.: 0.8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2" name="Picture 8" descr="arr002_05_"/>
          <p:cNvPicPr/>
          <p:nvPr/>
        </p:nvPicPr>
        <p:blipFill>
          <a:blip r:embed="rId6"/>
          <a:stretch/>
        </p:blipFill>
        <p:spPr>
          <a:xfrm>
            <a:off x="4214880" y="3017880"/>
            <a:ext cx="669960" cy="272880"/>
          </a:xfrm>
          <a:prstGeom prst="rect">
            <a:avLst/>
          </a:prstGeom>
          <a:ln w="0">
            <a:noFill/>
          </a:ln>
        </p:spPr>
      </p:pic>
      <p:sp>
        <p:nvSpPr>
          <p:cNvPr id="723" name="WordArt 70"/>
          <p:cNvSpPr txBox="1"/>
          <p:nvPr/>
        </p:nvSpPr>
        <p:spPr>
          <a:xfrm>
            <a:off x="6286680" y="3929040"/>
            <a:ext cx="120636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HY헤드라인M"/>
              </a:rPr>
              <a:t>2030 (11%)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HY헤드라인M"/>
              <a:ea typeface="HY헤드라인M"/>
            </a:endParaRPr>
          </a:p>
        </p:txBody>
      </p:sp>
      <p:sp>
        <p:nvSpPr>
          <p:cNvPr id="724" name="TextBox 153"/>
          <p:cNvSpPr/>
          <p:nvPr/>
        </p:nvSpPr>
        <p:spPr>
          <a:xfrm>
            <a:off x="214200" y="500040"/>
            <a:ext cx="870768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Deployment Expansion Plan in each New&amp;Renewable Energy area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500120" y="4583160"/>
            <a:ext cx="2928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2008, Supply 6.36 mil. TOE of New&amp;Renewable Energ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PV 1% (59,ooo TO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5143680" y="4579920"/>
            <a:ext cx="30715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ntil 2030,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pply 33.027mil. TOE of New&amp;Renewable Energ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PV 4.1% (1.364 mil. TO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Text Box 82"/>
          <p:cNvSpPr/>
          <p:nvPr/>
        </p:nvSpPr>
        <p:spPr>
          <a:xfrm>
            <a:off x="3860640" y="3429000"/>
            <a:ext cx="170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HY헤드라인M"/>
              </a:rPr>
              <a:t>Invest total 6 bil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HY헤드라인M"/>
              </a:rPr>
              <a:t>In R&amp;D until 203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25"/>
          <p:cNvSpPr/>
          <p:nvPr/>
        </p:nvSpPr>
        <p:spPr>
          <a:xfrm>
            <a:off x="365040" y="500040"/>
            <a:ext cx="877896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PV Implementation Strategy ( 3</a:t>
            </a:r>
            <a:r>
              <a:rPr b="0" lang="en-US" sz="2000" spc="-1" strike="noStrike" baseline="30000">
                <a:solidFill>
                  <a:srgbClr val="ffff99"/>
                </a:solidFill>
                <a:latin typeface="HY헤드라인M"/>
                <a:ea typeface="HY헤드라인M"/>
              </a:rPr>
              <a:t>rd</a:t>
            </a:r>
            <a:r>
              <a:rPr b="0" lang="en-US" sz="2000" spc="-1" strike="noStrike">
                <a:solidFill>
                  <a:srgbClr val="ffff99"/>
                </a:solidFill>
                <a:latin typeface="HY헤드라인M"/>
                <a:ea typeface="HY헤드라인M"/>
              </a:rPr>
              <a:t> New&amp;Renewable Energy Ac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내용 개체 틀 9"/>
          <p:cNvSpPr/>
          <p:nvPr/>
        </p:nvSpPr>
        <p:spPr>
          <a:xfrm>
            <a:off x="714240" y="2000160"/>
            <a:ext cx="7858440" cy="1714680"/>
          </a:xfrm>
          <a:prstGeom prst="rect">
            <a:avLst/>
          </a:prstGeom>
          <a:solidFill>
            <a:srgbClr val="fdeada"/>
          </a:solidFill>
          <a:ln w="93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velop  Solar cell process technology for economic feasi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velop  localization of PV Development system and standard system for 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evelop the evaluation technology of PV performance  measuremen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아래쪽 화살표 59"/>
          <p:cNvSpPr/>
          <p:nvPr/>
        </p:nvSpPr>
        <p:spPr>
          <a:xfrm rot="16200000">
            <a:off x="3214800" y="1428840"/>
            <a:ext cx="357120" cy="357120"/>
          </a:xfrm>
          <a:prstGeom prst="downArrow">
            <a:avLst>
              <a:gd name="adj1" fmla="val 50000"/>
              <a:gd name="adj2" fmla="val 32935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1" name="다이어그램 62" descr=""/>
          <p:cNvPicPr/>
          <p:nvPr/>
        </p:nvPicPr>
        <p:blipFill>
          <a:blip r:embed="rId5"/>
          <a:stretch/>
        </p:blipFill>
        <p:spPr>
          <a:xfrm>
            <a:off x="701640" y="1079640"/>
            <a:ext cx="2316240" cy="858600"/>
          </a:xfrm>
          <a:prstGeom prst="rect">
            <a:avLst/>
          </a:prstGeom>
          <a:ln w="0">
            <a:noFill/>
          </a:ln>
        </p:spPr>
      </p:pic>
      <p:pic>
        <p:nvPicPr>
          <p:cNvPr id="732" name="다이어그램 63" descr=""/>
          <p:cNvPicPr/>
          <p:nvPr/>
        </p:nvPicPr>
        <p:blipFill>
          <a:blip r:embed="rId6"/>
          <a:stretch/>
        </p:blipFill>
        <p:spPr>
          <a:xfrm>
            <a:off x="3700440" y="1079640"/>
            <a:ext cx="1962000" cy="858600"/>
          </a:xfrm>
          <a:prstGeom prst="rect">
            <a:avLst/>
          </a:prstGeom>
          <a:ln w="0">
            <a:noFill/>
          </a:ln>
        </p:spPr>
      </p:pic>
      <p:pic>
        <p:nvPicPr>
          <p:cNvPr id="733" name="다이어그램 64" descr=""/>
          <p:cNvPicPr/>
          <p:nvPr/>
        </p:nvPicPr>
        <p:blipFill>
          <a:blip r:embed="rId7"/>
          <a:stretch/>
        </p:blipFill>
        <p:spPr>
          <a:xfrm>
            <a:off x="6242040" y="1109520"/>
            <a:ext cx="2523960" cy="858960"/>
          </a:xfrm>
          <a:prstGeom prst="rect">
            <a:avLst/>
          </a:prstGeom>
          <a:ln w="0">
            <a:noFill/>
          </a:ln>
        </p:spPr>
      </p:pic>
      <p:sp>
        <p:nvSpPr>
          <p:cNvPr id="734" name="아래쪽 화살표 65"/>
          <p:cNvSpPr/>
          <p:nvPr/>
        </p:nvSpPr>
        <p:spPr>
          <a:xfrm rot="16200000">
            <a:off x="5857920" y="1428840"/>
            <a:ext cx="357120" cy="357120"/>
          </a:xfrm>
          <a:prstGeom prst="downArrow">
            <a:avLst>
              <a:gd name="adj1" fmla="val 50000"/>
              <a:gd name="adj2" fmla="val 32935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714240" y="3797280"/>
          <a:ext cx="7643880" cy="2595600"/>
        </p:xfrm>
        <a:graphic>
          <a:graphicData uri="http://schemas.openxmlformats.org/drawingml/2006/table">
            <a:tbl>
              <a:tblPr/>
              <a:tblGrid>
                <a:gridCol w="2349720"/>
                <a:gridCol w="1765080"/>
                <a:gridCol w="1764000"/>
                <a:gridCol w="1765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Unit price of Electricit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(USD/kW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Price of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(USD/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Intern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market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% (‘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% (‘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Amount of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옛체"/>
                          <a:ea typeface="휴먼옛체"/>
                        </a:rPr>
                        <a:t>(bil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‘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‘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8:38:57Z</dcterms:created>
  <dc:creator>balgun</dc:creator>
  <dc:description/>
  <dc:language>en-US</dc:language>
  <cp:lastModifiedBy>admin</cp:lastModifiedBy>
  <dcterms:modified xsi:type="dcterms:W3CDTF">2010-04-13T09:14:15Z</dcterms:modified>
  <cp:revision>419</cp:revision>
  <dc:subject/>
  <dc:title>슬라이드 1</dc:title>
</cp:coreProperties>
</file>