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t_screech.wav" ContentType="audio/x-wav"/>
  <Override PartName="/ppt/media/image70.jpeg" ContentType="image/jpeg"/>
  <Override PartName="/ppt/media/image48.gif" ContentType="image/gif"/>
  <Override PartName="/ppt/media/horse.wav" ContentType="audio/x-wav"/>
  <Override PartName="/ppt/media/image13.jpeg" ContentType="image/jpeg"/>
  <Override PartName="/ppt/media/image47.gif" ContentType="image/gif"/>
  <Override PartName="/ppt/media/image26.jpeg" ContentType="image/jpeg"/>
  <Override PartName="/ppt/media/dogbrk.wav" ContentType="audio/x-wav"/>
  <Override PartName="/ppt/media/image45.jpeg" ContentType="image/jpeg"/>
  <Override PartName="/ppt/media/image43.gif" ContentType="image/gif"/>
  <Override PartName="/ppt/media/image42.gif" ContentType="image/gif"/>
  <Override PartName="/ppt/media/cat01.wav" ContentType="audio/x-wav"/>
  <Override PartName="/ppt/media/image38.gif" ContentType="image/gif"/>
  <Override PartName="/ppt/media/image44.gif" ContentType="image/gif"/>
  <Override PartName="/ppt/media/image34.jpeg" ContentType="image/jpeg"/>
  <Override PartName="/ppt/media/image33.png" ContentType="image/png"/>
  <Override PartName="/ppt/media/dog_ruff.wav" ContentType="audio/x-wav"/>
  <Override PartName="/ppt/media/image36.jpeg" ContentType="image/jpeg"/>
  <Override PartName="/ppt/media/barkpant.wav" ContentType="audio/x-wav"/>
  <Override PartName="/ppt/media/image10.jpeg" ContentType="image/jpeg"/>
  <Override PartName="/ppt/media/image27.jpeg" ContentType="image/jpeg"/>
  <Override PartName="/ppt/media/dog01.wav" ContentType="audio/x-wav"/>
  <Override PartName="/ppt/media/image57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58.gif" ContentType="image/gif"/>
  <Override PartName="/ppt/media/image37.gif" ContentType="image/gif"/>
  <Override PartName="/ppt/media/image25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Cat_2.wav" ContentType="audio/x-wav"/>
  <Override PartName="/ppt/media/image50.gif" ContentType="image/gif"/>
  <Override PartName="/ppt/media/image49.gif" ContentType="image/gif"/>
  <Override PartName="/ppt/media/image17.jpeg" ContentType="image/jpeg"/>
  <Override PartName="/ppt/media/image51.gif" ContentType="image/gif"/>
  <Override PartName="/ppt/media/%D8%AA%D9%84%D9%8A%D9%81%D9%88%D9%86.wav" ContentType="audio/x-wav"/>
  <Override PartName="/ppt/media/image21.jpeg" ContentType="image/jpeg"/>
  <Override PartName="/ppt/media/image54.gif" ContentType="image/gif"/>
  <Override PartName="/ppt/media/image1.jpeg" ContentType="image/jpeg"/>
  <Override PartName="/ppt/media/image35.jpeg" ContentType="image/jpeg"/>
  <Override PartName="/ppt/media/dog_yelp.wav" ContentType="audio/x-wav"/>
  <Override PartName="/ppt/media/Cat2.wav" ContentType="audio/x-wav"/>
  <Override PartName="/ppt/media/image55.gif" ContentType="image/gif"/>
  <Override PartName="/ppt/media/image9.jpeg" ContentType="image/jpeg"/>
  <Override PartName="/ppt/media/image71.jpeg" ContentType="image/jpeg"/>
  <Override PartName="/ppt/media/image20.jpeg" ContentType="image/jpeg"/>
  <Override PartName="/ppt/media/image52.gif" ContentType="image/gif"/>
  <Override PartName="/ppt/media/image64.png" ContentType="image/png"/>
  <Override PartName="/ppt/media/%D8%B3%D8%B1%D9%8A%D9%86%D8%A9.WAV" ContentType="audio/x-wav"/>
  <Override PartName="/ppt/media/image19.gif" ContentType="image/gif"/>
  <Override PartName="/ppt/media/image14.jpeg" ContentType="image/jpeg"/>
  <Override PartName="/ppt/media/image68.jpeg" ContentType="image/jpeg"/>
  <Override PartName="/ppt/media/image69.jpeg" ContentType="image/jpeg"/>
  <Override PartName="/ppt/media/image24.jpeg" ContentType="image/jpeg"/>
  <Override PartName="/ppt/media/image66.gif" ContentType="image/gif"/>
  <Override PartName="/ppt/media/image67.jpeg" ContentType="image/jpeg"/>
  <Override PartName="/ppt/media/image65.gif" ContentType="image/gif"/>
  <Override PartName="/ppt/media/%D9%81%D8%B1%D8%A7%D9%85%D9%84.wav" ContentType="audio/x-wav"/>
  <Override PartName="/ppt/media/%D8%B3%D8%A7%D8%B9%D8%A9.wav" ContentType="audio/x-wav"/>
  <Override PartName="/ppt/media/image60.gif" ContentType="image/gif"/>
  <Override PartName="/ppt/media/image63.jpeg" ContentType="image/jpeg"/>
  <Override PartName="/ppt/media/%D8%A7%D9%84%D8%AF%D9%8A%D9%83.WAV" ContentType="audio/x-wav"/>
  <Override PartName="/ppt/media/image6.jpeg" ContentType="image/jpeg"/>
  <Override PartName="/ppt/media/image62.png" ContentType="image/png"/>
  <Override PartName="/ppt/media/image40.jpeg" ContentType="image/jpeg"/>
  <Override PartName="/ppt/media/image53.gif" ContentType="image/gif"/>
  <Override PartName="/ppt/media/image41.gif" ContentType="image/gif"/>
  <Override PartName="/ppt/media/image29.jpeg" ContentType="image/jpeg"/>
  <Override PartName="/ppt/media/image12.jpeg" ContentType="image/jpeg"/>
  <Override PartName="/ppt/media/image22.jpeg" ContentType="image/jpeg"/>
  <Override PartName="/ppt/media/image46.gif" ContentType="image/gif"/>
  <Override PartName="/ppt/media/image23.jpeg" ContentType="image/jpeg"/>
  <Override PartName="/ppt/media/3.WAV" ContentType="audio/x-wav"/>
  <Override PartName="/ppt/media/image56.gif" ContentType="image/gif"/>
  <Override PartName="/ppt/media/image2.jpeg" ContentType="image/jpeg"/>
  <Override PartName="/ppt/media/image18.jpeg" ContentType="image/jpeg"/>
  <Override PartName="/ppt/media/dog03.wav" ContentType="audio/x-wav"/>
  <Override PartName="/ppt/media/image59.gif" ContentType="image/gif"/>
  <Override PartName="/ppt/media/image3.jpeg" ContentType="image/jpeg"/>
  <Override PartName="/ppt/media/image4.jpeg" ContentType="image/jpeg"/>
  <Override PartName="/ppt/media/image61.png" ContentType="image/png"/>
  <Override PartName="/ppt/media/image5.jpeg" ContentType="image/jpeg"/>
  <Override PartName="/ppt/media/%D8%B9%D8%B3%D9%83%D8%B1%D9%8A%D8%A9.wav" ContentType="audio/x-wav"/>
  <Override PartName="/ppt/media/image7.jpeg" ContentType="image/jpeg"/>
  <Override PartName="/ppt/media/image8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953-17B9-4B44-B457-5B2199C6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01F-67EA-461F-A615-0332C8C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6BB-3C42-4D31-B143-17368F71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8DB-8F1A-4E87-9C15-737AA3A3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4C5-06CE-4B80-BD7F-A23F8ED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922-AA3C-4F09-9FB0-F781449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962-FCFB-4C5A-A6A3-FA73B4B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13C-AB9D-4A98-9B88-E0FDF94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D87-F5BC-438E-B6FB-1F3DACC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771-FD62-42F2-A474-228CDE3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D58-CECF-43CE-91C2-0DE2AF3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795-54C4-4925-A8A3-6A53252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BDB-56EF-4DF7-935F-D155FCB2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smane2000@yahoo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3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audio" Target="../media/dog01.wav"/><Relationship Id="rId8" Type="http://schemas.openxmlformats.org/officeDocument/2006/relationships/audio" Target="../media/dog03.wav"/><Relationship Id="rId9" Type="http://schemas.openxmlformats.org/officeDocument/2006/relationships/audio" Target="../media/dog_yelp.wav"/><Relationship Id="rId10" Type="http://schemas.openxmlformats.org/officeDocument/2006/relationships/audio" Target="../media/barkpant.wav"/><Relationship Id="rId11" Type="http://schemas.openxmlformats.org/officeDocument/2006/relationships/audio" Target="../media/dog_ruff.wav"/><Relationship Id="rId12" Type="http://schemas.openxmlformats.org/officeDocument/2006/relationships/audio" Target="../media/dogbrk.wav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audio" Target="../media/dog01.wav"/><Relationship Id="rId8" Type="http://schemas.openxmlformats.org/officeDocument/2006/relationships/audio" Target="../media/dog03.wav"/><Relationship Id="rId9" Type="http://schemas.openxmlformats.org/officeDocument/2006/relationships/audio" Target="../media/dog_yelp.wav"/><Relationship Id="rId10" Type="http://schemas.openxmlformats.org/officeDocument/2006/relationships/audio" Target="../media/barkpant.wav"/><Relationship Id="rId11" Type="http://schemas.openxmlformats.org/officeDocument/2006/relationships/audio" Target="../media/dog_ruff.wav"/><Relationship Id="rId12" Type="http://schemas.openxmlformats.org/officeDocument/2006/relationships/audio" Target="../media/dogbrk.wav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audio" Target="../media/horse.wav"/><Relationship Id="rId8" Type="http://schemas.openxmlformats.org/officeDocument/2006/relationships/audio" Target="../media/horse.wav"/><Relationship Id="rId9" Type="http://schemas.openxmlformats.org/officeDocument/2006/relationships/audio" Target="../media/horse.wav"/><Relationship Id="rId10" Type="http://schemas.openxmlformats.org/officeDocument/2006/relationships/audio" Target="../media/horse.wav"/><Relationship Id="rId11" Type="http://schemas.openxmlformats.org/officeDocument/2006/relationships/audio" Target="../media/horse.wav"/><Relationship Id="rId12" Type="http://schemas.openxmlformats.org/officeDocument/2006/relationships/audio" Target="../media/horse.wav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audio" Target="../media/horse.wav"/><Relationship Id="rId8" Type="http://schemas.openxmlformats.org/officeDocument/2006/relationships/audio" Target="../media/horse.wav"/><Relationship Id="rId9" Type="http://schemas.openxmlformats.org/officeDocument/2006/relationships/audio" Target="../media/horse.wav"/><Relationship Id="rId10" Type="http://schemas.openxmlformats.org/officeDocument/2006/relationships/audio" Target="../media/horse.wav"/><Relationship Id="rId11" Type="http://schemas.openxmlformats.org/officeDocument/2006/relationships/audio" Target="../media/horse.wav"/><Relationship Id="rId12" Type="http://schemas.openxmlformats.org/officeDocument/2006/relationships/audio" Target="../media/horse.wav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audio" Target="../media/Cat2.wav"/><Relationship Id="rId8" Type="http://schemas.openxmlformats.org/officeDocument/2006/relationships/audio" Target="../media/Cat2.wav"/><Relationship Id="rId9" Type="http://schemas.openxmlformats.org/officeDocument/2006/relationships/audio" Target="../media/cat_screech.wav"/><Relationship Id="rId10" Type="http://schemas.openxmlformats.org/officeDocument/2006/relationships/audio" Target="../media/cat01.wav"/><Relationship Id="rId11" Type="http://schemas.openxmlformats.org/officeDocument/2006/relationships/audio" Target="../media/Cat2.wav"/><Relationship Id="rId12" Type="http://schemas.openxmlformats.org/officeDocument/2006/relationships/audio" Target="../media/Cat_2.wav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audio" Target="../media/Cat2.wav"/><Relationship Id="rId8" Type="http://schemas.openxmlformats.org/officeDocument/2006/relationships/audio" Target="../media/Cat2.wav"/><Relationship Id="rId9" Type="http://schemas.openxmlformats.org/officeDocument/2006/relationships/audio" Target="../media/cat_screech.wav"/><Relationship Id="rId10" Type="http://schemas.openxmlformats.org/officeDocument/2006/relationships/audio" Target="../media/cat01.wav"/><Relationship Id="rId11" Type="http://schemas.openxmlformats.org/officeDocument/2006/relationships/audio" Target="../media/Cat2.wav"/><Relationship Id="rId12" Type="http://schemas.openxmlformats.org/officeDocument/2006/relationships/audio" Target="../media/Cat_2.wav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&#1575;&#1604;&#1583;&#1610;&#1603;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image" Target="../media/image57.gif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image" Target="../media/image57.gif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8.gif"/><Relationship Id="rId3" Type="http://schemas.openxmlformats.org/officeDocument/2006/relationships/image" Target="../media/image58.gif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58.gif"/><Relationship Id="rId9" Type="http://schemas.openxmlformats.org/officeDocument/2006/relationships/image" Target="../media/image58.gif"/><Relationship Id="rId10" Type="http://schemas.openxmlformats.org/officeDocument/2006/relationships/audio" Target="../media/&#1578;&#1604;&#1610;&#1601;&#1608;&#1606;.wav"/><Relationship Id="rId11" Type="http://schemas.openxmlformats.org/officeDocument/2006/relationships/audio" Target="../media/&#1578;&#1604;&#1610;&#1601;&#1608;&#1606;.wav"/><Relationship Id="rId12" Type="http://schemas.openxmlformats.org/officeDocument/2006/relationships/audio" Target="../media/&#1578;&#1604;&#1610;&#1601;&#1608;&#1606;.wav"/><Relationship Id="rId13" Type="http://schemas.openxmlformats.org/officeDocument/2006/relationships/audio" Target="../media/&#1578;&#1604;&#1610;&#1601;&#1608;&#1606;.wav"/><Relationship Id="rId14" Type="http://schemas.openxmlformats.org/officeDocument/2006/relationships/audio" Target="../media/&#1578;&#1604;&#1610;&#1601;&#1608;&#1606;.wav"/><Relationship Id="rId15" Type="http://schemas.openxmlformats.org/officeDocument/2006/relationships/audio" Target="../media/&#1578;&#1604;&#1610;&#1601;&#1608;&#1606;.wav"/><Relationship Id="rId16" Type="http://schemas.openxmlformats.org/officeDocument/2006/relationships/audio" Target="../media/&#1578;&#1604;&#1610;&#1601;&#1608;&#1606;.wav"/><Relationship Id="rId17" Type="http://schemas.openxmlformats.org/officeDocument/2006/relationships/audio" Target="../media/&#1578;&#1604;&#1610;&#1601;&#1608;&#1606;.wav"/><Relationship Id="rId18" Type="http://schemas.openxmlformats.org/officeDocument/2006/relationships/audio" Target="../media/&#1578;&#1604;&#1610;&#1601;&#1608;&#1606;.wav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59.gif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audio" Target="../media/&#1593;&#1587;&#1603;&#1585;&#1610;&#1577;.wav"/><Relationship Id="rId11" Type="http://schemas.openxmlformats.org/officeDocument/2006/relationships/audio" Target="../media/&#1593;&#1587;&#1603;&#1585;&#1610;&#1577;.wav"/><Relationship Id="rId12" Type="http://schemas.openxmlformats.org/officeDocument/2006/relationships/audio" Target="../media/&#1593;&#1587;&#1603;&#1585;&#1610;&#1577;.wav"/><Relationship Id="rId13" Type="http://schemas.openxmlformats.org/officeDocument/2006/relationships/audio" Target="../media/&#1593;&#1587;&#1603;&#1585;&#1610;&#1577;.wav"/><Relationship Id="rId14" Type="http://schemas.openxmlformats.org/officeDocument/2006/relationships/audio" Target="../media/&#1593;&#1587;&#1603;&#1585;&#1610;&#1577;.wav"/><Relationship Id="rId15" Type="http://schemas.openxmlformats.org/officeDocument/2006/relationships/audio" Target="../media/&#1593;&#1587;&#1603;&#1585;&#1610;&#1577;.wav"/><Relationship Id="rId16" Type="http://schemas.openxmlformats.org/officeDocument/2006/relationships/audio" Target="../media/&#1593;&#1587;&#1603;&#1585;&#1610;&#1577;.wav"/><Relationship Id="rId17" Type="http://schemas.openxmlformats.org/officeDocument/2006/relationships/audio" Target="../media/&#1593;&#1587;&#1603;&#1585;&#1610;&#1577;.wav"/><Relationship Id="rId18" Type="http://schemas.openxmlformats.org/officeDocument/2006/relationships/audio" Target="../media/&#1593;&#1587;&#1603;&#1585;&#1610;&#1577;.wav"/><Relationship Id="rId1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audio" Target="../media/&#1587;&#1575;&#1593;&#1577;.wav"/><Relationship Id="rId11" Type="http://schemas.openxmlformats.org/officeDocument/2006/relationships/audio" Target="../media/&#1587;&#1575;&#1593;&#1577;.wav"/><Relationship Id="rId12" Type="http://schemas.openxmlformats.org/officeDocument/2006/relationships/audio" Target="../media/&#1587;&#1575;&#1593;&#1577;.wav"/><Relationship Id="rId13" Type="http://schemas.openxmlformats.org/officeDocument/2006/relationships/audio" Target="../media/&#1587;&#1575;&#1593;&#1577;.wav"/><Relationship Id="rId14" Type="http://schemas.openxmlformats.org/officeDocument/2006/relationships/audio" Target="../media/&#1587;&#1575;&#1593;&#1577;.wav"/><Relationship Id="rId15" Type="http://schemas.openxmlformats.org/officeDocument/2006/relationships/audio" Target="../media/&#1587;&#1575;&#1593;&#1577;.wav"/><Relationship Id="rId16" Type="http://schemas.openxmlformats.org/officeDocument/2006/relationships/audio" Target="../media/&#1587;&#1575;&#1593;&#1577;.wav"/><Relationship Id="rId17" Type="http://schemas.openxmlformats.org/officeDocument/2006/relationships/audio" Target="../media/&#1587;&#1575;&#1593;&#1577;.wav"/><Relationship Id="rId18" Type="http://schemas.openxmlformats.org/officeDocument/2006/relationships/audio" Target="../media/&#1587;&#1575;&#1593;&#1577;.wav"/><Relationship Id="rId1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gif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image" Target="../media/image65.gif"/><Relationship Id="rId6" Type="http://schemas.openxmlformats.org/officeDocument/2006/relationships/image" Target="../media/image65.gif"/><Relationship Id="rId7" Type="http://schemas.openxmlformats.org/officeDocument/2006/relationships/image" Target="../media/image65.gif"/><Relationship Id="rId8" Type="http://schemas.openxmlformats.org/officeDocument/2006/relationships/image" Target="../media/image65.gif"/><Relationship Id="rId9" Type="http://schemas.openxmlformats.org/officeDocument/2006/relationships/image" Target="../media/image65.gif"/><Relationship Id="rId10" Type="http://schemas.openxmlformats.org/officeDocument/2006/relationships/image" Target="../media/image65.gif"/><Relationship Id="rId11" Type="http://schemas.openxmlformats.org/officeDocument/2006/relationships/image" Target="../media/image65.gif"/><Relationship Id="rId12" Type="http://schemas.openxmlformats.org/officeDocument/2006/relationships/audio" Target="../media/&#1601;&#1585;&#1575;&#1605;&#1604;.wav"/><Relationship Id="rId13" Type="http://schemas.openxmlformats.org/officeDocument/2006/relationships/audio" Target="../media/&#1587;&#1585;&#1610;&#1606;&#1577;.WAV"/><Relationship Id="rId14" Type="http://schemas.openxmlformats.org/officeDocument/2006/relationships/audio" Target="../media/&#1587;&#1585;&#1610;&#1606;&#1577;.WAV"/><Relationship Id="rId15" Type="http://schemas.openxmlformats.org/officeDocument/2006/relationships/audio" Target="../media/&#1587;&#1585;&#1610;&#1606;&#1577;.WAV"/><Relationship Id="rId16" Type="http://schemas.openxmlformats.org/officeDocument/2006/relationships/audio" Target="../media/&#1587;&#1585;&#1610;&#1606;&#1577;.WAV"/><Relationship Id="rId17" Type="http://schemas.openxmlformats.org/officeDocument/2006/relationships/audio" Target="../media/&#1587;&#1585;&#1610;&#1606;&#1577;.WAV"/><Relationship Id="rId18" Type="http://schemas.openxmlformats.org/officeDocument/2006/relationships/audio" Target="../media/&#1587;&#1585;&#1610;&#1606;&#1577;.WAV"/><Relationship Id="rId19" Type="http://schemas.openxmlformats.org/officeDocument/2006/relationships/audio" Target="../media/&#1587;&#1585;&#1610;&#1606;&#1577;.WAV"/><Relationship Id="rId20" Type="http://schemas.openxmlformats.org/officeDocument/2006/relationships/audio" Target="../media/&#1587;&#1585;&#1610;&#1606;&#1577;.WAV"/><Relationship Id="rId21" Type="http://schemas.openxmlformats.org/officeDocument/2006/relationships/audio" Target="../media/&#1587;&#1585;&#1610;&#1606;&#1577;.WAV"/><Relationship Id="rId2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6.gif"/><Relationship Id="rId3" Type="http://schemas.openxmlformats.org/officeDocument/2006/relationships/image" Target="../media/image66.gif"/><Relationship Id="rId4" Type="http://schemas.openxmlformats.org/officeDocument/2006/relationships/image" Target="../media/image66.gif"/><Relationship Id="rId5" Type="http://schemas.openxmlformats.org/officeDocument/2006/relationships/image" Target="../media/image66.gif"/><Relationship Id="rId6" Type="http://schemas.openxmlformats.org/officeDocument/2006/relationships/image" Target="../media/image66.gif"/><Relationship Id="rId7" Type="http://schemas.openxmlformats.org/officeDocument/2006/relationships/image" Target="../media/image66.gif"/><Relationship Id="rId8" Type="http://schemas.openxmlformats.org/officeDocument/2006/relationships/image" Target="../media/image66.gif"/><Relationship Id="rId9" Type="http://schemas.openxmlformats.org/officeDocument/2006/relationships/image" Target="../media/image66.gif"/><Relationship Id="rId10" Type="http://schemas.openxmlformats.org/officeDocument/2006/relationships/image" Target="../media/image66.gif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7.jpeg"/><Relationship Id="rId3" Type="http://schemas.openxmlformats.org/officeDocument/2006/relationships/image" Target="../media/image67.jpeg"/><Relationship Id="rId4" Type="http://schemas.openxmlformats.org/officeDocument/2006/relationships/image" Target="../media/image67.jpeg"/><Relationship Id="rId5" Type="http://schemas.openxmlformats.org/officeDocument/2006/relationships/image" Target="../media/image67.jpeg"/><Relationship Id="rId6" Type="http://schemas.openxmlformats.org/officeDocument/2006/relationships/image" Target="../media/image67.jpeg"/><Relationship Id="rId7" Type="http://schemas.openxmlformats.org/officeDocument/2006/relationships/image" Target="../media/image67.jpeg"/><Relationship Id="rId8" Type="http://schemas.openxmlformats.org/officeDocument/2006/relationships/image" Target="../media/image67.jpeg"/><Relationship Id="rId9" Type="http://schemas.openxmlformats.org/officeDocument/2006/relationships/image" Target="../media/image67.jpeg"/><Relationship Id="rId10" Type="http://schemas.openxmlformats.org/officeDocument/2006/relationships/image" Target="../media/image67.jpeg"/><Relationship Id="rId1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8.jpeg"/><Relationship Id="rId3" Type="http://schemas.openxmlformats.org/officeDocument/2006/relationships/image" Target="../media/image68.jpeg"/><Relationship Id="rId4" Type="http://schemas.openxmlformats.org/officeDocument/2006/relationships/image" Target="../media/image68.jpeg"/><Relationship Id="rId5" Type="http://schemas.openxmlformats.org/officeDocument/2006/relationships/image" Target="../media/image68.jpeg"/><Relationship Id="rId6" Type="http://schemas.openxmlformats.org/officeDocument/2006/relationships/image" Target="../media/image68.jpeg"/><Relationship Id="rId7" Type="http://schemas.openxmlformats.org/officeDocument/2006/relationships/image" Target="../media/image68.jpeg"/><Relationship Id="rId8" Type="http://schemas.openxmlformats.org/officeDocument/2006/relationships/image" Target="../media/image68.jpeg"/><Relationship Id="rId9" Type="http://schemas.openxmlformats.org/officeDocument/2006/relationships/image" Target="../media/image68.jpeg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69.jpeg"/><Relationship Id="rId3" Type="http://schemas.openxmlformats.org/officeDocument/2006/relationships/image" Target="../media/image69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0.jpeg"/><Relationship Id="rId7" Type="http://schemas.openxmlformats.org/officeDocument/2006/relationships/image" Target="../media/image70.jpeg"/><Relationship Id="rId8" Type="http://schemas.openxmlformats.org/officeDocument/2006/relationships/image" Target="../media/image70.jpeg"/><Relationship Id="rId9" Type="http://schemas.openxmlformats.org/officeDocument/2006/relationships/image" Target="../media/image70.jpeg"/><Relationship Id="rId10" Type="http://schemas.openxmlformats.org/officeDocument/2006/relationships/image" Target="../media/image70.jpeg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1.jpeg"/><Relationship Id="rId3" Type="http://schemas.openxmlformats.org/officeDocument/2006/relationships/image" Target="../media/image71.jpeg"/><Relationship Id="rId4" Type="http://schemas.openxmlformats.org/officeDocument/2006/relationships/image" Target="../media/image71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71.jpeg"/><Relationship Id="rId8" Type="http://schemas.openxmlformats.org/officeDocument/2006/relationships/image" Target="../media/image71.jpeg"/><Relationship Id="rId9" Type="http://schemas.openxmlformats.org/officeDocument/2006/relationships/image" Target="../media/image71.jpeg"/><Relationship Id="rId10" Type="http://schemas.openxmlformats.org/officeDocument/2006/relationships/image" Target="../media/image7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00"/>
          </a:solidFill>
          <a:ln w="7632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أعده لك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يوسف جابر أحمد عبد الن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درس أول لغة 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جمهورية مصر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حافظة كفرالشي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درسة علي عبد الشكور التجريبية للغ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ؤلف كتاب اليوسف لتعليم مبادئ اللغة العر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طبع ونشر وتوزيع مكتبة النجاح بالفجالة القاه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تليفون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0473247783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وبايل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01076566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smane2000@yahoo.c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700280"/>
            <a:ext cx="1871640" cy="266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1885680" cy="304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1886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88000" y="1986120"/>
            <a:ext cx="2808360" cy="216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2720" y="2127240"/>
            <a:ext cx="28083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564000" cy="317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9530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745080" cy="317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686320" cy="28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268596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87800" y="2890800"/>
            <a:ext cx="3329280" cy="219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32000" y="2868480"/>
            <a:ext cx="33289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2004840"/>
            <a:ext cx="4608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1865520" cy="311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1865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4240" y="476280"/>
            <a:ext cx="3210120" cy="4465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2600" y="476280"/>
            <a:ext cx="32101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7231" t="0" r="25638" b="0"/>
          <a:stretch/>
        </p:blipFill>
        <p:spPr>
          <a:xfrm>
            <a:off x="108000" y="260280"/>
            <a:ext cx="3787560" cy="60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430" t="0" r="23899" b="0"/>
          <a:stretch/>
        </p:blipFill>
        <p:spPr>
          <a:xfrm>
            <a:off x="755640" y="981000"/>
            <a:ext cx="3511440" cy="482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48360" y="1052640"/>
            <a:ext cx="1871640" cy="172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78360" y="1341360"/>
            <a:ext cx="246528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1873080"/>
            <a:ext cx="329256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078000" cy="234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078000" cy="23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07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286000" cy="253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2286000" cy="253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22860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72160" y="2060640"/>
            <a:ext cx="2392560" cy="160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2392560" cy="160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23922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23080" y="1386000"/>
            <a:ext cx="2825640" cy="2289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2825640" cy="22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360" y="1413000"/>
            <a:ext cx="282600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87800" y="1768320"/>
            <a:ext cx="390528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90528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3905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5800" y="1328760"/>
            <a:ext cx="3184200" cy="232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184560" cy="232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4059360"/>
            <a:ext cx="31845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83080" y="3424320"/>
            <a:ext cx="2610000" cy="2297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9800" y="3436920"/>
            <a:ext cx="2609640" cy="2297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610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539720"/>
            <a:ext cx="684036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38715" t="10071" r="29128" b="15370"/>
          <a:stretch/>
        </p:blipFill>
        <p:spPr>
          <a:xfrm>
            <a:off x="108000" y="73080"/>
            <a:ext cx="3751200" cy="652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305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9033" t="0" r="3228" b="0"/>
          <a:stretch/>
        </p:blipFill>
        <p:spPr>
          <a:xfrm>
            <a:off x="614520" y="1125360"/>
            <a:ext cx="3743280" cy="2206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9033" t="0" r="3228" b="0"/>
          <a:stretch/>
        </p:blipFill>
        <p:spPr>
          <a:xfrm>
            <a:off x="5005440" y="1136520"/>
            <a:ext cx="3743280" cy="220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9033" t="0" r="3228" b="0"/>
          <a:stretch/>
        </p:blipFill>
        <p:spPr>
          <a:xfrm>
            <a:off x="611280" y="3516480"/>
            <a:ext cx="3743280" cy="220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9033" t="0" r="3228" b="0"/>
          <a:stretch/>
        </p:blipFill>
        <p:spPr>
          <a:xfrm>
            <a:off x="5002200" y="3527280"/>
            <a:ext cx="37432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" y="26028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56120" y="375912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4920" y="3759120"/>
            <a:ext cx="42004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508200" cy="263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508200" cy="263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3676680"/>
            <a:ext cx="3508200" cy="2631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8360" y="3676680"/>
            <a:ext cx="3508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21160" y="1197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9640" y="3672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21160" y="3672000"/>
            <a:ext cx="3714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61920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00720" y="352908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50920" y="3598920"/>
            <a:ext cx="24447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93040" y="1125360"/>
            <a:ext cx="2442960" cy="2443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1400" y="1125360"/>
            <a:ext cx="2442960" cy="2443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24429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4217" t="0" r="859" b="0"/>
          <a:stretch/>
        </p:blipFill>
        <p:spPr>
          <a:xfrm>
            <a:off x="157320" y="216000"/>
            <a:ext cx="4485960" cy="630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3160" y="333360"/>
            <a:ext cx="763920" cy="42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2784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2436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36700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828720" y="333360"/>
            <a:ext cx="1125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32720" y="31561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31561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796000" y="333360"/>
            <a:ext cx="2065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776320" cy="170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921040" cy="17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3500280"/>
            <a:ext cx="2994120" cy="18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31320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52640" y="2104920"/>
            <a:ext cx="343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2189160" cy="131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2162160" cy="1298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297160" cy="137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79280" y="3357720"/>
            <a:ext cx="23558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1430" t="0" r="23899" b="0"/>
          <a:stretch/>
        </p:blipFill>
        <p:spPr>
          <a:xfrm>
            <a:off x="108000" y="1270080"/>
            <a:ext cx="2617560" cy="359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859" t="0" r="4217" b="0"/>
          <a:stretch/>
        </p:blipFill>
        <p:spPr>
          <a:xfrm>
            <a:off x="2641680" y="216000"/>
            <a:ext cx="3514680" cy="4941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299412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095640" cy="1785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2490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292720" y="4869000"/>
            <a:ext cx="3067200" cy="177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435640" y="476280"/>
            <a:ext cx="299412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859280" y="2852640"/>
            <a:ext cx="299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g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g_y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arkp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g_ru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gb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43640" y="1484280"/>
            <a:ext cx="2274840" cy="131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1843200" cy="1063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659640" y="551664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22748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g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g_y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arkp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g_ru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gb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2900520" cy="197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900520" cy="197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020000" y="486900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51640" y="765000"/>
            <a:ext cx="2050920" cy="13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39640" y="5445000"/>
            <a:ext cx="1747800" cy="119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692360" y="549360"/>
            <a:ext cx="18921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900160" cy="197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2900520" cy="197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20000" y="486900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050920" cy="1398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732720" y="1773360"/>
            <a:ext cx="18921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2101680" cy="211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42320" y="443700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708360" y="4508640"/>
            <a:ext cx="2046240" cy="206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2102040" cy="2116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364000" y="1773360"/>
            <a:ext cx="21020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t_scree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t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042320" y="443700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097760" y="0"/>
            <a:ext cx="2046240" cy="2060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6877080" y="2276640"/>
            <a:ext cx="21016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t_scree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t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195640" y="216000"/>
            <a:ext cx="3565440" cy="5013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32252" t="0" r="29039" b="0"/>
          <a:stretch/>
        </p:blipFill>
        <p:spPr>
          <a:xfrm>
            <a:off x="108000" y="693720"/>
            <a:ext cx="2260440" cy="439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flipH="1">
            <a:off x="4211640" y="5516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140940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409400" cy="1028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 flipH="1">
            <a:off x="971640" y="98100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flipH="1">
            <a:off x="2484000" y="2133720"/>
            <a:ext cx="4103640" cy="2995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 flipH="1">
            <a:off x="4067280" y="54936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 flipH="1">
            <a:off x="755640" y="4941720"/>
            <a:ext cx="14097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482840"/>
            <a:ext cx="4897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524720" y="4508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 flipH="1">
            <a:off x="0" y="206064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451640" y="2276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7451640" y="3357720"/>
            <a:ext cx="14097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flipH="1">
            <a:off x="394920" y="54936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51640" y="259704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667640" y="458136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 flipH="1">
            <a:off x="323640" y="54450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 flipH="1">
            <a:off x="4500360" y="2349360"/>
            <a:ext cx="2881080" cy="2044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1763640" y="2421000"/>
            <a:ext cx="28083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51640" y="130176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259704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451640" y="39654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451640" y="54054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>
            <a:off x="0" y="1197000"/>
            <a:ext cx="2881440" cy="2044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 flipH="1">
            <a:off x="-360" y="3933720"/>
            <a:ext cx="28083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885960" cy="248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1206720" cy="3384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1476360" cy="4141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64400" y="2781360"/>
            <a:ext cx="1141200" cy="32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1979640" y="476280"/>
            <a:ext cx="100476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2843280" y="0"/>
            <a:ext cx="2158920" cy="605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5292720" y="2997360"/>
            <a:ext cx="119376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98960" cy="3770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4248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843280" y="216000"/>
            <a:ext cx="3155760" cy="443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1858" t="0" r="25638" b="0"/>
          <a:stretch/>
        </p:blipFill>
        <p:spPr>
          <a:xfrm>
            <a:off x="74520" y="260280"/>
            <a:ext cx="2913120" cy="41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1618920" cy="830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5076720" cy="2601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95640" y="5445000"/>
            <a:ext cx="1654200" cy="847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620640"/>
            <a:ext cx="1656000" cy="847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877080" y="1125360"/>
            <a:ext cx="1509840" cy="773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116000" y="5661000"/>
            <a:ext cx="1798560" cy="920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732720" y="3860640"/>
            <a:ext cx="186984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18920" cy="830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435600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164360" y="1197000"/>
            <a:ext cx="1654200" cy="847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020000" y="2133720"/>
            <a:ext cx="1655640" cy="84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7093080" y="3068640"/>
            <a:ext cx="1509480" cy="773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7020000" y="3860640"/>
            <a:ext cx="1727280" cy="884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948360" y="4724280"/>
            <a:ext cx="1798920" cy="920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734160" y="5661000"/>
            <a:ext cx="18702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1138320" cy="1095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1137960" cy="1095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 flipH="1">
            <a:off x="6804000" y="76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 flipH="1">
            <a:off x="7740720" y="3429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476360" y="544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 flipH="1">
            <a:off x="3995640" y="5516640"/>
            <a:ext cx="1138320" cy="109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 flipH="1">
            <a:off x="3708360" y="1916280"/>
            <a:ext cx="2952720" cy="2841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468360" y="1916280"/>
            <a:ext cx="2952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738920" y="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682040" y="1125360"/>
            <a:ext cx="1137960" cy="1095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623000" y="220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537320" y="34416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7480440" y="4567320"/>
            <a:ext cx="1137960" cy="1095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7421400" y="56466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 flipH="1">
            <a:off x="3708360" y="1916280"/>
            <a:ext cx="2952720" cy="2841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468360" y="1916280"/>
            <a:ext cx="2952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8200" y="1773360"/>
            <a:ext cx="446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A7%D9%84%D8%AF%D9%8A%D9%8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flipH="1">
            <a:off x="7235640" y="90792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flipH="1">
            <a:off x="4284360" y="33336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 flipH="1">
            <a:off x="1187280" y="692280"/>
            <a:ext cx="1648080" cy="135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 flipH="1">
            <a:off x="1402920" y="5300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 flipH="1">
            <a:off x="6803640" y="5246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95280" y="2854440"/>
            <a:ext cx="2376360" cy="1947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6372360" y="2781360"/>
            <a:ext cx="2447640" cy="20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203640" y="2854440"/>
            <a:ext cx="2520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>
            <a:off x="7235640" y="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 flipH="1">
            <a:off x="7100640" y="126828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 flipH="1">
            <a:off x="7092720" y="270828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 flipH="1">
            <a:off x="7019640" y="4076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 flipH="1">
            <a:off x="6948360" y="5506920"/>
            <a:ext cx="1648080" cy="1351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2376360" cy="194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95280" y="4581360"/>
            <a:ext cx="25210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 flipH="1">
            <a:off x="395280" y="4508640"/>
            <a:ext cx="1455840" cy="2060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flipH="1">
            <a:off x="5651640" y="3357720"/>
            <a:ext cx="152712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 flipH="1">
            <a:off x="4284720" y="0"/>
            <a:ext cx="1812960" cy="2565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 flipH="1">
            <a:off x="7380000" y="4437000"/>
            <a:ext cx="170964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92080" cy="253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2220840" y="1916280"/>
            <a:ext cx="2087640" cy="2952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6659640" y="404640"/>
            <a:ext cx="1985760" cy="2810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4140360" y="4221000"/>
            <a:ext cx="16603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flipH="1">
            <a:off x="7573680" y="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 flipH="1">
            <a:off x="7524720" y="1628640"/>
            <a:ext cx="1222560" cy="172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 flipH="1">
            <a:off x="7308720" y="3213000"/>
            <a:ext cx="1324080" cy="1873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 flipH="1">
            <a:off x="7380000" y="4986360"/>
            <a:ext cx="1322280" cy="1871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804960" y="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755640" y="1628640"/>
            <a:ext cx="1222560" cy="1729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539640" y="3213000"/>
            <a:ext cx="1324080" cy="1873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611280" y="4986360"/>
            <a:ext cx="1322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619360" y="216000"/>
            <a:ext cx="3105000" cy="436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rcRect l="36882" t="10071" r="29128" b="15370"/>
          <a:stretch/>
        </p:blipFill>
        <p:spPr>
          <a:xfrm>
            <a:off x="34920" y="73080"/>
            <a:ext cx="287172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705800" y="198900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740720" y="357336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740720" y="443700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7740720" y="278136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0" y="1293840"/>
            <a:ext cx="4859280" cy="3503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7740720" y="51577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7670880" y="4111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7705800" y="1203480"/>
            <a:ext cx="11872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738920" y="587700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2844720" cy="147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1280" y="2962440"/>
            <a:ext cx="2845080" cy="1474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7738920" y="479736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7667640" y="3860640"/>
            <a:ext cx="1405080" cy="729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7667640" y="285264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7596360" y="1989000"/>
            <a:ext cx="1404720" cy="728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7667640" y="105264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596360" y="44280"/>
            <a:ext cx="140472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 flipH="1">
            <a:off x="7451640" y="544428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 flipH="1">
            <a:off x="745164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 flipH="1">
            <a:off x="7451640" y="3284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 flipH="1">
            <a:off x="7451640" y="2205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 flipH="1">
            <a:off x="7451640" y="112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 flipH="1">
            <a:off x="7451640" y="435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 flipH="1">
            <a:off x="828720" y="227592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 flipH="1">
            <a:off x="826920" y="460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 flipH="1">
            <a:off x="826920" y="4554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7080" y="543888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948360" y="4214880"/>
            <a:ext cx="1927440" cy="1374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966000" y="299088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892920" y="1693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892920" y="469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6"/>
          <a:stretch/>
        </p:blipFill>
        <p:spPr>
          <a:xfrm>
            <a:off x="666720" y="4430880"/>
            <a:ext cx="1927080" cy="1374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7"/>
          <a:stretch/>
        </p:blipFill>
        <p:spPr>
          <a:xfrm>
            <a:off x="684360" y="3206880"/>
            <a:ext cx="1927080" cy="1374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611280" y="1909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611280" y="685800"/>
            <a:ext cx="192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960640" y="216000"/>
            <a:ext cx="3124080" cy="439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rcRect l="4217" t="0" r="859" b="0"/>
          <a:stretch/>
        </p:blipFill>
        <p:spPr>
          <a:xfrm>
            <a:off x="34920" y="260280"/>
            <a:ext cx="3124080" cy="4392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508720" y="1030320"/>
            <a:ext cx="3384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1917720"/>
            <a:ext cx="2176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101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680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101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680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5904000" y="24256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2421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2421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1224000" y="2425680"/>
            <a:ext cx="2043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9%81%D8%B1%D8%A7%D9%85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 rot="5400000">
            <a:off x="7206840" y="446580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 rot="5400000">
            <a:off x="7206840" y="374508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 rot="5400000">
            <a:off x="7171560" y="3097080"/>
            <a:ext cx="957600" cy="2484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 rot="5400000">
            <a:off x="7135560" y="244908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 rot="5400000">
            <a:off x="7171920" y="180144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 rot="5400000">
            <a:off x="7171920" y="115236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 rot="5400000">
            <a:off x="7100640" y="50436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 rot="5400000">
            <a:off x="7100640" y="-14292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 rot="5400000">
            <a:off x="7063920" y="-86364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0"/>
          <a:stretch/>
        </p:blipFill>
        <p:spPr>
          <a:xfrm flipH="1" rot="16200000">
            <a:off x="1639080" y="744480"/>
            <a:ext cx="1832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http://www.nooor.com/thumbs/34663a767af1.jpg"/>
          <p:cNvPicPr/>
          <p:nvPr/>
        </p:nvPicPr>
        <p:blipFill>
          <a:blip r:embed="rId1"/>
          <a:stretch/>
        </p:blipFill>
        <p:spPr>
          <a:xfrm>
            <a:off x="7236000" y="59562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http://www.nooor.com/thumbs/34663a767af1.jpg"/>
          <p:cNvPicPr/>
          <p:nvPr/>
        </p:nvPicPr>
        <p:blipFill>
          <a:blip r:embed="rId2"/>
          <a:stretch/>
        </p:blipFill>
        <p:spPr>
          <a:xfrm>
            <a:off x="7174080" y="51642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http://www.nooor.com/thumbs/34663a767af1.jpg"/>
          <p:cNvPicPr/>
          <p:nvPr/>
        </p:nvPicPr>
        <p:blipFill>
          <a:blip r:embed="rId3"/>
          <a:stretch/>
        </p:blipFill>
        <p:spPr>
          <a:xfrm>
            <a:off x="7245360" y="4299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http://www.nooor.com/thumbs/34663a767af1.jpg"/>
          <p:cNvPicPr/>
          <p:nvPr/>
        </p:nvPicPr>
        <p:blipFill>
          <a:blip r:embed="rId4"/>
          <a:stretch/>
        </p:blipFill>
        <p:spPr>
          <a:xfrm>
            <a:off x="7174080" y="35067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http://www.nooor.com/thumbs/34663a767af1.jpg"/>
          <p:cNvPicPr/>
          <p:nvPr/>
        </p:nvPicPr>
        <p:blipFill>
          <a:blip r:embed="rId5"/>
          <a:stretch/>
        </p:blipFill>
        <p:spPr>
          <a:xfrm>
            <a:off x="722628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http://www.nooor.com/thumbs/34663a767af1.jpg"/>
          <p:cNvPicPr/>
          <p:nvPr/>
        </p:nvPicPr>
        <p:blipFill>
          <a:blip r:embed="rId6"/>
          <a:stretch/>
        </p:blipFill>
        <p:spPr>
          <a:xfrm>
            <a:off x="7164360" y="1844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http://www.nooor.com/thumbs/34663a767af1.jpg"/>
          <p:cNvPicPr/>
          <p:nvPr/>
        </p:nvPicPr>
        <p:blipFill>
          <a:blip r:embed="rId7"/>
          <a:stretch/>
        </p:blipFill>
        <p:spPr>
          <a:xfrm>
            <a:off x="7236000" y="9795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http://www.nooor.com/thumbs/34663a767af1.jpg"/>
          <p:cNvPicPr/>
          <p:nvPr/>
        </p:nvPicPr>
        <p:blipFill>
          <a:blip r:embed="rId8"/>
          <a:stretch/>
        </p:blipFill>
        <p:spPr>
          <a:xfrm>
            <a:off x="7164360" y="1872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http://www.nooor.com/thumbs/34663a767af1.jpg"/>
          <p:cNvPicPr/>
          <p:nvPr/>
        </p:nvPicPr>
        <p:blipFill>
          <a:blip r:embed="rId9"/>
          <a:stretch/>
        </p:blipFill>
        <p:spPr>
          <a:xfrm>
            <a:off x="466560" y="335772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http://www.nooor.com/thumbs/34663a767af1.jpg"/>
          <p:cNvPicPr/>
          <p:nvPr/>
        </p:nvPicPr>
        <p:blipFill>
          <a:blip r:embed="rId10"/>
          <a:stretch/>
        </p:blipFill>
        <p:spPr>
          <a:xfrm>
            <a:off x="395280" y="1125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http://4photos.net/photo/www_4photos_net_1139734360.jpg"/>
          <p:cNvPicPr/>
          <p:nvPr/>
        </p:nvPicPr>
        <p:blipFill>
          <a:blip r:embed="rId1"/>
          <a:srcRect l="15216" t="40844" r="22560" b="26191"/>
          <a:stretch/>
        </p:blipFill>
        <p:spPr>
          <a:xfrm>
            <a:off x="6804000" y="571500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http://4photos.net/photo/www_4photos_net_1139734360.jpg"/>
          <p:cNvPicPr/>
          <p:nvPr/>
        </p:nvPicPr>
        <p:blipFill>
          <a:blip r:embed="rId2"/>
          <a:srcRect l="15216" t="40844" r="22560" b="26191"/>
          <a:stretch/>
        </p:blipFill>
        <p:spPr>
          <a:xfrm>
            <a:off x="6804000" y="483228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http://4photos.net/photo/www_4photos_net_1139734360.jpg"/>
          <p:cNvPicPr/>
          <p:nvPr/>
        </p:nvPicPr>
        <p:blipFill>
          <a:blip r:embed="rId3"/>
          <a:srcRect l="15216" t="40844" r="22560" b="26191"/>
          <a:stretch/>
        </p:blipFill>
        <p:spPr>
          <a:xfrm>
            <a:off x="6732720" y="3895560"/>
            <a:ext cx="1800000" cy="954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http://4photos.net/photo/www_4photos_net_1139734360.jpg"/>
          <p:cNvPicPr/>
          <p:nvPr/>
        </p:nvPicPr>
        <p:blipFill>
          <a:blip r:embed="rId4"/>
          <a:srcRect l="15216" t="40844" r="22560" b="26191"/>
          <a:stretch/>
        </p:blipFill>
        <p:spPr>
          <a:xfrm>
            <a:off x="6732720" y="2960640"/>
            <a:ext cx="1800000" cy="954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http://4photos.net/photo/www_4photos_net_1139734360.jpg"/>
          <p:cNvPicPr/>
          <p:nvPr/>
        </p:nvPicPr>
        <p:blipFill>
          <a:blip r:embed="rId5"/>
          <a:srcRect l="15216" t="40844" r="22560" b="26191"/>
          <a:stretch/>
        </p:blipFill>
        <p:spPr>
          <a:xfrm>
            <a:off x="6732720" y="1996920"/>
            <a:ext cx="1800000" cy="954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http://4photos.net/photo/www_4photos_net_1139734360.jpg"/>
          <p:cNvPicPr/>
          <p:nvPr/>
        </p:nvPicPr>
        <p:blipFill>
          <a:blip r:embed="rId6"/>
          <a:srcRect l="15216" t="40844" r="22560" b="26191"/>
          <a:stretch/>
        </p:blipFill>
        <p:spPr>
          <a:xfrm>
            <a:off x="6661080" y="106056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http://4photos.net/photo/www_4photos_net_1139734360.jpg"/>
          <p:cNvPicPr/>
          <p:nvPr/>
        </p:nvPicPr>
        <p:blipFill>
          <a:blip r:embed="rId7"/>
          <a:srcRect l="15216" t="40844" r="22560" b="26191"/>
          <a:stretch/>
        </p:blipFill>
        <p:spPr>
          <a:xfrm>
            <a:off x="6661080" y="125280"/>
            <a:ext cx="1800360" cy="95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http://4photos.net/photo/www_4photos_net_1139734360.jpg"/>
          <p:cNvPicPr/>
          <p:nvPr/>
        </p:nvPicPr>
        <p:blipFill>
          <a:blip r:embed="rId8"/>
          <a:srcRect l="15216" t="40844" r="22560" b="26191"/>
          <a:stretch/>
        </p:blipFill>
        <p:spPr>
          <a:xfrm>
            <a:off x="252360" y="4437000"/>
            <a:ext cx="3241800" cy="17175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http://4photos.net/photo/www_4photos_net_1139734360.jpg"/>
          <p:cNvPicPr/>
          <p:nvPr/>
        </p:nvPicPr>
        <p:blipFill>
          <a:blip r:embed="rId9"/>
          <a:srcRect l="15216" t="40844" r="22560" b="26191"/>
          <a:stretch/>
        </p:blipFill>
        <p:spPr>
          <a:xfrm>
            <a:off x="108000" y="2492280"/>
            <a:ext cx="3241800" cy="1717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http://4photos.net/photo/www_4photos_net_1139734360.jpg"/>
          <p:cNvPicPr/>
          <p:nvPr/>
        </p:nvPicPr>
        <p:blipFill>
          <a:blip r:embed="rId10"/>
          <a:srcRect l="15216" t="40844" r="22560" b="26191"/>
          <a:stretch/>
        </p:blipFill>
        <p:spPr>
          <a:xfrm>
            <a:off x="252360" y="620640"/>
            <a:ext cx="32418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14306" r="0" b="10721"/>
          <a:stretch/>
        </p:blipFill>
        <p:spPr>
          <a:xfrm>
            <a:off x="179280" y="501336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0" t="14306" r="0" b="10721"/>
          <a:stretch/>
        </p:blipFill>
        <p:spPr>
          <a:xfrm>
            <a:off x="179280" y="342900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14306" r="0" b="10721"/>
          <a:stretch/>
        </p:blipFill>
        <p:spPr>
          <a:xfrm>
            <a:off x="106200" y="184464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rcRect l="0" t="14306" r="0" b="10721"/>
          <a:stretch/>
        </p:blipFill>
        <p:spPr>
          <a:xfrm>
            <a:off x="34920" y="26028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14306" r="0" b="10721"/>
          <a:stretch/>
        </p:blipFill>
        <p:spPr>
          <a:xfrm>
            <a:off x="7272360" y="5778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rcRect l="0" t="14306" r="0" b="10721"/>
          <a:stretch/>
        </p:blipFill>
        <p:spPr>
          <a:xfrm>
            <a:off x="7316640" y="4716360"/>
            <a:ext cx="1548000" cy="1079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7"/>
          <a:srcRect l="0" t="14306" r="0" b="10721"/>
          <a:stretch/>
        </p:blipFill>
        <p:spPr>
          <a:xfrm>
            <a:off x="7345440" y="3573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rcRect l="0" t="14306" r="0" b="10721"/>
          <a:stretch/>
        </p:blipFill>
        <p:spPr>
          <a:xfrm>
            <a:off x="7345440" y="2494080"/>
            <a:ext cx="1547640" cy="1079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9"/>
          <a:srcRect l="0" t="14306" r="0" b="10721"/>
          <a:stretch/>
        </p:blipFill>
        <p:spPr>
          <a:xfrm>
            <a:off x="7380360" y="1341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0"/>
          <a:srcRect l="0" t="14306" r="0" b="10721"/>
          <a:stretch/>
        </p:blipFill>
        <p:spPr>
          <a:xfrm>
            <a:off x="7380360" y="189000"/>
            <a:ext cx="1547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http://www.chinatraderonline.com/Files/Gifts-and-Crafts/Bag/school-bag/school-bag/school-bag-00015312656.jpg"/>
          <p:cNvPicPr/>
          <p:nvPr/>
        </p:nvPicPr>
        <p:blipFill>
          <a:blip r:embed="rId1"/>
          <a:srcRect l="15997" t="4630" r="15997" b="2750"/>
          <a:stretch/>
        </p:blipFill>
        <p:spPr>
          <a:xfrm>
            <a:off x="7956720" y="530064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http://www.chinatraderonline.com/Files/Gifts-and-Crafts/Bag/school-bag/school-bag/school-bag-00015312656.jpg"/>
          <p:cNvPicPr/>
          <p:nvPr/>
        </p:nvPicPr>
        <p:blipFill>
          <a:blip r:embed="rId2"/>
          <a:srcRect l="15997" t="4630" r="15997" b="2750"/>
          <a:stretch/>
        </p:blipFill>
        <p:spPr>
          <a:xfrm>
            <a:off x="7959600" y="3933720"/>
            <a:ext cx="1005120" cy="136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http://www.chinatraderonline.com/Files/Gifts-and-Crafts/Bag/school-bag/school-bag/school-bag-00015312656.jpg"/>
          <p:cNvPicPr/>
          <p:nvPr/>
        </p:nvPicPr>
        <p:blipFill>
          <a:blip r:embed="rId3"/>
          <a:srcRect l="15997" t="4630" r="15997" b="2750"/>
          <a:stretch/>
        </p:blipFill>
        <p:spPr>
          <a:xfrm>
            <a:off x="7885080" y="263700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http://www.chinatraderonline.com/Files/Gifts-and-Crafts/Bag/school-bag/school-bag/school-bag-00015312656.jpg"/>
          <p:cNvPicPr/>
          <p:nvPr/>
        </p:nvPicPr>
        <p:blipFill>
          <a:blip r:embed="rId4"/>
          <a:srcRect l="15997" t="4630" r="15997" b="2750"/>
          <a:stretch/>
        </p:blipFill>
        <p:spPr>
          <a:xfrm>
            <a:off x="7888320" y="129708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http://www.chinatraderonline.com/Files/Gifts-and-Crafts/Bag/school-bag/school-bag/school-bag-00015312656.jpg"/>
          <p:cNvPicPr/>
          <p:nvPr/>
        </p:nvPicPr>
        <p:blipFill>
          <a:blip r:embed="rId5"/>
          <a:srcRect l="15997" t="4630" r="15997" b="2750"/>
          <a:stretch/>
        </p:blipFill>
        <p:spPr>
          <a:xfrm>
            <a:off x="7813800" y="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http://www.chinatraderonline.com/Files/Gifts-and-Crafts/Bag/school-bag/school-bag/school-bag-00015312656.jpg"/>
          <p:cNvPicPr/>
          <p:nvPr/>
        </p:nvPicPr>
        <p:blipFill>
          <a:blip r:embed="rId6"/>
          <a:srcRect l="15997" t="4630" r="15997" b="2750"/>
          <a:stretch/>
        </p:blipFill>
        <p:spPr>
          <a:xfrm>
            <a:off x="1835280" y="299736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http://www.chinatraderonline.com/Files/Gifts-and-Crafts/Bag/school-bag/school-bag/school-bag-00015312656.jpg"/>
          <p:cNvPicPr/>
          <p:nvPr/>
        </p:nvPicPr>
        <p:blipFill>
          <a:blip r:embed="rId7"/>
          <a:srcRect l="15997" t="4630" r="15997" b="2750"/>
          <a:stretch/>
        </p:blipFill>
        <p:spPr>
          <a:xfrm>
            <a:off x="0" y="314172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http://www.chinatraderonline.com/Files/Gifts-and-Crafts/Bag/school-bag/school-bag/school-bag-00015312656.jpg"/>
          <p:cNvPicPr/>
          <p:nvPr/>
        </p:nvPicPr>
        <p:blipFill>
          <a:blip r:embed="rId8"/>
          <a:srcRect l="15997" t="4630" r="15997" b="2750"/>
          <a:stretch/>
        </p:blipFill>
        <p:spPr>
          <a:xfrm>
            <a:off x="1692360" y="47628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http://www.chinatraderonline.com/Files/Gifts-and-Crafts/Bag/school-bag/school-bag/school-bag-00015312656.jpg"/>
          <p:cNvPicPr/>
          <p:nvPr/>
        </p:nvPicPr>
        <p:blipFill>
          <a:blip r:embed="rId9"/>
          <a:srcRect l="15997" t="4630" r="15997" b="2750"/>
          <a:stretch/>
        </p:blipFill>
        <p:spPr>
          <a:xfrm>
            <a:off x="830160" y="1844640"/>
            <a:ext cx="1005120" cy="1368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http://www.chinatraderonline.com/Files/Gifts-and-Crafts/Bag/school-bag/school-bag/school-bag-00015312656.jpg"/>
          <p:cNvPicPr/>
          <p:nvPr/>
        </p:nvPicPr>
        <p:blipFill>
          <a:blip r:embed="rId10"/>
          <a:srcRect l="15997" t="4630" r="15997" b="2750"/>
          <a:stretch/>
        </p:blipFill>
        <p:spPr>
          <a:xfrm>
            <a:off x="0" y="476280"/>
            <a:ext cx="1004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2252" t="0" r="29039" b="0"/>
          <a:stretch/>
        </p:blipFill>
        <p:spPr>
          <a:xfrm>
            <a:off x="468360" y="693720"/>
            <a:ext cx="2965320" cy="57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77040" y="1052640"/>
            <a:ext cx="2840040" cy="41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57480" y="1052640"/>
            <a:ext cx="2840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5:35:42Z</dcterms:created>
  <dc:creator>mohamed</dc:creator>
  <dc:description/>
  <dc:language>en-US</dc:language>
  <cp:lastModifiedBy>yousef</cp:lastModifiedBy>
  <dcterms:modified xsi:type="dcterms:W3CDTF">2010-10-14T21:55:28Z</dcterms:modified>
  <cp:revision>12</cp:revision>
  <dc:subject/>
  <dc:title>الشريحة 1</dc:title>
</cp:coreProperties>
</file>