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B37A-E761-44BE-A244-6E58FBE48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EAEA-646C-4AEF-804E-F4CCF751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0AFB-CC39-412B-838E-CC7B2A1BD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B3B1-D983-4171-A033-EC93C705F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6285-481F-4C35-9638-F1F1B238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8867-31A3-4F84-83AF-43BC2D8A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7D80-8094-4AB5-8C1D-987F2728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4DB0-EDF6-40FA-A2D0-A555D158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0C83-8BC6-45C7-9D88-7609E658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4473-BC5A-445A-937C-83B26925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4176-ECA5-4AD5-B499-76F5B5D3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1354-E0C2-4D4A-BE1B-299D3B14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A49BEB-EE51-469B-BC09-0E5315843F3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47352A-0F91-4A73-88E2-95BA7335F1CD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6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7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8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9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10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1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2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3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4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14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15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16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17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18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9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20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21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22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5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08:51:31Z</dcterms:created>
  <dc:creator>최봉수</dc:creator>
  <dc:description/>
  <dc:language>en-US</dc:language>
  <cp:lastModifiedBy>맛있다 군만두</cp:lastModifiedBy>
  <dcterms:modified xsi:type="dcterms:W3CDTF">2023-07-13T10:51:22Z</dcterms:modified>
  <cp:revision>3</cp:revision>
  <dc:subject/>
  <dc:title>슬라이드 1</dc:title>
</cp:coreProperties>
</file>