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186-96CF-4241-9635-D4506EC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C37-B7AB-4E04-9A1F-058524E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605-4CB4-40AB-B0A1-945DB9DC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473-DF25-4CD4-92AD-E3C8B9F8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157-BBA5-4A9D-B1BC-97664D7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FB7-4FD9-48A6-B371-E35F9B29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5A0-96C8-48F4-ABCD-3D2798C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C70-0B4A-4D7C-B919-8DB983C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28E-EB09-4B95-8636-BE0D559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E4B-626D-4468-BFA5-8BC4230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33E-3DDF-4BA7-8E90-22475C5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CB5-B39A-4E82-B8DE-2E18EC5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038DE-4358-45CB-A1E4-CF6FF13F40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36E63-02CC-481A-BD5C-A1510BDD781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3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4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1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6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9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0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21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8:51:31Z</dcterms:created>
  <dc:creator>최봉수</dc:creator>
  <dc:description/>
  <dc:language>en-US</dc:language>
  <cp:lastModifiedBy>맛있다 군만두</cp:lastModifiedBy>
  <dcterms:modified xsi:type="dcterms:W3CDTF">2023-07-13T10:51:22Z</dcterms:modified>
  <cp:revision>3</cp:revision>
  <dc:subject/>
  <dc:title>슬라이드 1</dc:title>
</cp:coreProperties>
</file>