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BDC2-C60D-4A13-AB46-30D6DDD2988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" name="슬라이드 번호 개체 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8DAD-A5FB-4122-BB2B-DAEBB0A4D66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787-DD90-4DEA-964B-B8BC7EF2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B72-CF6E-495D-AD5C-ACF0926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843-DFC2-491D-8755-6409EC14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AED-8245-4DED-9173-59F2B508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27C-ABD1-4ACE-95B6-2B7CE843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C6F-5B5C-48E8-9EC3-43127EAD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B04-D1E9-4B92-AEA1-E446E6D3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2E2-3038-4034-BAD6-FC5EF7F6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F09-1674-4CF7-B477-60248786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CAB-44F6-42A1-8BA5-7148416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77B-8DA5-4FDA-95B9-66B294C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15D-EF8B-44E1-9AD3-FCDA0ED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8DE3-9CED-4464-AF50-9DC841F9DA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64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5800" y="914400"/>
            <a:ext cx="5638680" cy="259092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65640" y="876240"/>
            <a:ext cx="221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Cover Letter  ( for Application Letter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3505320"/>
            <a:ext cx="5638680" cy="617220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8"/>
          <p:cNvSpPr/>
          <p:nvPr/>
        </p:nvSpPr>
        <p:spPr>
          <a:xfrm>
            <a:off x="685800" y="4740120"/>
            <a:ext cx="4495680" cy="1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317920" y="4462560"/>
            <a:ext cx="76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Pass Pho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652680" y="3505320"/>
            <a:ext cx="121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Resume  Summ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775080" y="3774960"/>
            <a:ext cx="428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Nam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: 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Address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: 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Telephon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: ........................................... HP : 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E-mail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: 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Segoe U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693720" y="4816440"/>
            <a:ext cx="52912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atest Position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Year s of Work Experience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atest Job Function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atest Industrial Sector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Highest Education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atest </a:t>
            </a:r>
            <a:r>
              <a:rPr b="0" lang="en-AU" sz="1000" spc="-1" strike="noStrike" u="sng">
                <a:solidFill>
                  <a:srgbClr val="000000"/>
                </a:solidFill>
                <a:uFillTx/>
                <a:latin typeface="Arial Narrow"/>
                <a:ea typeface="굴림"/>
              </a:rPr>
              <a:t>Gross Salary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Expected </a:t>
            </a:r>
            <a:r>
              <a:rPr b="0" lang="en-AU" sz="1000" spc="-1" strike="noStrike" u="sng">
                <a:solidFill>
                  <a:srgbClr val="000000"/>
                </a:solidFill>
                <a:uFillTx/>
                <a:latin typeface="Arial Narrow"/>
                <a:ea typeface="굴림"/>
              </a:rPr>
              <a:t>Gross Salary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Personal Particula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lace / Date of Birth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Gender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Ag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Height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…………. cm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Weight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…………. k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Marital Status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lig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Living  Loca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tal Cod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Number of  Children(Jika ada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Nationality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moking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 </a:t>
            </a:r>
            <a:r>
              <a:rPr b="0" lang="en-US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Yes   ( If Smoking, how much / day =………pcs).        </a:t>
            </a:r>
            <a:r>
              <a:rPr b="0" lang="en-US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N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895480" y="914400"/>
            <a:ext cx="335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 Narrow"/>
              </a:rPr>
              <a:t>The position of the proposed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</a:rPr>
              <a:t>: 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2325600" y="114480"/>
            <a:ext cx="434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APPLICATION   LETTER  &amp; RESUME SUMMARY FOR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PT. HANKOOK TIRE 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8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Documents and Settings\hanta\바탕 화면\Logo\logo.jpg"/>
          <p:cNvPicPr/>
          <p:nvPr/>
        </p:nvPicPr>
        <p:blipFill>
          <a:blip r:embed="rId1"/>
          <a:stretch/>
        </p:blipFill>
        <p:spPr>
          <a:xfrm>
            <a:off x="76320" y="101520"/>
            <a:ext cx="1904760" cy="460440"/>
          </a:xfrm>
          <a:prstGeom prst="rect">
            <a:avLst/>
          </a:prstGeom>
          <a:ln w="0">
            <a:noFill/>
          </a:ln>
        </p:spPr>
      </p:pic>
      <p:sp>
        <p:nvSpPr>
          <p:cNvPr id="61" name="직선 연결선 20"/>
          <p:cNvSpPr/>
          <p:nvPr/>
        </p:nvSpPr>
        <p:spPr>
          <a:xfrm>
            <a:off x="2133720" y="181080"/>
            <a:ext cx="0" cy="342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752400" y="1122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 Narrow"/>
              </a:rPr>
              <a:t>Detail pengalaman kerja &amp; karir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5181480" y="3962520"/>
            <a:ext cx="1067040" cy="1295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ff6600"/>
                </a:solidFill>
                <a:latin typeface="Arial"/>
                <a:ea typeface="굴림"/>
              </a:rPr>
              <a:t>Pho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685800" y="914400"/>
            <a:ext cx="5638680" cy="883908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722520" y="1119240"/>
            <a:ext cx="566712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University   (S1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 Period : ...............-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</a:t>
            </a:r>
            <a:r>
              <a:rPr b="0" lang="en-AU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Major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............................................................................... Grade / GPA : 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</a:t>
            </a:r>
            <a:r>
              <a:rPr b="0" lang="en-AU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tatus Lectures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                              :  ..Day or Night.....                          Passed : 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Academy(D1,  D2,  D3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</a:t>
            </a:r>
            <a:r>
              <a:rPr b="0" lang="en-AU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Major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 ....................................................................... Grade / GPA : 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 </a:t>
            </a:r>
            <a:r>
              <a:rPr b="0" lang="en-AU" sz="10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tatus Lectures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 Day or Night                                                    Passed : 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Senior High Sch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         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(SMK)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                               :  ............................................................. Period : ...............-......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   </a:t>
            </a:r>
            <a:r>
              <a:rPr b="0" lang="en-AU" sz="1100" spc="-1" strike="noStrike">
                <a:solidFill>
                  <a:srgbClr val="000000"/>
                </a:solidFill>
                <a:latin typeface="Wingdings 2"/>
                <a:ea typeface="Wingdings 2"/>
              </a:rPr>
              <a:t>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Majoring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   :  ...............................................................Grade/GPA : ................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unior High School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Elementary School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Non Formal  Education / Training(Jika ad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1 . ............................................................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2 . .................................................................................................................................... Period : ...............-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Skills(Jika a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1.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2.  ............................................................................................................................................</a:t>
            </a:r>
            <a:r>
              <a:rPr b="1" i="1" lang="en-AU" sz="1000" spc="-1" strike="noStrike">
                <a:solidFill>
                  <a:srgbClr val="ff6600"/>
                </a:solidFill>
                <a:latin typeface="Arial Narrow"/>
                <a:ea typeface="굴림"/>
              </a:rPr>
              <a:t>	</a:t>
            </a:r>
            <a:r>
              <a:rPr b="1" i="1" lang="en-AU" sz="1000" spc="-1" strike="noStrike">
                <a:solidFill>
                  <a:srgbClr val="ff6600"/>
                </a:solidFill>
                <a:latin typeface="Arial Narrow"/>
                <a:ea typeface="굴림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23880" y="91440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>
                <a:solidFill>
                  <a:srgbClr val="ff6600"/>
                </a:solidFill>
                <a:latin typeface="Arial Narrow"/>
                <a:ea typeface="굴림"/>
              </a:rPr>
              <a:t>  </a:t>
            </a: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Formal  Edu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1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2325600" y="114480"/>
            <a:ext cx="434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APPLICATION   LETTER  &amp; RESUME SUMMARY FOR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PT. HANKOOK TIRE 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8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C:\Documents and Settings\hanta\바탕 화면\Logo\logo.jpg"/>
          <p:cNvPicPr/>
          <p:nvPr/>
        </p:nvPicPr>
        <p:blipFill>
          <a:blip r:embed="rId1"/>
          <a:stretch/>
        </p:blipFill>
        <p:spPr>
          <a:xfrm>
            <a:off x="76320" y="101520"/>
            <a:ext cx="1904760" cy="460440"/>
          </a:xfrm>
          <a:prstGeom prst="rect">
            <a:avLst/>
          </a:prstGeom>
          <a:ln w="0">
            <a:noFill/>
          </a:ln>
        </p:spPr>
      </p:pic>
      <p:sp>
        <p:nvSpPr>
          <p:cNvPr id="71" name="직선 연결선 16"/>
          <p:cNvSpPr/>
          <p:nvPr/>
        </p:nvSpPr>
        <p:spPr>
          <a:xfrm>
            <a:off x="2133720" y="181080"/>
            <a:ext cx="0" cy="342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95520" y="5334120"/>
            <a:ext cx="55512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Working Experience(Jika ad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1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89040" y="7696080"/>
            <a:ext cx="5580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2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85800" y="914400"/>
            <a:ext cx="5638680" cy="883908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689040" y="849240"/>
            <a:ext cx="558036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Working Experience(Jika ad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3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8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2325600" y="114480"/>
            <a:ext cx="434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APPLICATION   LETTER  &amp; RESUME SUMMARY FOR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6600"/>
                </a:solidFill>
                <a:latin typeface="Arial"/>
                <a:ea typeface="굴림"/>
              </a:rPr>
              <a:t>PT. HANKOOK TIRE 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8"/>
          <p:cNvSpPr/>
          <p:nvPr/>
        </p:nvSpPr>
        <p:spPr>
          <a:xfrm>
            <a:off x="0" y="685800"/>
            <a:ext cx="68580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:\Documents and Settings\hanta\바탕 화면\Logo\logo.jpg"/>
          <p:cNvPicPr/>
          <p:nvPr/>
        </p:nvPicPr>
        <p:blipFill>
          <a:blip r:embed="rId1"/>
          <a:stretch/>
        </p:blipFill>
        <p:spPr>
          <a:xfrm>
            <a:off x="76320" y="101520"/>
            <a:ext cx="1904760" cy="46044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14"/>
          <p:cNvSpPr/>
          <p:nvPr/>
        </p:nvSpPr>
        <p:spPr>
          <a:xfrm>
            <a:off x="2133720" y="181080"/>
            <a:ext cx="0" cy="342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81120" y="3090960"/>
            <a:ext cx="5580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4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81120" y="5151600"/>
            <a:ext cx="5580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Company(5)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Period: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Posi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 Gross Salary: Rp. 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Jobs descriptio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Reason of Leaving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: ............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88320" y="7329600"/>
            <a:ext cx="5060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100" spc="-1" strike="noStrike" u="sng">
                <a:solidFill>
                  <a:srgbClr val="ff6600"/>
                </a:solidFill>
                <a:uFillTx/>
                <a:latin typeface="Arial Narrow"/>
                <a:ea typeface="굴림"/>
              </a:rPr>
              <a:t>Languages(Jika ada)</a:t>
            </a:r>
            <a:r>
              <a:rPr b="0" lang="en-AU" sz="11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poke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 Level : ...................................... Score : 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Written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 Level : ...................................... Score : 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TOIEC Score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: 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TOEFL Score          : 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Signature : ....................................................... Date : 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8:21:11Z</dcterms:created>
  <dc:creator>DEWI MARGARANI</dc:creator>
  <dc:description/>
  <dc:language>en-US</dc:language>
  <cp:lastModifiedBy>Didi Hankook Tire</cp:lastModifiedBy>
  <dcterms:modified xsi:type="dcterms:W3CDTF">2012-05-30T07:43:37Z</dcterms:modified>
  <cp:revision>286</cp:revision>
  <dc:subject/>
  <dc:title>Slide 1</dc:title>
</cp:coreProperties>
</file>