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2C1-6027-43A5-ADEC-B315BE829D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62D-B1AE-4A5B-86E1-C666C95642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786-FCAB-4EDB-AA39-EB2D2431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060-CA81-4223-B33B-8BC5433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415-7605-4A89-89A6-3897C05D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9AF-EBD9-4E0A-BB01-8083D8F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2E87-2F92-4E89-95B4-91DD008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F228-F660-4F78-8C5C-FB2DA61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86D8-1708-49DB-A24C-8014753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954B-1391-45D0-824E-424F40E4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B966-985B-4759-B27C-598BEE9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2873-29DB-4904-AB33-8BCB6802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D1C2-EA7F-44AE-9A50-C627F55B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CB3-33D2-4646-B24C-452E1E6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7FA8-E57E-4FB7-91E4-9A77EB1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3C0-F109-4CED-8FD6-3BDA231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3998-6487-4A5A-B6E5-CF99F9FF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5861-DAFB-4CCE-A840-C90A1AA6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CD8-5F6F-4121-8150-15336662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374-E6C0-4ABB-A65A-D00B03B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A7A-1848-4EFF-95DA-3D9B46B4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481-4C4B-44DA-AEBE-CC12B4F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A8B-C15D-470F-B84D-7F450F6E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0A5-6C9A-4269-9E8A-1480378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3EC-B69C-4FEA-B097-E0E8713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8AE-6E7E-43E7-9597-0CD8B3E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8F8D-5665-4473-AA37-7EEB719ADE6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B577-57C9-4AEF-933B-27DDE23E6524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docid=AkREUW9cogKKSM&amp;tbnid=G2uT_MI0f4w0LM:&amp;ved=&amp;url=https://www.surveymonkey.com/s/CT86G9S&amp;ei=c5YVU6-4A-TMygOw-YKwCQ&amp;bvm=bv.62286460,d.bGQ&amp;psig=AFQjCNHdPt4YCJQDkH6qxgIHqrBxba-Gwg&amp;ust=139401009946720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rugs" TargetMode="External"/><Relationship Id="rId2" Type="http://schemas.openxmlformats.org/officeDocument/2006/relationships/hyperlink" Target="http://en.wikipedia.org/wiki/Cholestero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1"/>
          <p:cNvSpPr/>
          <p:nvPr/>
        </p:nvSpPr>
        <p:spPr>
          <a:xfrm>
            <a:off x="129960" y="1143000"/>
            <a:ext cx="88189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apter VII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olesterol metabolism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Group 2"/>
          <p:cNvGrpSpPr/>
          <p:nvPr/>
        </p:nvGrpSpPr>
        <p:grpSpPr>
          <a:xfrm>
            <a:off x="6113520" y="82440"/>
            <a:ext cx="2922480" cy="6534360"/>
            <a:chOff x="6113520" y="82440"/>
            <a:chExt cx="2922480" cy="6534360"/>
          </a:xfrm>
        </p:grpSpPr>
        <p:pic>
          <p:nvPicPr>
            <p:cNvPr id="108" name="Picture 5" descr="https://secure.surveymonkey.com/_resources/27153/36327153/41c8fa77-3f39-4006-93a0-1114eac53b73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21320" y="8244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4"/>
            <p:cNvSpPr/>
            <p:nvPr/>
          </p:nvSpPr>
          <p:spPr>
            <a:xfrm>
              <a:off x="6113520" y="6248520"/>
              <a:ext cx="28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Dr. Sameh Sarray Hlaou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p 5: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ynthesis of Squalene &amp; Choleste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4876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quale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2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(NADPH is a reducing agen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yzed b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qualene Synth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holesterol 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anostero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sequence of reactions that use molecular oxygen and NADP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a seri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rea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ning of the carbon ch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3 (from 30 to 27),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olestero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rmed from lanostero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lanosterol"/>
          <p:cNvPicPr/>
          <p:nvPr/>
        </p:nvPicPr>
        <p:blipFill>
          <a:blip r:embed="rId1"/>
          <a:stretch/>
        </p:blipFill>
        <p:spPr>
          <a:xfrm>
            <a:off x="4952880" y="1752480"/>
            <a:ext cx="4125960" cy="283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lanostchol"/>
          <p:cNvPicPr/>
          <p:nvPr/>
        </p:nvPicPr>
        <p:blipFill>
          <a:blip r:embed="rId2"/>
          <a:stretch/>
        </p:blipFill>
        <p:spPr>
          <a:xfrm>
            <a:off x="4978440" y="4635360"/>
            <a:ext cx="4114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990720" y="366840"/>
            <a:ext cx="9144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gulation of cholesterol synthesi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76320" y="2514600"/>
            <a:ext cx="495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ontro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G CoA reduct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al reg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al reg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HMG-CoA-reductase-gene-3"/>
          <p:cNvPicPr/>
          <p:nvPr/>
        </p:nvPicPr>
        <p:blipFill>
          <a:blip r:embed="rId1"/>
          <a:stretch/>
        </p:blipFill>
        <p:spPr>
          <a:xfrm>
            <a:off x="4572000" y="2133720"/>
            <a:ext cx="45720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ontrol of HMG-CoA Reductase</a:t>
            </a:r>
            <a:r>
              <a:rPr b="0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960" y="1523520"/>
            <a:ext cx="8915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95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hort-term regulation: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MG-CoA Reductase is inhibi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phosphory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yzed by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MP-Kinase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also regulates fatty acid synthe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751"/>
              </a:spcAft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MP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inase is active when cellular AMP is hi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rresponding to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hen ATP is l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hen cellular ATP is low, energy is not expended in synthesizing cholestero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ng-term reg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indent="457200" algn="just">
              <a:lnSpc>
                <a:spcPct val="100000"/>
              </a:lnSpc>
              <a:spcAft>
                <a:spcPts val="1250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HMG-CoA Reductas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timulate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olesterol, oxidized derivatives of cholesterol: mevalonate, &amp; farnes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hosphorylated farnesyl pyrophosphate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indent="457200" algn="just">
              <a:lnSpc>
                <a:spcPct val="100000"/>
              </a:lnSpc>
              <a:spcAft>
                <a:spcPts val="1250"/>
              </a:spcAft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within proteosom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G-CoA Reductase contains a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erol-sensing domain (SSD)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terol level increase in cells, ubiquitin protein will be attached to SSD by ubiquitin ligase allowing recognition of HMG CoA reductase by proteosom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ZoneTexte 4"/>
          <p:cNvSpPr/>
          <p:nvPr/>
        </p:nvSpPr>
        <p:spPr>
          <a:xfrm>
            <a:off x="76320" y="56844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ajor control 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 Hormonal Regu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sulin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receptors on the membrane of liver cel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ulin bind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activation of HMG-CoA →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creased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cholesterol syn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lucag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specific receptors on the membrane of liver cel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lucagon bind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inactivation of HMG-CoA 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→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creased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cholesterol synthes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 Transcriptional Regulation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1920" y="3544560"/>
            <a:ext cx="8991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ression of the gene for HMG CoA i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by the transcription factor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REBP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terol regulatory element binding protein-2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PB-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rotein of ER membrane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nother ER membrane protein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P (SREBP cleavage activating protein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a comple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When cholesterol level is low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x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 from ER to Golgi,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REBP-2 i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ed upon by 2 proteas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elease domain of SREBP, that enters the nucleus, binds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RE (sterol regulatory element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upstream of reductase ge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cts as transcription factor           synthesis of HMG CoA            choleste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When cholesterol is abundant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SCAP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ts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rol sensing domain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duc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nding of SCAP to other membrane protei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us the SREBP-2 is retained in the ER membrane            no activation of gene               no cholesterol synthe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1" name="Connecteur droit avec flèche 5"/>
          <p:cNvCxnSpPr/>
          <p:nvPr/>
        </p:nvCxnSpPr>
        <p:spPr>
          <a:xfrm>
            <a:off x="2438280" y="5790960"/>
            <a:ext cx="6105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2" name="Connecteur droit avec flèche 7"/>
          <p:cNvCxnSpPr/>
          <p:nvPr/>
        </p:nvCxnSpPr>
        <p:spPr>
          <a:xfrm>
            <a:off x="1218960" y="6705360"/>
            <a:ext cx="610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3" name="Connecteur droit avec flèche 8"/>
          <p:cNvCxnSpPr/>
          <p:nvPr/>
        </p:nvCxnSpPr>
        <p:spPr>
          <a:xfrm>
            <a:off x="3885840" y="6705360"/>
            <a:ext cx="610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106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6320" y="773280"/>
            <a:ext cx="8940600" cy="4484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304920" y="5505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x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s from ER to Golgi,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SREBP-2 i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ed upon by 2 proteas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elease SREBP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enters the nucleus, binds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RE (sterol regulatory element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upstream of reductase ge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cts as transcription factor           synthesis of HMG CoA            choleste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74400" y="7632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intracellular cholesterol is 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4920" y="609480"/>
            <a:ext cx="8991720" cy="4724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" name="Straight Arrow Connector 5"/>
          <p:cNvCxnSpPr/>
          <p:nvPr/>
        </p:nvCxnSpPr>
        <p:spPr>
          <a:xfrm>
            <a:off x="7009920" y="6249600"/>
            <a:ext cx="381960" cy="1080"/>
          </a:xfrm>
          <a:prstGeom prst="straightConnector1">
            <a:avLst/>
          </a:prstGeom>
          <a:ln w="25560">
            <a:solidFill>
              <a:srgbClr val="00e4a8"/>
            </a:solidFill>
            <a:miter/>
            <a:tailEnd len="med" type="arrow" w="med"/>
          </a:ln>
        </p:spPr>
      </p:cxnSp>
      <p:cxnSp>
        <p:nvCxnSpPr>
          <p:cNvPr id="170" name="Straight Arrow Connector 6"/>
          <p:cNvCxnSpPr/>
          <p:nvPr/>
        </p:nvCxnSpPr>
        <p:spPr>
          <a:xfrm>
            <a:off x="1828800" y="6552720"/>
            <a:ext cx="381600" cy="1080"/>
          </a:xfrm>
          <a:prstGeom prst="straightConnector1">
            <a:avLst/>
          </a:prstGeom>
          <a:ln w="25560">
            <a:solidFill>
              <a:srgbClr val="00e4a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02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- Drug Control: Stati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ati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G-CoA reductase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re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lass of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drugs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lowe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cholest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vels. They act as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mpetitive inhibito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MG-CoA reducta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bulky and literally get “stuck” in the active s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the enzyme from binding with its substrate, HMG-Co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 of statins are on the marke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438280" y="4114800"/>
          <a:ext cx="4953240" cy="2590920"/>
        </p:xfrm>
        <a:graphic>
          <a:graphicData uri="http://schemas.openxmlformats.org/drawingml/2006/table">
            <a:tbl>
              <a:tblPr/>
              <a:tblGrid>
                <a:gridCol w="2476800"/>
                <a:gridCol w="2476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Stat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Trade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orvasta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p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vastat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vastat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vacor, Alto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vasta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vachol, Selektine, Lipo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uvasta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s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vasta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cor, Lip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egradation of Choleste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s cannot degrade cholesterol to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 don’t have these enzyme mechanis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her, the sterol nucleus is eliminated from the body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to bile acid and bile salts →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ecal ex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ion of cholesterol into bile →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stinal 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limin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625320"/>
            <a:ext cx="8163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ile Acid/Salt Metabolis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3520" y="2590920"/>
            <a:ext cx="8305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excretory form of choleste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om cholesterol(27C) by los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arbons (24 C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e acid/salts involved in dietary lipid digestio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f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520" y="1295280"/>
            <a:ext cx="533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b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olesterol B-ring is redu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or 3 hydroxyl groups are add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eroid nucleu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O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ch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pat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304812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8209080" y="4540320"/>
            <a:ext cx="8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3O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8664120" y="6488280"/>
            <a:ext cx="5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2OH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6095880" y="185760"/>
            <a:ext cx="2847960" cy="2536920"/>
          </a:xfrm>
          <a:prstGeom prst="rect">
            <a:avLst/>
          </a:prstGeom>
          <a:ln w="0">
            <a:noFill/>
          </a:ln>
        </p:spPr>
      </p:pic>
      <p:sp>
        <p:nvSpPr>
          <p:cNvPr id="183" name="Oval 7"/>
          <p:cNvSpPr/>
          <p:nvPr/>
        </p:nvSpPr>
        <p:spPr>
          <a:xfrm>
            <a:off x="8686800" y="48006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8686800" y="281952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6" descr="cholesterol1.jpg"/>
          <p:cNvPicPr/>
          <p:nvPr/>
        </p:nvPicPr>
        <p:blipFill>
          <a:blip r:embed="rId1"/>
          <a:srcRect l="0" t="0" r="6229" b="0"/>
          <a:stretch/>
        </p:blipFill>
        <p:spPr>
          <a:xfrm>
            <a:off x="5715000" y="1905120"/>
            <a:ext cx="3174840" cy="4513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0" y="2590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rosclerotic vascular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troke, coronary artery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629160"/>
            <a:ext cx="54864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tructur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of cell membr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ating their fluid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ursor of bile sa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oid hormones (sex hormones, mineralocorticoides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vitamins (vit 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rve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of plasma lipoprote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514600" y="380880"/>
            <a:ext cx="3878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871560" y="252360"/>
            <a:ext cx="8163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Types of Bile Acids/Salts</a:t>
            </a:r>
            <a:br>
              <a:rPr sz="40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-76320" y="2057400"/>
            <a:ext cx="457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mary bile ac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emulsifying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xylated at Carbon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jugated bile sa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 bonds with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lyc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aur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good emul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4" descr="21-5"/>
          <p:cNvPicPr/>
          <p:nvPr/>
        </p:nvPicPr>
        <p:blipFill>
          <a:blip r:embed="rId1"/>
          <a:stretch/>
        </p:blipFill>
        <p:spPr>
          <a:xfrm>
            <a:off x="4648320" y="1981080"/>
            <a:ext cx="425772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5"/>
          <p:cNvSpPr/>
          <p:nvPr/>
        </p:nvSpPr>
        <p:spPr>
          <a:xfrm>
            <a:off x="3431880" y="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ILE SAL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jugation of bile ac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iver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ine or taur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le sa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0" name="Group 19"/>
          <p:cNvGrpSpPr/>
          <p:nvPr/>
        </p:nvGrpSpPr>
        <p:grpSpPr>
          <a:xfrm>
            <a:off x="64440" y="1523880"/>
            <a:ext cx="8926200" cy="3125160"/>
            <a:chOff x="64440" y="1523880"/>
            <a:chExt cx="8926200" cy="3125160"/>
          </a:xfrm>
        </p:grpSpPr>
        <p:grpSp>
          <p:nvGrpSpPr>
            <p:cNvPr id="191" name="Group 14"/>
            <p:cNvGrpSpPr/>
            <p:nvPr/>
          </p:nvGrpSpPr>
          <p:grpSpPr>
            <a:xfrm>
              <a:off x="64440" y="1523880"/>
              <a:ext cx="8926200" cy="3125160"/>
              <a:chOff x="64440" y="1523880"/>
              <a:chExt cx="8926200" cy="3125160"/>
            </a:xfrm>
          </p:grpSpPr>
          <p:sp>
            <p:nvSpPr>
              <p:cNvPr id="192" name="Text Box 4"/>
              <p:cNvSpPr/>
              <p:nvPr/>
            </p:nvSpPr>
            <p:spPr>
              <a:xfrm>
                <a:off x="4800600" y="1523880"/>
                <a:ext cx="376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ahoma"/>
                  </a:rPr>
                  <a:t>Chenodeoxycholic acid (2OH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Text Box 6"/>
              <p:cNvSpPr/>
              <p:nvPr/>
            </p:nvSpPr>
            <p:spPr>
              <a:xfrm>
                <a:off x="1260720" y="3504960"/>
                <a:ext cx="6557040" cy="825480"/>
              </a:xfrm>
              <a:prstGeom prst="rect">
                <a:avLst/>
              </a:prstGeom>
              <a:noFill/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The ratio of glycine to taurine forms in the bile i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3: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571320" y="2521440"/>
                <a:ext cx="1957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Tahoma"/>
                  </a:rPr>
                  <a:t>Glycocholi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Tahoma"/>
                  </a:rPr>
                  <a:t>Taurocholi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AutoShape 9"/>
              <p:cNvSpPr/>
              <p:nvPr/>
            </p:nvSpPr>
            <p:spPr>
              <a:xfrm flipH="1">
                <a:off x="2656800" y="1828440"/>
                <a:ext cx="380880" cy="1218960"/>
              </a:xfrm>
              <a:custGeom>
                <a:avLst/>
                <a:gdLst>
                  <a:gd name="textAreaLeft" fmla="*/ 50760 w 380880"/>
                  <a:gd name="textAreaRight" fmla="*/ 330120 w 380880"/>
                  <a:gd name="textAreaTop" fmla="*/ 204480 h 1218960"/>
                  <a:gd name="textAreaBottom" fmla="*/ 88092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256" stAng="-5400000" swAng="-5400000"/>
                    <a:lnTo>
                      <a:pt x="0" y="11982"/>
                    </a:lnTo>
                    <a:arcTo wR="21600" hR="7256" stAng="10800000" swAng="-2612129"/>
                    <a:lnTo>
                      <a:pt x="14400" y="21185"/>
                    </a:lnTo>
                    <a:lnTo>
                      <a:pt x="21600" y="16875"/>
                    </a:lnTo>
                    <a:lnTo>
                      <a:pt x="14400" y="11735"/>
                    </a:lnTo>
                    <a:lnTo>
                      <a:pt x="14400" y="14097"/>
                    </a:lnTo>
                    <a:arcTo wR="21600" hR="7256" stAng="8187871" swAng="2216123"/>
                    <a:lnTo>
                      <a:pt x="1177" y="9619"/>
                    </a:lnTo>
                    <a:arcTo wR="21600" hR="7256" stAng="-10403994" swAng="5003994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256" stAng="-5400000" swAng="-5400000"/>
                    <a:lnTo>
                      <a:pt x="0" y="7256"/>
                    </a:lnTo>
                    <a:arcTo wR="21600" hR="7256" stAng="10800000" swAng="-396006"/>
                    <a:lnTo>
                      <a:pt x="1177" y="9619"/>
                    </a:lnTo>
                    <a:arcTo wR="21600" hR="7256" stAng="-10403994" swAng="5003994"/>
                    <a:close/>
                  </a:path>
                </a:pathLst>
              </a:cu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AutoShape 10"/>
              <p:cNvSpPr/>
              <p:nvPr/>
            </p:nvSpPr>
            <p:spPr>
              <a:xfrm>
                <a:off x="4449600" y="1752480"/>
                <a:ext cx="380880" cy="1295280"/>
              </a:xfrm>
              <a:custGeom>
                <a:avLst/>
                <a:gdLst>
                  <a:gd name="textAreaLeft" fmla="*/ 50760 w 380880"/>
                  <a:gd name="textAreaRight" fmla="*/ 330120 w 380880"/>
                  <a:gd name="textAreaTop" fmla="*/ 223560 h 1295280"/>
                  <a:gd name="textAreaBottom" fmla="*/ 93816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465" stAng="-5400000" swAng="-5400000"/>
                    <a:lnTo>
                      <a:pt x="0" y="11913"/>
                    </a:lnTo>
                    <a:arcTo wR="21600" hR="7465" stAng="10800000" swAng="-2660789"/>
                    <a:lnTo>
                      <a:pt x="14400" y="21173"/>
                    </a:lnTo>
                    <a:lnTo>
                      <a:pt x="21600" y="17153"/>
                    </a:lnTo>
                    <a:lnTo>
                      <a:pt x="14400" y="12279"/>
                    </a:lnTo>
                    <a:lnTo>
                      <a:pt x="14400" y="14502"/>
                    </a:lnTo>
                    <a:arcTo wR="21600" hR="7465" stAng="8139211" swAng="2291416"/>
                    <a:lnTo>
                      <a:pt x="981" y="9688"/>
                    </a:lnTo>
                    <a:arcTo wR="21600" hR="7465" stAng="-10430627" swAng="5030627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465" stAng="-5400000" swAng="-5400000"/>
                    <a:lnTo>
                      <a:pt x="0" y="7465"/>
                    </a:lnTo>
                    <a:arcTo wR="21600" hR="7465" stAng="10800000" swAng="-369373"/>
                    <a:lnTo>
                      <a:pt x="981" y="9688"/>
                    </a:lnTo>
                    <a:arcTo wR="21600" hR="7465" stAng="-10430627" swAng="5030627"/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AutoShape 11"/>
              <p:cNvSpPr/>
              <p:nvPr/>
            </p:nvSpPr>
            <p:spPr>
              <a:xfrm flipH="1" flipV="1" rot="2757600">
                <a:off x="7840440" y="3316680"/>
                <a:ext cx="841320" cy="1214280"/>
              </a:xfrm>
              <a:custGeom>
                <a:avLst/>
                <a:gdLst>
                  <a:gd name="textAreaLeft" fmla="*/ 112680 w 841320"/>
                  <a:gd name="textAreaRight" fmla="*/ 728640 w 841320"/>
                  <a:gd name="textAreaTop" fmla="*/ 240480 h 1214280"/>
                  <a:gd name="textAreaBottom" fmla="*/ 889560 h 121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554" stAng="-5400000" swAng="-5400000"/>
                    <a:lnTo>
                      <a:pt x="0" y="11549"/>
                    </a:lnTo>
                    <a:arcTo wR="21600" hR="8554" stAng="10800000" swAng="-2708177"/>
                    <a:lnTo>
                      <a:pt x="13680" y="21004"/>
                    </a:lnTo>
                    <a:lnTo>
                      <a:pt x="21600" y="18605"/>
                    </a:lnTo>
                    <a:lnTo>
                      <a:pt x="13680" y="15013"/>
                    </a:lnTo>
                    <a:lnTo>
                      <a:pt x="13680" y="16511"/>
                    </a:lnTo>
                    <a:arcTo wR="21600" hR="8554" stAng="8091823" swAng="2466503"/>
                    <a:lnTo>
                      <a:pt x="334" y="10051"/>
                    </a:lnTo>
                    <a:arcTo wR="21600" hR="8554" stAng="-10558326" swAng="5158326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554" stAng="-5400000" swAng="-5400000"/>
                    <a:lnTo>
                      <a:pt x="0" y="8554"/>
                    </a:lnTo>
                    <a:arcTo wR="21600" hR="8554" stAng="10800000" swAng="-241674"/>
                    <a:lnTo>
                      <a:pt x="334" y="10051"/>
                    </a:lnTo>
                    <a:arcTo wR="21600" hR="8554" stAng="-10558326" swAng="5158326"/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AutoShape 12"/>
              <p:cNvSpPr/>
              <p:nvPr/>
            </p:nvSpPr>
            <p:spPr>
              <a:xfrm flipV="1" rot="18842400">
                <a:off x="343440" y="3345480"/>
                <a:ext cx="895320" cy="1157040"/>
              </a:xfrm>
              <a:custGeom>
                <a:avLst/>
                <a:gdLst>
                  <a:gd name="textAreaLeft" fmla="*/ 119880 w 895320"/>
                  <a:gd name="textAreaRight" fmla="*/ 775440 w 895320"/>
                  <a:gd name="textAreaTop" fmla="*/ 222120 h 1157040"/>
                  <a:gd name="textAreaBottom" fmla="*/ 845640 h 11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299" stAng="-5400000" swAng="-5400000"/>
                    <a:lnTo>
                      <a:pt x="0" y="11634"/>
                    </a:lnTo>
                    <a:arcTo wR="21600" hR="8299" stAng="10800000" swAng="-2656263"/>
                    <a:lnTo>
                      <a:pt x="13680" y="21022"/>
                    </a:lnTo>
                    <a:lnTo>
                      <a:pt x="21600" y="18266"/>
                    </a:lnTo>
                    <a:lnTo>
                      <a:pt x="13680" y="14353"/>
                    </a:lnTo>
                    <a:lnTo>
                      <a:pt x="13680" y="16020"/>
                    </a:lnTo>
                    <a:arcTo wR="21600" hR="8299" stAng="8143737" swAng="2385906"/>
                    <a:lnTo>
                      <a:pt x="441" y="9967"/>
                    </a:lnTo>
                    <a:arcTo wR="21600" hR="8299" stAng="-10529643" swAng="5129643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299" stAng="-5400000" swAng="-5400000"/>
                    <a:lnTo>
                      <a:pt x="0" y="8299"/>
                    </a:lnTo>
                    <a:arcTo wR="21600" hR="8299" stAng="10800000" swAng="-270357"/>
                    <a:lnTo>
                      <a:pt x="441" y="9967"/>
                    </a:lnTo>
                    <a:arcTo wR="21600" hR="8299" stAng="-10529643" swAng="5129643"/>
                    <a:close/>
                  </a:path>
                </a:pathLst>
              </a:cu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13"/>
              <p:cNvSpPr/>
              <p:nvPr/>
            </p:nvSpPr>
            <p:spPr>
              <a:xfrm>
                <a:off x="627120" y="1549080"/>
                <a:ext cx="1812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Tahoma"/>
                  </a:rPr>
                  <a:t>Cholic aci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Tahoma"/>
                  </a:rPr>
                  <a:t>(3OH)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TextBox 11"/>
              <p:cNvSpPr/>
              <p:nvPr/>
            </p:nvSpPr>
            <p:spPr>
              <a:xfrm>
                <a:off x="3009960" y="1599840"/>
                <a:ext cx="142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b050"/>
                    </a:solidFill>
                    <a:latin typeface="Tahoma"/>
                  </a:rPr>
                  <a:t>BILE ACIDS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Box 12"/>
              <p:cNvSpPr/>
              <p:nvPr/>
            </p:nvSpPr>
            <p:spPr>
              <a:xfrm>
                <a:off x="3105000" y="281916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b050"/>
                    </a:solidFill>
                    <a:latin typeface="Tahoma"/>
                  </a:rPr>
                  <a:t>BILE SALTS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2" name="TextBox 17"/>
            <p:cNvSpPr/>
            <p:nvPr/>
          </p:nvSpPr>
          <p:spPr>
            <a:xfrm>
              <a:off x="4974120" y="2514240"/>
              <a:ext cx="37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Glycochenodeoxychol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Taurochenodeoxychol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Rectangle 18"/>
          <p:cNvSpPr/>
          <p:nvPr/>
        </p:nvSpPr>
        <p:spPr>
          <a:xfrm>
            <a:off x="0" y="4876920"/>
            <a:ext cx="952488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sults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ionizable grou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hysiologic pH (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OH of glycine &amp; -SO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taur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terg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ies of bile salts compared to bile aci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in the intesti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njugate bile sa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unctions of Bile Sal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79520" y="1295280"/>
            <a:ext cx="847836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3200" indent="-403200" algn="just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mporta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cholesterol excre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3200" indent="-403200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. As metabolic products of choleste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3200" indent="-403200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2. As solubilizer of cholesterol in b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3200" indent="-403200" algn="just">
              <a:lnSpc>
                <a:spcPct val="100000"/>
              </a:lnSpc>
              <a:spcAft>
                <a:spcPts val="1800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ulsifying factors for dietary lipid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erequisite step for efficient lipid dig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3200" indent="-403200" algn="just">
              <a:lnSpc>
                <a:spcPct val="100000"/>
              </a:lnSpc>
              <a:spcAft>
                <a:spcPts val="1800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ilitate intestinal lipid absorption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y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ormation of mixed micel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5943600"/>
            <a:ext cx="9372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al Control of Bile Secretion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olecystokini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C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nterohepatic Cir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2626920"/>
            <a:ext cx="91440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bile salts ar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bsorbed by the li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circulation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will be lost in fe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holelithiasis</a:t>
            </a:r>
            <a:br>
              <a:rPr sz="4400"/>
            </a:br>
            <a:r>
              <a:rPr b="1" lang="en-US" sz="4400" spc="-1" strike="noStrike">
                <a:solidFill>
                  <a:srgbClr val="990033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Cholesterol Gall stone Dise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380952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ir deficiency,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esterols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stals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e in the gall bladder resulting in cholesterol gallstone dise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4" descr="Gallstones_cholesterol by Terrortoma."/>
          <p:cNvPicPr/>
          <p:nvPr/>
        </p:nvPicPr>
        <p:blipFill>
          <a:blip r:embed="rId1"/>
          <a:stretch/>
        </p:blipFill>
        <p:spPr>
          <a:xfrm>
            <a:off x="5105520" y="2438280"/>
            <a:ext cx="3984480" cy="3697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2057400"/>
            <a:ext cx="5334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Webdings"/>
                <a:ea typeface="Webdings"/>
              </a:rPr>
              <a:t>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aus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Tahoma"/>
              </a:rPr>
              <a:t>Bile salts in bi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-Biliary tract obstruction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(intereferes with enterohepatic circula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-Hepatic dysfunction (  synthesi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3581280" y="3505320"/>
            <a:ext cx="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990720" y="2362320"/>
            <a:ext cx="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198440" y="2247840"/>
            <a:ext cx="7261200" cy="1397160"/>
          </a:xfrm>
          <a:prstGeom prst="rect">
            <a:avLst/>
          </a:prstGeom>
          <a:ln w="0">
            <a:noFill/>
          </a:ln>
        </p:spPr>
      </p:pic>
      <p:sp>
        <p:nvSpPr>
          <p:cNvPr id="216" name="ZoneTexte 4"/>
          <p:cNvSpPr/>
          <p:nvPr/>
        </p:nvSpPr>
        <p:spPr>
          <a:xfrm>
            <a:off x="2133720" y="2205000"/>
            <a:ext cx="545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Arial"/>
              </a:rPr>
              <a:t>THE END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holesterol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960" y="228564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rol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in all eukaryotic cells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fused hydrocarbon rings (A-D) called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roid nucle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a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(as –OH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C3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 B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bon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C5 and C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 carb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d hydrocarbo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ed to C17 of D 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3305160" cy="2943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6557760" y="4756320"/>
            <a:ext cx="126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76320" y="838080"/>
            <a:ext cx="5943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lasma cholesterol 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with a fatty acid attach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C3: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olestryl e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fication occurs mainly i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esterol i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liver 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modified cholestero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t ca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 converted to bile salt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secreted into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stinal lum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5848200" y="1676520"/>
            <a:ext cx="32958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517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holesterol Synthe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56386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site: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~1g/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fro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l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ytoplasm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enzymes for its synthesis present </a:t>
            </a:r>
            <a:r>
              <a:rPr b="1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cytosol and 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htly regulated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accumulation and deposition in coronary arterie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heroscleros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image108"/>
          <p:cNvPicPr/>
          <p:nvPr/>
        </p:nvPicPr>
        <p:blipFill>
          <a:blip r:embed="rId1"/>
          <a:stretch/>
        </p:blipFill>
        <p:spPr>
          <a:xfrm>
            <a:off x="5969160" y="990720"/>
            <a:ext cx="305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37880" y="3805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p 1: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ormation of HMG-Co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60958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tion of 2 acetyl-CoA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oacetyl-Co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iol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acetyl-CoA combines with third acetyl Co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xymethyl-glutaryl-coenzyme 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MG-CoA (6C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yzed by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MG-CoA Synth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18_003"/>
          <p:cNvPicPr/>
          <p:nvPr/>
        </p:nvPicPr>
        <p:blipFill>
          <a:blip r:embed="rId1"/>
          <a:srcRect l="19089" t="0" r="15661" b="16267"/>
          <a:stretch/>
        </p:blipFill>
        <p:spPr>
          <a:xfrm>
            <a:off x="6257880" y="1676520"/>
            <a:ext cx="2578320" cy="4876560"/>
          </a:xfrm>
          <a:prstGeom prst="rect">
            <a:avLst/>
          </a:prstGeom>
          <a:ln w="0">
            <a:noFill/>
          </a:ln>
        </p:spPr>
      </p:pic>
      <p:cxnSp>
        <p:nvCxnSpPr>
          <p:cNvPr id="126" name="Straight Arrow Connector 6"/>
          <p:cNvCxnSpPr/>
          <p:nvPr/>
        </p:nvCxnSpPr>
        <p:spPr>
          <a:xfrm>
            <a:off x="380880" y="3352320"/>
            <a:ext cx="457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p 2: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ynthesis of Mevalonic Aci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57150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ste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ynthesis of choleste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MG CoA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2 molecule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HMG-CoA Reduct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ng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valona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mevalonic ac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18_004"/>
          <p:cNvPicPr/>
          <p:nvPr/>
        </p:nvPicPr>
        <p:blipFill>
          <a:blip r:embed="rId1"/>
          <a:srcRect l="4322" t="4604" r="4322" b="18726"/>
          <a:stretch/>
        </p:blipFill>
        <p:spPr>
          <a:xfrm>
            <a:off x="6019920" y="1981080"/>
            <a:ext cx="2668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p 3: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ynthesis of isopententyl Pyrophosphate (IPP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valon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yla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2 sequential P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fers fro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ielding th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rophosphate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tiv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rboxylation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-depend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hydration yield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pentenyl pyrophosphate (IPP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sopentenyl Pyrophosphate Isomerase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IPP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,3-dimethylallyl pyrophosphate (DPP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of 3 ATP molec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lèche droite 5"/>
          <p:cNvSpPr/>
          <p:nvPr/>
        </p:nvSpPr>
        <p:spPr>
          <a:xfrm>
            <a:off x="304920" y="5943600"/>
            <a:ext cx="6858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867040" cy="3981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6019920" y="5562720"/>
            <a:ext cx="2838240" cy="1127160"/>
          </a:xfrm>
          <a:prstGeom prst="rect">
            <a:avLst/>
          </a:prstGeom>
          <a:ln w="0">
            <a:noFill/>
          </a:ln>
        </p:spPr>
      </p:pic>
      <p:cxnSp>
        <p:nvCxnSpPr>
          <p:cNvPr id="135" name="Straight Arrow Connector 10"/>
          <p:cNvCxnSpPr/>
          <p:nvPr/>
        </p:nvCxnSpPr>
        <p:spPr>
          <a:xfrm>
            <a:off x="7162560" y="5181480"/>
            <a:ext cx="1080" cy="610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Rectangle 11"/>
          <p:cNvSpPr/>
          <p:nvPr/>
        </p:nvSpPr>
        <p:spPr>
          <a:xfrm>
            <a:off x="5562720" y="1219320"/>
            <a:ext cx="34290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7120800" y="5289480"/>
            <a:ext cx="90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ff"/>
                </a:solidFill>
                <a:latin typeface="Tahoma"/>
              </a:rPr>
              <a:t>isomeras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p 4: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ynthesis of farnesyl pyrophosphate (FPP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10516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enyl Transfer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talyzes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ead-to-tail condensation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thylallyl pyrophosphate (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denses with isopentenyl pyrophosphate (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form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ranyl pyrophosphate (GPP)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0 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P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enses with another </a:t>
            </a:r>
            <a:r>
              <a:rPr b="1" lang="en-US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P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arnesyl pyrophosphate (FPP)</a:t>
            </a:r>
            <a:r>
              <a:rPr b="0" lang="en-US" sz="23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15 C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ZoneTexte 6"/>
          <p:cNvSpPr/>
          <p:nvPr/>
        </p:nvSpPr>
        <p:spPr>
          <a:xfrm>
            <a:off x="5412600" y="63975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Arial"/>
                <a:ea typeface="Arial"/>
              </a:rPr>
              <a:t>(15 C</a:t>
            </a:r>
            <a:r>
              <a:rPr b="0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943440" cy="4619520"/>
          </a:xfrm>
          <a:prstGeom prst="rect">
            <a:avLst/>
          </a:prstGeom>
          <a:ln w="0">
            <a:noFill/>
          </a:ln>
        </p:spPr>
      </p:pic>
      <p:sp>
        <p:nvSpPr>
          <p:cNvPr id="142" name="ZoneTexte 5"/>
          <p:cNvSpPr/>
          <p:nvPr/>
        </p:nvSpPr>
        <p:spPr>
          <a:xfrm>
            <a:off x="5425560" y="449568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10 C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976640" y="1828800"/>
            <a:ext cx="41911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6711480" y="221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1762200" cy="761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6915240" y="1928880"/>
            <a:ext cx="22287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0:35:12Z</dcterms:created>
  <dc:creator>Wassim Y. Almawi</dc:creator>
  <dc:description/>
  <dc:language>en-US</dc:language>
  <cp:lastModifiedBy>hall</cp:lastModifiedBy>
  <dcterms:modified xsi:type="dcterms:W3CDTF">2014-04-20T08:25:09Z</dcterms:modified>
  <cp:revision>197</cp:revision>
  <dc:subject/>
  <dc:title>Diapositive 1</dc:title>
</cp:coreProperties>
</file>