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6E5E-F11C-4AC4-BD41-EBA5CF6F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9758-3945-4A11-A787-81C8BFC6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6ACA-D01E-484F-B294-E08B9E6A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31E7-FEAF-40DF-A25C-638F3AC2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2E58-9B80-4AF3-B04D-2C0EB196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33D2-B585-4C88-B03D-8ABBA0DA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4B5F-CA66-4DA8-B3C1-14FBDD23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EA00-64AA-441C-BE3F-BBACB34C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8AB0-AB74-4096-B0DC-65EC2777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D08F-A439-4291-B9D7-11FDE701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10F5-598F-472A-A621-575DAA31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3C45-7665-4E70-BDDB-76F1D387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720B-6812-4989-9859-45BDD3C92B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"/>
          <p:cNvPicPr/>
          <p:nvPr/>
        </p:nvPicPr>
        <p:blipFill>
          <a:blip r:embed="rId1"/>
          <a:stretch/>
        </p:blipFill>
        <p:spPr>
          <a:xfrm>
            <a:off x="0" y="436572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26720"/>
            <a:ext cx="7772400" cy="187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b0f0"/>
                </a:solidFill>
                <a:latin typeface="Calibri"/>
              </a:rPr>
              <a:t>Fonds de Solidarité Prioritaire</a:t>
            </a:r>
            <a:br>
              <a:rPr sz="32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ppui institutionnel à la mise en œuvre de la politique d’Aménagement et de Développement Durable du Territoire en Algér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www.oten.fr/local/cache-vignettes/L141xH218/jpg_logo_datar_copie-b2ab3.jpg"/>
          <p:cNvPicPr/>
          <p:nvPr/>
        </p:nvPicPr>
        <p:blipFill>
          <a:blip r:embed="rId2"/>
          <a:stretch/>
        </p:blipFill>
        <p:spPr>
          <a:xfrm>
            <a:off x="4237200" y="189000"/>
            <a:ext cx="839520" cy="12970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431640" y="329760"/>
            <a:ext cx="219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REPUBLIQUE ALGERIENNE DEMOCRATIQUE ET POPULAIR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1206360" y="706320"/>
            <a:ext cx="628920" cy="561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169560" y="1332000"/>
            <a:ext cx="30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ERE DE L’AMENAGEMENT DU TERRITOIRE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E L’ENVIRONNEMENT ET DU TOURISME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0" descr="Logo MAEE"/>
          <p:cNvPicPr/>
          <p:nvPr/>
        </p:nvPicPr>
        <p:blipFill>
          <a:blip r:embed="rId4"/>
          <a:stretch/>
        </p:blipFill>
        <p:spPr>
          <a:xfrm>
            <a:off x="6875640" y="189000"/>
            <a:ext cx="1009440" cy="10414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1"/>
          <p:cNvSpPr/>
          <p:nvPr/>
        </p:nvSpPr>
        <p:spPr>
          <a:xfrm>
            <a:off x="6408720" y="1297080"/>
            <a:ext cx="2124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MBASSADE DE FRANCE EN ALGERI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ERVICE DE COOPERATION ET D’ACTION CULTURELLE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X:\ARBOIS\logo arbois\Arbois méditerranée\LOGO TECH-ENVIR-ARBOIS-MED1.jpg"/>
          <p:cNvPicPr/>
          <p:nvPr/>
        </p:nvPicPr>
        <p:blipFill>
          <a:blip r:embed="rId5"/>
          <a:stretch/>
        </p:blipFill>
        <p:spPr>
          <a:xfrm>
            <a:off x="2195640" y="5805360"/>
            <a:ext cx="460512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http://www.naturalsciences.be/cb/antelopes/Copy%20of%20Cartography/carte%20Algerie.gif"/>
          <p:cNvPicPr/>
          <p:nvPr/>
        </p:nvPicPr>
        <p:blipFill>
          <a:blip r:embed="rId1"/>
          <a:stretch/>
        </p:blipFill>
        <p:spPr>
          <a:xfrm>
            <a:off x="1395360" y="2273400"/>
            <a:ext cx="6188040" cy="4365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162" name="Espace réservé du contenu 2"/>
          <p:cNvSpPr/>
          <p:nvPr/>
        </p:nvSpPr>
        <p:spPr>
          <a:xfrm>
            <a:off x="457200" y="90792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ttractivité et compétitivité de la Ville Nouvelle de Boughezo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llipse 8"/>
          <p:cNvSpPr/>
          <p:nvPr/>
        </p:nvSpPr>
        <p:spPr>
          <a:xfrm>
            <a:off x="4643280" y="2708280"/>
            <a:ext cx="144720" cy="14436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lèche gauche 9"/>
          <p:cNvSpPr/>
          <p:nvPr/>
        </p:nvSpPr>
        <p:spPr>
          <a:xfrm rot="20858400">
            <a:off x="4787640" y="2274480"/>
            <a:ext cx="2735280" cy="289080"/>
          </a:xfrm>
          <a:prstGeom prst="leftArrow">
            <a:avLst>
              <a:gd name="adj1" fmla="val 50000"/>
              <a:gd name="adj2" fmla="val 4980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1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962280"/>
          </a:xfrm>
          <a:prstGeom prst="rect">
            <a:avLst/>
          </a:prstGeom>
          <a:ln w="0">
            <a:noFill/>
          </a:ln>
        </p:spPr>
      </p:pic>
      <p:sp>
        <p:nvSpPr>
          <p:cNvPr id="166" name="Espace réservé du contenu 2"/>
          <p:cNvSpPr/>
          <p:nvPr/>
        </p:nvSpPr>
        <p:spPr>
          <a:xfrm>
            <a:off x="457200" y="1125360"/>
            <a:ext cx="822960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ttractivité et compétitivité de la Ville Nouvelle de Boughezo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C:\Users\fguilleux\Desktop\Photos Black berry\IMG00017-20101220-1445.jpg"/>
          <p:cNvPicPr/>
          <p:nvPr/>
        </p:nvPicPr>
        <p:blipFill>
          <a:blip r:embed="rId2"/>
          <a:stretch/>
        </p:blipFill>
        <p:spPr>
          <a:xfrm>
            <a:off x="179280" y="2600280"/>
            <a:ext cx="4392720" cy="3295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C:\Users\fguilleux\Desktop\Photos Black berry\IMG00021-20101221-2215.jpg"/>
          <p:cNvPicPr/>
          <p:nvPr/>
        </p:nvPicPr>
        <p:blipFill>
          <a:blip r:embed="rId3"/>
          <a:stretch/>
        </p:blipFill>
        <p:spPr>
          <a:xfrm>
            <a:off x="4681440" y="2565360"/>
            <a:ext cx="4319640" cy="3311640"/>
          </a:xfrm>
          <a:prstGeom prst="rect">
            <a:avLst/>
          </a:prstGeom>
          <a:ln w="0">
            <a:noFill/>
          </a:ln>
        </p:spPr>
      </p:pic>
      <p:sp>
        <p:nvSpPr>
          <p:cNvPr id="169" name="Espace réservé du contenu 2"/>
          <p:cNvSpPr/>
          <p:nvPr/>
        </p:nvSpPr>
        <p:spPr>
          <a:xfrm>
            <a:off x="457200" y="602136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Ville des Energies Renouvelables : travaux sur un projet Smart Grid avec Capénerg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1" name="Picture 11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962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C:\Users\fguilleux\Desktop\Photos Black berry\IMG00019-20101220-1507.jpg"/>
          <p:cNvPicPr/>
          <p:nvPr/>
        </p:nvPicPr>
        <p:blipFill>
          <a:blip r:embed="rId2"/>
          <a:stretch/>
        </p:blipFill>
        <p:spPr>
          <a:xfrm>
            <a:off x="108000" y="2305080"/>
            <a:ext cx="4464000" cy="334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C:\Users\fguilleux\Desktop\Photos Black berry\IMG00018-20101220-1507.jpg"/>
          <p:cNvPicPr/>
          <p:nvPr/>
        </p:nvPicPr>
        <p:blipFill>
          <a:blip r:embed="rId3"/>
          <a:stretch/>
        </p:blipFill>
        <p:spPr>
          <a:xfrm>
            <a:off x="4643280" y="2340000"/>
            <a:ext cx="4429440" cy="3321000"/>
          </a:xfrm>
          <a:prstGeom prst="rect">
            <a:avLst/>
          </a:prstGeom>
          <a:ln w="0">
            <a:noFill/>
          </a:ln>
        </p:spPr>
      </p:pic>
      <p:sp>
        <p:nvSpPr>
          <p:cNvPr id="174" name="Espace réservé du contenu 2"/>
          <p:cNvSpPr/>
          <p:nvPr/>
        </p:nvSpPr>
        <p:spPr>
          <a:xfrm>
            <a:off x="457200" y="1125360"/>
            <a:ext cx="822960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ttractivité et compétitivité de la Ville Nouvelle de Boughezo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Espace réservé du contenu 2"/>
          <p:cNvSpPr/>
          <p:nvPr/>
        </p:nvSpPr>
        <p:spPr>
          <a:xfrm>
            <a:off x="457200" y="602136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Ville des Energies Renouvelables : travaux sur un projet Smart Grid avec Capénerg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50"/>
          <p:cNvGrpSpPr/>
          <p:nvPr/>
        </p:nvGrpSpPr>
        <p:grpSpPr>
          <a:xfrm>
            <a:off x="178920" y="1628640"/>
            <a:ext cx="1513080" cy="719280"/>
            <a:chOff x="178920" y="1628640"/>
            <a:chExt cx="1513080" cy="719280"/>
          </a:xfrm>
        </p:grpSpPr>
        <p:sp>
          <p:nvSpPr>
            <p:cNvPr id="51" name="AutoShape 31"/>
            <p:cNvSpPr/>
            <p:nvPr/>
          </p:nvSpPr>
          <p:spPr>
            <a:xfrm flipH="1">
              <a:off x="178560" y="1628640"/>
              <a:ext cx="1513080" cy="719280"/>
            </a:xfrm>
            <a:prstGeom prst="flowChartAlternateProcess">
              <a:avLst/>
            </a:prstGeom>
            <a:solidFill>
              <a:srgbClr val="4f81bd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32"/>
            <p:cNvSpPr/>
            <p:nvPr/>
          </p:nvSpPr>
          <p:spPr>
            <a:xfrm>
              <a:off x="546480" y="1844640"/>
              <a:ext cx="81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alibri"/>
                </a:rPr>
                <a:t>Projet F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Group 51"/>
          <p:cNvGrpSpPr/>
          <p:nvPr/>
        </p:nvGrpSpPr>
        <p:grpSpPr>
          <a:xfrm>
            <a:off x="1979640" y="1628640"/>
            <a:ext cx="6913440" cy="857520"/>
            <a:chOff x="1979640" y="1628640"/>
            <a:chExt cx="6913440" cy="857520"/>
          </a:xfrm>
        </p:grpSpPr>
        <p:sp>
          <p:nvSpPr>
            <p:cNvPr id="54" name="AutoShape 36"/>
            <p:cNvSpPr/>
            <p:nvPr/>
          </p:nvSpPr>
          <p:spPr>
            <a:xfrm flipH="1">
              <a:off x="1979640" y="1628640"/>
              <a:ext cx="6913440" cy="719280"/>
            </a:xfrm>
            <a:prstGeom prst="flowChartAlternateProcess">
              <a:avLst/>
            </a:prstGeom>
            <a:solidFill>
              <a:srgbClr val="4f81bd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37"/>
            <p:cNvSpPr/>
            <p:nvPr/>
          </p:nvSpPr>
          <p:spPr>
            <a:xfrm>
              <a:off x="2124000" y="1844640"/>
              <a:ext cx="6551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Un programme de coopération bilatéral France (MAEE) – Algérie (MATE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La DATAR est l’opérateur du programme et s’appuie sur le TEAM pour mobiliser l’expertise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52"/>
          <p:cNvGrpSpPr/>
          <p:nvPr/>
        </p:nvGrpSpPr>
        <p:grpSpPr>
          <a:xfrm>
            <a:off x="125640" y="2470320"/>
            <a:ext cx="1672560" cy="718920"/>
            <a:chOff x="125640" y="2470320"/>
            <a:chExt cx="1672560" cy="718920"/>
          </a:xfrm>
        </p:grpSpPr>
        <p:sp>
          <p:nvSpPr>
            <p:cNvPr id="57" name="AutoShape 38"/>
            <p:cNvSpPr/>
            <p:nvPr/>
          </p:nvSpPr>
          <p:spPr>
            <a:xfrm flipH="1">
              <a:off x="178560" y="2470320"/>
              <a:ext cx="1513080" cy="718920"/>
            </a:xfrm>
            <a:prstGeom prst="flowChartAlternateProcess">
              <a:avLst/>
            </a:prstGeom>
            <a:solidFill>
              <a:srgbClr val="4f81bd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39"/>
            <p:cNvSpPr/>
            <p:nvPr/>
          </p:nvSpPr>
          <p:spPr>
            <a:xfrm>
              <a:off x="125640" y="2685960"/>
              <a:ext cx="167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alibri"/>
                </a:rPr>
                <a:t>Durée du projet/Budge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53"/>
          <p:cNvGrpSpPr/>
          <p:nvPr/>
        </p:nvGrpSpPr>
        <p:grpSpPr>
          <a:xfrm>
            <a:off x="1979640" y="2452680"/>
            <a:ext cx="6913440" cy="718920"/>
            <a:chOff x="1979640" y="2452680"/>
            <a:chExt cx="6913440" cy="718920"/>
          </a:xfrm>
        </p:grpSpPr>
        <p:sp>
          <p:nvSpPr>
            <p:cNvPr id="60" name="AutoShape 40"/>
            <p:cNvSpPr/>
            <p:nvPr/>
          </p:nvSpPr>
          <p:spPr>
            <a:xfrm flipH="1">
              <a:off x="1979640" y="2452680"/>
              <a:ext cx="6913440" cy="718920"/>
            </a:xfrm>
            <a:prstGeom prst="flowChartAlternateProcess">
              <a:avLst/>
            </a:prstGeom>
            <a:solidFill>
              <a:srgbClr val="4f81bd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41"/>
            <p:cNvSpPr/>
            <p:nvPr/>
          </p:nvSpPr>
          <p:spPr>
            <a:xfrm>
              <a:off x="2124000" y="2668320"/>
              <a:ext cx="655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Calibri"/>
                </a:rPr>
                <a:t>3 ans / 2 Millions d’euros</a:t>
              </a:r>
              <a:r>
                <a:rPr b="0" lang="fr-FR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54"/>
          <p:cNvGrpSpPr/>
          <p:nvPr/>
        </p:nvGrpSpPr>
        <p:grpSpPr>
          <a:xfrm>
            <a:off x="178920" y="3355920"/>
            <a:ext cx="1513080" cy="1657080"/>
            <a:chOff x="178920" y="3355920"/>
            <a:chExt cx="1513080" cy="1657080"/>
          </a:xfrm>
        </p:grpSpPr>
        <p:sp>
          <p:nvSpPr>
            <p:cNvPr id="63" name="AutoShape 42"/>
            <p:cNvSpPr/>
            <p:nvPr/>
          </p:nvSpPr>
          <p:spPr>
            <a:xfrm flipH="1">
              <a:off x="178560" y="3355920"/>
              <a:ext cx="1513080" cy="1657080"/>
            </a:xfrm>
            <a:prstGeom prst="flowChartAlternateProcess">
              <a:avLst/>
            </a:prstGeom>
            <a:solidFill>
              <a:srgbClr val="4f81bd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43"/>
            <p:cNvSpPr/>
            <p:nvPr/>
          </p:nvSpPr>
          <p:spPr>
            <a:xfrm>
              <a:off x="482400" y="4017960"/>
              <a:ext cx="97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alibri"/>
                </a:rPr>
                <a:t>Bénéficiaire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alibri"/>
                </a:rPr>
                <a:t>(50 cadres)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55"/>
          <p:cNvGrpSpPr/>
          <p:nvPr/>
        </p:nvGrpSpPr>
        <p:grpSpPr>
          <a:xfrm>
            <a:off x="1979640" y="3355920"/>
            <a:ext cx="6913440" cy="1657080"/>
            <a:chOff x="1979640" y="3355920"/>
            <a:chExt cx="6913440" cy="1657080"/>
          </a:xfrm>
        </p:grpSpPr>
        <p:sp>
          <p:nvSpPr>
            <p:cNvPr id="66" name="AutoShape 44"/>
            <p:cNvSpPr/>
            <p:nvPr/>
          </p:nvSpPr>
          <p:spPr>
            <a:xfrm flipH="1">
              <a:off x="1979640" y="3355920"/>
              <a:ext cx="6913440" cy="1657080"/>
            </a:xfrm>
            <a:prstGeom prst="flowChartAlternateProcess">
              <a:avLst/>
            </a:prstGeom>
            <a:solidFill>
              <a:srgbClr val="4f81bd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45"/>
            <p:cNvSpPr/>
            <p:nvPr/>
          </p:nvSpPr>
          <p:spPr>
            <a:xfrm>
              <a:off x="2124000" y="3411360"/>
              <a:ext cx="6551640" cy="14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ervices centraux du Ministère de l’Aménagement du Territoire, de l’Environnement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gence Nationale d’Aménagement du Territoire  (sous tutelle MATE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Établissements des villes nouvell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ervices régionaux (services déconcentrés des Wilayates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56"/>
          <p:cNvGrpSpPr/>
          <p:nvPr/>
        </p:nvGrpSpPr>
        <p:grpSpPr>
          <a:xfrm>
            <a:off x="178920" y="5229360"/>
            <a:ext cx="1513080" cy="1584360"/>
            <a:chOff x="178920" y="5229360"/>
            <a:chExt cx="1513080" cy="1584360"/>
          </a:xfrm>
        </p:grpSpPr>
        <p:sp>
          <p:nvSpPr>
            <p:cNvPr id="69" name="AutoShape 46"/>
            <p:cNvSpPr/>
            <p:nvPr/>
          </p:nvSpPr>
          <p:spPr>
            <a:xfrm flipH="1">
              <a:off x="178560" y="5229360"/>
              <a:ext cx="1513080" cy="1584360"/>
            </a:xfrm>
            <a:prstGeom prst="flowChartAlternateProcess">
              <a:avLst/>
            </a:prstGeom>
            <a:solidFill>
              <a:srgbClr val="4f81bd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ectangle 47"/>
            <p:cNvSpPr/>
            <p:nvPr/>
          </p:nvSpPr>
          <p:spPr>
            <a:xfrm>
              <a:off x="577080" y="5708880"/>
              <a:ext cx="825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alibri"/>
                </a:rPr>
                <a:t>Pilotage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alibri"/>
                </a:rPr>
                <a:t>du projet 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57"/>
          <p:cNvGrpSpPr/>
          <p:nvPr/>
        </p:nvGrpSpPr>
        <p:grpSpPr>
          <a:xfrm>
            <a:off x="1979640" y="5230800"/>
            <a:ext cx="6913440" cy="1582560"/>
            <a:chOff x="1979640" y="5230800"/>
            <a:chExt cx="6913440" cy="1582560"/>
          </a:xfrm>
        </p:grpSpPr>
        <p:sp>
          <p:nvSpPr>
            <p:cNvPr id="72" name="AutoShape 48"/>
            <p:cNvSpPr/>
            <p:nvPr/>
          </p:nvSpPr>
          <p:spPr>
            <a:xfrm flipH="1">
              <a:off x="1979640" y="5230800"/>
              <a:ext cx="6913440" cy="1582560"/>
            </a:xfrm>
            <a:prstGeom prst="flowChartAlternateProcess">
              <a:avLst/>
            </a:prstGeom>
            <a:solidFill>
              <a:srgbClr val="4f81bd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49"/>
            <p:cNvSpPr/>
            <p:nvPr/>
          </p:nvSpPr>
          <p:spPr>
            <a:xfrm>
              <a:off x="2124000" y="5286240"/>
              <a:ext cx="655164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Comité de pilotage :</a:t>
              </a:r>
              <a:r>
                <a:rPr b="0" lang="fr-FR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examine l’avancement et exécution du projet</a:t>
              </a:r>
              <a:r>
                <a:rPr b="0" lang="fr-FR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Comité technique de suivi :</a:t>
              </a:r>
              <a:r>
                <a:rPr b="0" lang="fr-FR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évalue le déroulement, suit la réalisation</a:t>
              </a:r>
              <a:r>
                <a:rPr b="0" lang="fr-FR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Cellule d’assistance technique d’animation et de suivi :</a:t>
              </a:r>
              <a:r>
                <a:rPr b="0" lang="fr-FR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imation du proj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Coordination du projet (formation et expertise) :</a:t>
              </a:r>
              <a:r>
                <a:rPr b="0" lang="fr-FR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IACT qui fait appel à son réseau d’experts publics et privé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" name=""/>
          <p:cNvSpPr txBox="1"/>
          <p:nvPr/>
        </p:nvSpPr>
        <p:spPr>
          <a:xfrm>
            <a:off x="663480" y="10792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De quoi parle-t-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1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b0f0"/>
                </a:solidFill>
                <a:latin typeface="Calibri"/>
              </a:rPr>
              <a:t>Un programme qui s’appuie sur le SNAT 2030 (Schéma national d’aménagement du territoire) voté  qui vise notamment à répondre 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Répondre aux déséquilibres de localisation de la population et des activités dans le territoire 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(concentration littoral méditerranée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Développement de l’attractivité des territoires Algériens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(Hauts plateaux, Boughezoul…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Préservation et de la valorisation du capital naturel et cultur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74760" y="100764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Objectifs du FS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oup 55"/>
          <p:cNvGrpSpPr/>
          <p:nvPr/>
        </p:nvGrpSpPr>
        <p:grpSpPr>
          <a:xfrm>
            <a:off x="755280" y="4233960"/>
            <a:ext cx="7705800" cy="574560"/>
            <a:chOff x="755280" y="4233960"/>
            <a:chExt cx="7705800" cy="574560"/>
          </a:xfrm>
        </p:grpSpPr>
        <p:sp>
          <p:nvSpPr>
            <p:cNvPr id="80" name="AutoShape 27"/>
            <p:cNvSpPr/>
            <p:nvPr/>
          </p:nvSpPr>
          <p:spPr>
            <a:xfrm flipH="1">
              <a:off x="754920" y="4233960"/>
              <a:ext cx="7705800" cy="574560"/>
            </a:xfrm>
            <a:prstGeom prst="flowChartAlternateProcess">
              <a:avLst/>
            </a:prstGeom>
            <a:solidFill>
              <a:srgbClr val="4f81bd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2988000" y="4378320"/>
              <a:ext cx="283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ransfert de compétenc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Group 50"/>
          <p:cNvGrpSpPr/>
          <p:nvPr/>
        </p:nvGrpSpPr>
        <p:grpSpPr>
          <a:xfrm>
            <a:off x="755280" y="4841640"/>
            <a:ext cx="1368360" cy="1945080"/>
            <a:chOff x="755280" y="4841640"/>
            <a:chExt cx="1368360" cy="1945080"/>
          </a:xfrm>
        </p:grpSpPr>
        <p:sp>
          <p:nvSpPr>
            <p:cNvPr id="83" name="AutoShape 25"/>
            <p:cNvSpPr/>
            <p:nvPr/>
          </p:nvSpPr>
          <p:spPr>
            <a:xfrm flipH="1">
              <a:off x="754920" y="4954680"/>
              <a:ext cx="1368360" cy="1832040"/>
            </a:xfrm>
            <a:prstGeom prst="flowChartAlternateProcess">
              <a:avLst/>
            </a:prstGeom>
            <a:solidFill>
              <a:srgbClr val="4f81bd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Rectangle 26"/>
            <p:cNvSpPr/>
            <p:nvPr/>
          </p:nvSpPr>
          <p:spPr>
            <a:xfrm>
              <a:off x="804600" y="5170680"/>
              <a:ext cx="131904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ctions de formation (IDETE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ous forme de séminaires thématique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AutoShape 41"/>
            <p:cNvSpPr/>
            <p:nvPr/>
          </p:nvSpPr>
          <p:spPr>
            <a:xfrm rot="10800000">
              <a:off x="1362960" y="4841640"/>
              <a:ext cx="215640" cy="144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51"/>
          <p:cNvGrpSpPr/>
          <p:nvPr/>
        </p:nvGrpSpPr>
        <p:grpSpPr>
          <a:xfrm>
            <a:off x="2211480" y="4849560"/>
            <a:ext cx="1441440" cy="1937160"/>
            <a:chOff x="2211480" y="4849560"/>
            <a:chExt cx="1441440" cy="1937160"/>
          </a:xfrm>
        </p:grpSpPr>
        <p:sp>
          <p:nvSpPr>
            <p:cNvPr id="87" name="AutoShape 30"/>
            <p:cNvSpPr/>
            <p:nvPr/>
          </p:nvSpPr>
          <p:spPr>
            <a:xfrm flipH="1">
              <a:off x="2211480" y="4954680"/>
              <a:ext cx="1441440" cy="1832040"/>
            </a:xfrm>
            <a:prstGeom prst="flowChartAlternateProcess">
              <a:avLst/>
            </a:prstGeom>
            <a:solidFill>
              <a:srgbClr val="4f81bd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31"/>
            <p:cNvSpPr/>
            <p:nvPr/>
          </p:nvSpPr>
          <p:spPr>
            <a:xfrm>
              <a:off x="2260800" y="5170680"/>
              <a:ext cx="1392120" cy="15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ctions d’Observation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(SIMOB)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ous forme de stage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AutoShape 42"/>
            <p:cNvSpPr/>
            <p:nvPr/>
          </p:nvSpPr>
          <p:spPr>
            <a:xfrm rot="10800000">
              <a:off x="2844720" y="4849560"/>
              <a:ext cx="215640" cy="144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52"/>
          <p:cNvGrpSpPr/>
          <p:nvPr/>
        </p:nvGrpSpPr>
        <p:grpSpPr>
          <a:xfrm>
            <a:off x="3765600" y="4849560"/>
            <a:ext cx="1511280" cy="2129760"/>
            <a:chOff x="3765600" y="4849560"/>
            <a:chExt cx="1511280" cy="2129760"/>
          </a:xfrm>
        </p:grpSpPr>
        <p:sp>
          <p:nvSpPr>
            <p:cNvPr id="91" name="AutoShape 32"/>
            <p:cNvSpPr/>
            <p:nvPr/>
          </p:nvSpPr>
          <p:spPr>
            <a:xfrm flipH="1">
              <a:off x="3765600" y="4954680"/>
              <a:ext cx="1511280" cy="1832040"/>
            </a:xfrm>
            <a:prstGeom prst="flowChartAlternateProcess">
              <a:avLst/>
            </a:prstGeom>
            <a:solidFill>
              <a:srgbClr val="4f81bd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33"/>
            <p:cNvSpPr/>
            <p:nvPr/>
          </p:nvSpPr>
          <p:spPr>
            <a:xfrm>
              <a:off x="3821400" y="5089680"/>
              <a:ext cx="1455480" cy="188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ctions de réalisations et d’applic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(AFAC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ous forme d’Ateliers Formation A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AutoShape 43"/>
            <p:cNvSpPr/>
            <p:nvPr/>
          </p:nvSpPr>
          <p:spPr>
            <a:xfrm rot="10800000">
              <a:off x="4413240" y="4849560"/>
              <a:ext cx="216000" cy="144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53"/>
          <p:cNvGrpSpPr/>
          <p:nvPr/>
        </p:nvGrpSpPr>
        <p:grpSpPr>
          <a:xfrm>
            <a:off x="5379840" y="4857480"/>
            <a:ext cx="1439640" cy="1929240"/>
            <a:chOff x="5379840" y="4857480"/>
            <a:chExt cx="1439640" cy="1929240"/>
          </a:xfrm>
        </p:grpSpPr>
        <p:sp>
          <p:nvSpPr>
            <p:cNvPr id="95" name="AutoShape 34"/>
            <p:cNvSpPr/>
            <p:nvPr/>
          </p:nvSpPr>
          <p:spPr>
            <a:xfrm flipH="1">
              <a:off x="5379480" y="4954680"/>
              <a:ext cx="1439640" cy="1832040"/>
            </a:xfrm>
            <a:prstGeom prst="flowChartAlternateProcess">
              <a:avLst/>
            </a:prstGeom>
            <a:solidFill>
              <a:srgbClr val="4f81bd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Rectangle 35"/>
            <p:cNvSpPr/>
            <p:nvPr/>
          </p:nvSpPr>
          <p:spPr>
            <a:xfrm>
              <a:off x="5451120" y="5097600"/>
              <a:ext cx="136836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ctions d’appui et de consei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ous forme d’expertise thématiqu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AutoShape 44"/>
            <p:cNvSpPr/>
            <p:nvPr/>
          </p:nvSpPr>
          <p:spPr>
            <a:xfrm rot="10800000">
              <a:off x="6011280" y="4857480"/>
              <a:ext cx="215640" cy="144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54"/>
          <p:cNvGrpSpPr/>
          <p:nvPr/>
        </p:nvGrpSpPr>
        <p:grpSpPr>
          <a:xfrm>
            <a:off x="6948000" y="4857480"/>
            <a:ext cx="1584360" cy="1929240"/>
            <a:chOff x="6948000" y="4857480"/>
            <a:chExt cx="1584360" cy="1929240"/>
          </a:xfrm>
        </p:grpSpPr>
        <p:sp>
          <p:nvSpPr>
            <p:cNvPr id="99" name="AutoShape 36"/>
            <p:cNvSpPr/>
            <p:nvPr/>
          </p:nvSpPr>
          <p:spPr>
            <a:xfrm flipH="1">
              <a:off x="6947640" y="4954680"/>
              <a:ext cx="1584360" cy="1832040"/>
            </a:xfrm>
            <a:prstGeom prst="flowChartAlternateProcess">
              <a:avLst/>
            </a:prstGeom>
            <a:solidFill>
              <a:srgbClr val="4f81bd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37"/>
            <p:cNvSpPr/>
            <p:nvPr/>
          </p:nvSpPr>
          <p:spPr>
            <a:xfrm>
              <a:off x="7091280" y="5097600"/>
              <a:ext cx="139212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ctions de valorisation 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ous forme de séminaires, observatoire, guides…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AutoShape 45"/>
            <p:cNvSpPr/>
            <p:nvPr/>
          </p:nvSpPr>
          <p:spPr>
            <a:xfrm rot="10800000">
              <a:off x="7635600" y="4857480"/>
              <a:ext cx="216000" cy="144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Group 70"/>
          <p:cNvGrpSpPr/>
          <p:nvPr/>
        </p:nvGrpSpPr>
        <p:grpSpPr>
          <a:xfrm>
            <a:off x="755280" y="1519200"/>
            <a:ext cx="7777080" cy="2552760"/>
            <a:chOff x="755280" y="1519200"/>
            <a:chExt cx="7777080" cy="2552760"/>
          </a:xfrm>
        </p:grpSpPr>
        <p:grpSp>
          <p:nvGrpSpPr>
            <p:cNvPr id="103" name="Group 66"/>
            <p:cNvGrpSpPr/>
            <p:nvPr/>
          </p:nvGrpSpPr>
          <p:grpSpPr>
            <a:xfrm>
              <a:off x="755280" y="1519200"/>
              <a:ext cx="7777080" cy="593280"/>
              <a:chOff x="755280" y="1519200"/>
              <a:chExt cx="7777080" cy="593280"/>
            </a:xfrm>
          </p:grpSpPr>
          <p:sp>
            <p:nvSpPr>
              <p:cNvPr id="104" name="AutoShape 48"/>
              <p:cNvSpPr/>
              <p:nvPr/>
            </p:nvSpPr>
            <p:spPr>
              <a:xfrm flipH="1">
                <a:off x="754920" y="1519200"/>
                <a:ext cx="7777080" cy="505080"/>
              </a:xfrm>
              <a:prstGeom prst="flowChartAlternateProcess">
                <a:avLst/>
              </a:prstGeom>
              <a:solidFill>
                <a:srgbClr val="4f81bd">
                  <a:alpha val="2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Rectangle 49"/>
              <p:cNvSpPr/>
              <p:nvPr/>
            </p:nvSpPr>
            <p:spPr>
              <a:xfrm>
                <a:off x="826920" y="1592280"/>
                <a:ext cx="7560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24"/>
                  </a:spcBef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 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Renforcement des connaissances sur les thématiques et métiers de l’ingénierie territoriale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Group 69"/>
            <p:cNvGrpSpPr/>
            <p:nvPr/>
          </p:nvGrpSpPr>
          <p:grpSpPr>
            <a:xfrm>
              <a:off x="755280" y="3328920"/>
              <a:ext cx="7777080" cy="743040"/>
              <a:chOff x="755280" y="3328920"/>
              <a:chExt cx="7777080" cy="743040"/>
            </a:xfrm>
          </p:grpSpPr>
          <p:sp>
            <p:nvSpPr>
              <p:cNvPr id="107" name="AutoShape 65"/>
              <p:cNvSpPr/>
              <p:nvPr/>
            </p:nvSpPr>
            <p:spPr>
              <a:xfrm flipH="1">
                <a:off x="754920" y="3328920"/>
                <a:ext cx="7777080" cy="729000"/>
              </a:xfrm>
              <a:prstGeom prst="flowChartAlternateProcess">
                <a:avLst/>
              </a:prstGeom>
              <a:solidFill>
                <a:srgbClr val="4f81bd">
                  <a:alpha val="2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Rectangle 56"/>
              <p:cNvSpPr/>
              <p:nvPr/>
            </p:nvSpPr>
            <p:spPr>
              <a:xfrm>
                <a:off x="826920" y="3338640"/>
                <a:ext cx="75607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24"/>
                  </a:spcBef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 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Renforcement du rôle de relais, de diffusion et de transfert des connaissances acquises à un éventail plus large d’acteurs et d’intervenants dans le domaine de l’aménagement et de la compétitivité du territoire.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Group 67"/>
            <p:cNvGrpSpPr/>
            <p:nvPr/>
          </p:nvGrpSpPr>
          <p:grpSpPr>
            <a:xfrm>
              <a:off x="755280" y="2048040"/>
              <a:ext cx="7777080" cy="649080"/>
              <a:chOff x="755280" y="2048040"/>
              <a:chExt cx="7777080" cy="649080"/>
            </a:xfrm>
          </p:grpSpPr>
          <p:sp>
            <p:nvSpPr>
              <p:cNvPr id="110" name="AutoShape 62"/>
              <p:cNvSpPr/>
              <p:nvPr/>
            </p:nvSpPr>
            <p:spPr>
              <a:xfrm flipH="1">
                <a:off x="754920" y="2048040"/>
                <a:ext cx="7777080" cy="649080"/>
              </a:xfrm>
              <a:prstGeom prst="flowChartAlternateProcess">
                <a:avLst/>
              </a:prstGeom>
              <a:solidFill>
                <a:srgbClr val="4f81bd">
                  <a:alpha val="2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Rectangle 57"/>
              <p:cNvSpPr/>
              <p:nvPr/>
            </p:nvSpPr>
            <p:spPr>
              <a:xfrm>
                <a:off x="826920" y="2121120"/>
                <a:ext cx="7560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24"/>
                  </a:spcBef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 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Mise en place d’outils méthodologiques et techniques , pour encadrer, animer et suivre les projets de territoire.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2" name="Group 68"/>
            <p:cNvGrpSpPr/>
            <p:nvPr/>
          </p:nvGrpSpPr>
          <p:grpSpPr>
            <a:xfrm>
              <a:off x="755280" y="2729160"/>
              <a:ext cx="7777080" cy="568080"/>
              <a:chOff x="755280" y="2729160"/>
              <a:chExt cx="7777080" cy="568080"/>
            </a:xfrm>
          </p:grpSpPr>
          <p:sp>
            <p:nvSpPr>
              <p:cNvPr id="113" name="AutoShape 64"/>
              <p:cNvSpPr/>
              <p:nvPr/>
            </p:nvSpPr>
            <p:spPr>
              <a:xfrm flipH="1">
                <a:off x="754920" y="2729160"/>
                <a:ext cx="7777080" cy="568080"/>
              </a:xfrm>
              <a:prstGeom prst="flowChartAlternateProcess">
                <a:avLst/>
              </a:prstGeom>
              <a:solidFill>
                <a:srgbClr val="4f81bd">
                  <a:alpha val="2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Rectangle 63"/>
              <p:cNvSpPr/>
              <p:nvPr/>
            </p:nvSpPr>
            <p:spPr>
              <a:xfrm>
                <a:off x="826920" y="2760840"/>
                <a:ext cx="7560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24"/>
                  </a:spcBef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 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Renforcement des capacités de définition des missions d’assistance technique à la maîtrise d’ouvrage pour différents projets d’aménagement.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15" name="Picture 11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9"/>
          <p:cNvSpPr/>
          <p:nvPr/>
        </p:nvSpPr>
        <p:spPr>
          <a:xfrm>
            <a:off x="0" y="981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5 thématiques abordées dans le projet FS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Groupe 59"/>
          <p:cNvGrpSpPr/>
          <p:nvPr/>
        </p:nvGrpSpPr>
        <p:grpSpPr>
          <a:xfrm>
            <a:off x="900000" y="1916280"/>
            <a:ext cx="7474320" cy="4298400"/>
            <a:chOff x="900000" y="1916280"/>
            <a:chExt cx="7474320" cy="4298400"/>
          </a:xfrm>
        </p:grpSpPr>
        <p:grpSp>
          <p:nvGrpSpPr>
            <p:cNvPr id="118" name="Group 156"/>
            <p:cNvGrpSpPr/>
            <p:nvPr/>
          </p:nvGrpSpPr>
          <p:grpSpPr>
            <a:xfrm>
              <a:off x="3503520" y="3240720"/>
              <a:ext cx="1650960" cy="1714320"/>
              <a:chOff x="3503520" y="3240720"/>
              <a:chExt cx="1650960" cy="1714320"/>
            </a:xfrm>
          </p:grpSpPr>
          <p:sp>
            <p:nvSpPr>
              <p:cNvPr id="119" name="Oval 155"/>
              <p:cNvSpPr/>
              <p:nvPr/>
            </p:nvSpPr>
            <p:spPr>
              <a:xfrm>
                <a:off x="3503520" y="3240720"/>
                <a:ext cx="1650960" cy="1714320"/>
              </a:xfrm>
              <a:prstGeom prst="ellipse">
                <a:avLst/>
              </a:prstGeom>
              <a:solidFill>
                <a:srgbClr val="4f81bd">
                  <a:alpha val="25000"/>
                </a:srgbClr>
              </a:solidFill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Text Box 154"/>
              <p:cNvSpPr/>
              <p:nvPr/>
            </p:nvSpPr>
            <p:spPr>
              <a:xfrm>
                <a:off x="3574080" y="3686400"/>
                <a:ext cx="154584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Projet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FSP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1" name="Group 182"/>
            <p:cNvGrpSpPr/>
            <p:nvPr/>
          </p:nvGrpSpPr>
          <p:grpSpPr>
            <a:xfrm>
              <a:off x="3130920" y="1916280"/>
              <a:ext cx="2434320" cy="1143360"/>
              <a:chOff x="3130920" y="1916280"/>
              <a:chExt cx="2434320" cy="1143360"/>
            </a:xfrm>
          </p:grpSpPr>
          <p:sp>
            <p:nvSpPr>
              <p:cNvPr id="122" name="AutoShape 161"/>
              <p:cNvSpPr/>
              <p:nvPr/>
            </p:nvSpPr>
            <p:spPr>
              <a:xfrm>
                <a:off x="3130920" y="1916280"/>
                <a:ext cx="2434320" cy="900720"/>
              </a:xfrm>
              <a:prstGeom prst="flowChartAlternateProcess">
                <a:avLst/>
              </a:prstGeom>
              <a:solidFill>
                <a:srgbClr val="4f81bd">
                  <a:alpha val="2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Rectangle 162"/>
              <p:cNvSpPr/>
              <p:nvPr/>
            </p:nvSpPr>
            <p:spPr>
              <a:xfrm>
                <a:off x="3626280" y="1977480"/>
                <a:ext cx="148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Observation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des territoire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AutoShape 172"/>
              <p:cNvSpPr/>
              <p:nvPr/>
            </p:nvSpPr>
            <p:spPr>
              <a:xfrm>
                <a:off x="4230360" y="2878920"/>
                <a:ext cx="251640" cy="1807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5" name="Group 178"/>
            <p:cNvGrpSpPr/>
            <p:nvPr/>
          </p:nvGrpSpPr>
          <p:grpSpPr>
            <a:xfrm>
              <a:off x="5308560" y="3420000"/>
              <a:ext cx="3065760" cy="902160"/>
              <a:chOff x="5308560" y="3420000"/>
              <a:chExt cx="3065760" cy="902160"/>
            </a:xfrm>
          </p:grpSpPr>
          <p:grpSp>
            <p:nvGrpSpPr>
              <p:cNvPr id="126" name="Group 169"/>
              <p:cNvGrpSpPr/>
              <p:nvPr/>
            </p:nvGrpSpPr>
            <p:grpSpPr>
              <a:xfrm>
                <a:off x="5602680" y="3420000"/>
                <a:ext cx="2771640" cy="902160"/>
                <a:chOff x="5602680" y="3420000"/>
                <a:chExt cx="2771640" cy="902160"/>
              </a:xfrm>
            </p:grpSpPr>
            <p:sp>
              <p:nvSpPr>
                <p:cNvPr id="127" name="AutoShape 158"/>
                <p:cNvSpPr/>
                <p:nvPr/>
              </p:nvSpPr>
              <p:spPr>
                <a:xfrm>
                  <a:off x="5602680" y="3420000"/>
                  <a:ext cx="2771640" cy="902160"/>
                </a:xfrm>
                <a:prstGeom prst="flowChartAlternateProcess">
                  <a:avLst/>
                </a:prstGeom>
                <a:solidFill>
                  <a:srgbClr val="4f81bd">
                    <a:alpha val="2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" name="Rectangle 159"/>
                <p:cNvSpPr/>
                <p:nvPr/>
              </p:nvSpPr>
              <p:spPr>
                <a:xfrm>
                  <a:off x="5755320" y="3511440"/>
                  <a:ext cx="24897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alibri"/>
                    </a:rPr>
                    <a:t>Diagnostics stratégiques 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alibri"/>
                    </a:rPr>
                    <a:t>de territoi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29" name="AutoShape 173"/>
              <p:cNvSpPr/>
              <p:nvPr/>
            </p:nvSpPr>
            <p:spPr>
              <a:xfrm rot="5400000">
                <a:off x="5257440" y="3808800"/>
                <a:ext cx="270360" cy="1684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0" name="Group 179"/>
            <p:cNvGrpSpPr/>
            <p:nvPr/>
          </p:nvGrpSpPr>
          <p:grpSpPr>
            <a:xfrm>
              <a:off x="4861440" y="4668480"/>
              <a:ext cx="2873520" cy="1546200"/>
              <a:chOff x="4861440" y="4668480"/>
              <a:chExt cx="2873520" cy="1546200"/>
            </a:xfrm>
          </p:grpSpPr>
          <p:grpSp>
            <p:nvGrpSpPr>
              <p:cNvPr id="131" name="Group 170"/>
              <p:cNvGrpSpPr/>
              <p:nvPr/>
            </p:nvGrpSpPr>
            <p:grpSpPr>
              <a:xfrm>
                <a:off x="4880880" y="5135040"/>
                <a:ext cx="2854080" cy="1079640"/>
                <a:chOff x="4880880" y="5135040"/>
                <a:chExt cx="2854080" cy="1079640"/>
              </a:xfrm>
            </p:grpSpPr>
            <p:sp>
              <p:nvSpPr>
                <p:cNvPr id="132" name="AutoShape 164"/>
                <p:cNvSpPr/>
                <p:nvPr/>
              </p:nvSpPr>
              <p:spPr>
                <a:xfrm>
                  <a:off x="4880880" y="5135040"/>
                  <a:ext cx="2854080" cy="1079640"/>
                </a:xfrm>
                <a:prstGeom prst="flowChartAlternateProcess">
                  <a:avLst/>
                </a:prstGeom>
                <a:solidFill>
                  <a:srgbClr val="4f81bd">
                    <a:alpha val="2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Rectangle 165"/>
                <p:cNvSpPr/>
                <p:nvPr/>
              </p:nvSpPr>
              <p:spPr>
                <a:xfrm>
                  <a:off x="4930560" y="5135040"/>
                  <a:ext cx="277092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alibri"/>
                    </a:rPr>
                    <a:t>Conduite de projet 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alibri"/>
                    </a:rPr>
                    <a:t>et assistance à la maîtrise d’ouvrag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4" name="AutoShape 174"/>
              <p:cNvSpPr/>
              <p:nvPr/>
            </p:nvSpPr>
            <p:spPr>
              <a:xfrm rot="8263200">
                <a:off x="4889520" y="4729320"/>
                <a:ext cx="251640" cy="1807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5" name="Group 180"/>
            <p:cNvGrpSpPr/>
            <p:nvPr/>
          </p:nvGrpSpPr>
          <p:grpSpPr>
            <a:xfrm>
              <a:off x="1320120" y="4770000"/>
              <a:ext cx="2631240" cy="1444680"/>
              <a:chOff x="1320120" y="4770000"/>
              <a:chExt cx="2631240" cy="1444680"/>
            </a:xfrm>
          </p:grpSpPr>
          <p:grpSp>
            <p:nvGrpSpPr>
              <p:cNvPr id="136" name="Group 171"/>
              <p:cNvGrpSpPr/>
              <p:nvPr/>
            </p:nvGrpSpPr>
            <p:grpSpPr>
              <a:xfrm>
                <a:off x="1320120" y="5135040"/>
                <a:ext cx="2602440" cy="1079640"/>
                <a:chOff x="1320120" y="5135040"/>
                <a:chExt cx="2602440" cy="1079640"/>
              </a:xfrm>
            </p:grpSpPr>
            <p:sp>
              <p:nvSpPr>
                <p:cNvPr id="137" name="AutoShape 166"/>
                <p:cNvSpPr/>
                <p:nvPr/>
              </p:nvSpPr>
              <p:spPr>
                <a:xfrm>
                  <a:off x="1320120" y="5135040"/>
                  <a:ext cx="2602440" cy="1079640"/>
                </a:xfrm>
                <a:prstGeom prst="flowChartAlternateProcess">
                  <a:avLst/>
                </a:prstGeom>
                <a:solidFill>
                  <a:srgbClr val="4f81bd">
                    <a:alpha val="2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" name="Rectangle 167"/>
                <p:cNvSpPr/>
                <p:nvPr/>
              </p:nvSpPr>
              <p:spPr>
                <a:xfrm>
                  <a:off x="1565640" y="5151240"/>
                  <a:ext cx="22366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alibri"/>
                    </a:rPr>
                    <a:t>Évaluation 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alibri"/>
                    </a:rPr>
                    <a:t>(politiques publiques, 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alibri"/>
                    </a:rPr>
                    <a:t>dispositifs, actions) 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9" name="AutoShape 175"/>
              <p:cNvSpPr/>
              <p:nvPr/>
            </p:nvSpPr>
            <p:spPr>
              <a:xfrm rot="12821400">
                <a:off x="3670560" y="4824360"/>
                <a:ext cx="251640" cy="1807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0" name="Group 181"/>
            <p:cNvGrpSpPr/>
            <p:nvPr/>
          </p:nvGrpSpPr>
          <p:grpSpPr>
            <a:xfrm>
              <a:off x="900000" y="3330720"/>
              <a:ext cx="2489760" cy="991800"/>
              <a:chOff x="900000" y="3330720"/>
              <a:chExt cx="2489760" cy="991800"/>
            </a:xfrm>
          </p:grpSpPr>
          <p:grpSp>
            <p:nvGrpSpPr>
              <p:cNvPr id="141" name="Group 168"/>
              <p:cNvGrpSpPr/>
              <p:nvPr/>
            </p:nvGrpSpPr>
            <p:grpSpPr>
              <a:xfrm>
                <a:off x="900000" y="3330720"/>
                <a:ext cx="2099160" cy="991800"/>
                <a:chOff x="900000" y="3330720"/>
                <a:chExt cx="2099160" cy="991800"/>
              </a:xfrm>
            </p:grpSpPr>
            <p:sp>
              <p:nvSpPr>
                <p:cNvPr id="142" name="AutoShape 14"/>
                <p:cNvSpPr/>
                <p:nvPr/>
              </p:nvSpPr>
              <p:spPr>
                <a:xfrm>
                  <a:off x="900000" y="3330720"/>
                  <a:ext cx="2099160" cy="991800"/>
                </a:xfrm>
                <a:prstGeom prst="flowChartAlternateProcess">
                  <a:avLst/>
                </a:prstGeom>
                <a:solidFill>
                  <a:srgbClr val="4f81bd">
                    <a:alpha val="4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Rectangle 12"/>
                <p:cNvSpPr/>
                <p:nvPr/>
              </p:nvSpPr>
              <p:spPr>
                <a:xfrm>
                  <a:off x="1210680" y="3481560"/>
                  <a:ext cx="1494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alibri"/>
                    </a:rPr>
                    <a:t>Compétitivité 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alibri"/>
                    </a:rPr>
                    <a:t>des territoire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4" name="AutoShape 176"/>
              <p:cNvSpPr/>
              <p:nvPr/>
            </p:nvSpPr>
            <p:spPr>
              <a:xfrm rot="16200000">
                <a:off x="3170520" y="3818880"/>
                <a:ext cx="270360" cy="1681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45" name="Picture 1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ôle du Technopôle de l’Environnement Arbois-Méditerran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n lien avec la DATAR : identification, mobilisation et encadrement des experts frança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uivi les relations avec les experts et les instances de gestion du projet pour la préparation et la réalisation des action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éfinition et adaptation des notes pédagogiques et d’animation des séminaires et st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ux côtés de la cellule de coordination du programme : élaboration des cahiers des charges des différents séminair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éfini le séminaire IDETE relatif à la compétitivité des territo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ilote de l’axe 1 « Compétitivité des territoires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1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961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X:\ARBOIS\logo arbois\Arbois méditerranée\LOGO TECH-ENVIR-ARBOIS-MED1.jpg"/>
          <p:cNvPicPr/>
          <p:nvPr/>
        </p:nvPicPr>
        <p:blipFill>
          <a:blip r:embed="rId2"/>
          <a:stretch/>
        </p:blipFill>
        <p:spPr>
          <a:xfrm>
            <a:off x="2195640" y="6019920"/>
            <a:ext cx="460512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Focus sur l’ax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« Développer la compétitivité des territoires 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Formation de 55 cadres du MATE en Algérie avec Méditerranée Technologies : sensibilisation aux enjeux de la compétitivité des territoires (tronc commun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Sélection de 10 bénéficiaires et organisation d’un stage d’immersion permettant de creuser les notions de : Zone d’activité, Technopôles, Pôles de compétitivité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Réalisation d’un atelier de formation à l’ingénierie territoriale sur le Territoire de Boughezoul : projet de Ville nouvelle développée autour des EN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7" descr="X:\ARBOIS\logo arbois\Arbois méditerranée\LOGO TECH-ENVIR-ARBOIS-MED1.jpg"/>
          <p:cNvPicPr/>
          <p:nvPr/>
        </p:nvPicPr>
        <p:blipFill>
          <a:blip r:embed="rId1"/>
          <a:stretch/>
        </p:blipFill>
        <p:spPr>
          <a:xfrm>
            <a:off x="2195640" y="6019920"/>
            <a:ext cx="4605120" cy="649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153" name="Espace réservé du contenu 2"/>
          <p:cNvSpPr/>
          <p:nvPr/>
        </p:nvSpPr>
        <p:spPr>
          <a:xfrm>
            <a:off x="457200" y="1125360"/>
            <a:ext cx="822960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Organisation d’un stage d’immersion de 10 cadres permettant de creuser les notions de : Zone d’activité, Technopôles, Pôles de compétitivi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ce réservé du contenu 2"/>
          <p:cNvSpPr/>
          <p:nvPr/>
        </p:nvSpPr>
        <p:spPr>
          <a:xfrm>
            <a:off x="457200" y="602136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Stage d’immersion et d’observation : Compétitivité des territoi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fguilleux\AppData\Local\Microsoft\Windows\Temporary Internet Files\Content.Outlook\J6J37UI3\photos carine 160.jpg"/>
          <p:cNvPicPr/>
          <p:nvPr/>
        </p:nvPicPr>
        <p:blipFill>
          <a:blip r:embed="rId2"/>
          <a:stretch/>
        </p:blipFill>
        <p:spPr>
          <a:xfrm>
            <a:off x="336600" y="2708280"/>
            <a:ext cx="4091040" cy="3070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Users\fguilleux\AppData\Local\Microsoft\Windows\Temporary Internet Files\Content.Outlook\J6J37UI3\photos carine 155.jpg"/>
          <p:cNvPicPr/>
          <p:nvPr/>
        </p:nvPicPr>
        <p:blipFill>
          <a:blip r:embed="rId3"/>
          <a:stretch/>
        </p:blipFill>
        <p:spPr>
          <a:xfrm>
            <a:off x="4716360" y="2708280"/>
            <a:ext cx="409104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23640" y="907560"/>
            <a:ext cx="856908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ocus sur l’ax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Développer la compétitivité des territoire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alisation d’un atelier de formation à l’ingénierie territoriale sur le Territoire de Boughezoul : projet de Ville nouvelle développée autour des EN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61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http://static.panoramio.com/photos/original/16679095.jpg"/>
          <p:cNvPicPr/>
          <p:nvPr/>
        </p:nvPicPr>
        <p:blipFill>
          <a:blip r:embed="rId2"/>
          <a:stretch/>
        </p:blipFill>
        <p:spPr>
          <a:xfrm>
            <a:off x="1835280" y="2984400"/>
            <a:ext cx="554508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0:50:01Z</dcterms:created>
  <dc:creator>fguilleux</dc:creator>
  <dc:description/>
  <dc:language>en-US</dc:language>
  <cp:lastModifiedBy>Lotfi</cp:lastModifiedBy>
  <dcterms:modified xsi:type="dcterms:W3CDTF">2011-03-15T13:51:29Z</dcterms:modified>
  <cp:revision>17</cp:revision>
  <dc:subject/>
  <dc:title>Fonds de Solidarité Prioritaire Appui institutionnel à la mise en œuvre de la politique d’Aménagement et de Développement Durable du Territoire en Algérie</dc:title>
</cp:coreProperties>
</file>