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C3236-A49F-4686-9EF7-45ACF186D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DAE2B-518C-4301-AA7F-9E982B6CC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698D0-78B3-45BF-A0C3-14B88BB77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2EAF7-26DF-449C-B6B7-B5B1B061F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EA73BA-0F35-4742-A692-85DCA9F655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9D9941-4553-4869-8D5B-BA5992695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B145B4-7BD2-4996-B64C-392697B63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14210-E837-4466-84E1-8D0E3BEA4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2AEFF-F802-40F8-8999-C91AC1F92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E9731-E9AD-4A54-ABA8-C3E3618C3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BCEA7-ED8D-4C61-B7A1-03989958F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FBA29-7179-47CA-9C47-9B29FBC2F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B5346-3280-4347-854C-49A511027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87ED1-ED41-4A16-9BDB-F80DBE334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41D249-9907-4781-848F-53264CF7B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6DE234-4508-4339-83BA-BE3626FC8C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56E29A-D450-4C92-9C1B-1B5D264495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A8858B-4429-41A7-A64D-CC39802D36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F21620-5570-4978-8185-F27F18B532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ABAF3F-1172-42F3-A57A-C4DB3F595A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4EF8CA-D2F8-45F5-935F-E7A6977C78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0237D6-94B8-4C4B-9CB1-C71FE6A6CA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4E25D-4460-4FC4-AAE2-1BD2A9D61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30D25C-24B5-460B-A0D6-4DE8D02F12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A50B3F-4776-4DC4-BA2F-A2D38F9A9C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7F9F12-BCFE-4066-9FAE-255AB220DE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9D5135-2599-4F52-BA4D-509E66503B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A00778-A5D3-4786-A896-A91478A891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A2994A-7E63-46F2-AC4E-27DD492884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560667-CC62-4E7B-8368-6F5BBA5E0E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FF06B6-10B3-40B3-AFEA-D0DDE0E909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DCAF12-C01A-4B23-B421-A74E1E484F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4D761C-F44C-4506-BBCF-EA232FFAF0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24529-29E2-464F-BADF-95C93251A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C40713-91FB-46F9-8392-989B613B33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0AD54E-4494-4924-BC58-FB5CDAE5A1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8E86C1-91CC-438E-ADB2-AFFEB8146D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F51A5E-A0FF-4A04-A401-D36EFAE354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9C2916-FA73-4B93-97F2-40A64CCE72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03DFC8-D9FE-426C-ACB7-8EED70F774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358275-6823-41C1-B1DC-6FB432D7F1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8C037B-EA60-4BE9-A300-00E26BEAD2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DFBBA2-8775-4198-829F-9DF22C8D6A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8FB56-FDF0-4018-8D16-98BE3470D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874A1-A797-4271-9D88-27B281140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E4614-90DC-4D5B-A8AA-04B1A5699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B689C-F776-4306-9318-47A1E8051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BF977-30FD-4E40-B145-069342709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Verdan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Verdan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393DA-4710-4392-8075-161A56398CD4}"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Verdan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Verdan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7FC68-72D3-46F6-9364-49113F516E45}" type="slidenum">
              <a:rPr b="0" lang="en-US" sz="1200" spc="-1" strike="noStrike">
                <a:solidFill>
                  <a:srgbClr val="d1eaee"/>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Verdan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Verdan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76E8B-A0EC-48CF-80BB-BA6CABA4F1D4}" type="slidenum">
              <a:rPr b="0" lang="en-US" sz="1200" spc="-1" strike="noStrike">
                <a:solidFill>
                  <a:srgbClr val="d1eaee"/>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Verdan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Verdan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2C4B7-9FFD-4A37-B74A-B145A5278D02}"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Responsibility Driven Design (RDD)</a:t>
            </a:r>
            <a:endParaRPr b="0" lang="en-US" sz="3400" spc="-1" strike="noStrike">
              <a:solidFill>
                <a:srgbClr val="04617b"/>
              </a:solidFill>
              <a:latin typeface="Calibri"/>
            </a:endParaRPr>
          </a:p>
        </p:txBody>
      </p:sp>
      <p:sp>
        <p:nvSpPr>
          <p:cNvPr id="19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eveloped as Rebecca Wirfs-Brock</a:t>
            </a:r>
            <a:endParaRPr b="0" lang="en-US" sz="21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One of object-oriented design techniques, driven by an emphasis on behavior at all levels of development</a:t>
            </a:r>
            <a:endParaRPr b="0" lang="en-US" sz="21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 design technique that has the following properties: </a:t>
            </a:r>
            <a:endParaRPr b="0" lang="en-US" sz="21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an deal with ambiguous and incomplete specifications</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aturally flows from Analysis to Solution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asily integrates with various aspects of software developmen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Software Components</a:t>
            </a:r>
            <a:endParaRPr b="0" lang="en-US" sz="34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software </a:t>
            </a:r>
            <a:r>
              <a:rPr b="0" i="1" lang="en-US" sz="2600" spc="-1" strike="noStrike">
                <a:solidFill>
                  <a:srgbClr val="000000"/>
                </a:solidFill>
                <a:latin typeface="Constantia"/>
              </a:rPr>
              <a:t>component</a:t>
            </a:r>
            <a:r>
              <a:rPr b="0" lang="en-US" sz="2600" spc="-1" strike="noStrike">
                <a:solidFill>
                  <a:srgbClr val="000000"/>
                </a:solidFill>
                <a:latin typeface="Constantia"/>
              </a:rPr>
              <a:t> is simply an abstract design entity with which we can associate responsibilities for different task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y eventually be turned into a class, a function, a module, or something else</a:t>
            </a:r>
            <a:endParaRPr b="0" lang="en-US" sz="26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 component must have a small well defined set of responsibilities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 component should interact with other components to the minimal extent possible </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8953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CRC (Component, Responsibility, Collaborator) Cards</a:t>
            </a:r>
            <a:endParaRPr b="0" lang="en-US" sz="2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ponents are most easily described using CRC card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CRC card records the name, responsibilities, and collaborators of an component</a:t>
            </a:r>
            <a:endParaRPr b="0" lang="en-US" sz="24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expensive, Erasable, Physica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18" name="Picture 5" descr="slide13"/>
          <p:cNvPicPr/>
          <p:nvPr/>
        </p:nvPicPr>
        <p:blipFill>
          <a:blip r:embed="rId1"/>
          <a:stretch/>
        </p:blipFill>
        <p:spPr>
          <a:xfrm>
            <a:off x="4876920" y="3809880"/>
            <a:ext cx="3809880" cy="254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The first component, The Greeter</a:t>
            </a:r>
            <a:endParaRPr b="0" lang="en-US" sz="34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Let us return to the development of the IIKH. The first component your team defines is the Greeter</a:t>
            </a:r>
            <a:endParaRPr b="0" lang="en-US" sz="2100" spc="-1" strike="noStrike">
              <a:solidFill>
                <a:srgbClr val="000000"/>
              </a:solidFill>
              <a:latin typeface="Constantia"/>
            </a:endParaRPr>
          </a:p>
          <a:p>
            <a:pPr marL="272880" indent="-272880">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marL="272880" indent="-272880">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When the application is started, the Greeter puts an informative and friendly welcome window (the greeting) on the screen </a:t>
            </a:r>
            <a:endParaRPr b="0" lang="en-US" sz="21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ffer the user the choice of several different actions </a:t>
            </a:r>
            <a:endParaRPr b="0" lang="en-US" sz="2000" spc="-1" strike="noStrike">
              <a:solidFill>
                <a:srgbClr val="000000"/>
              </a:solidFill>
              <a:latin typeface="Constantia"/>
            </a:endParaRPr>
          </a:p>
          <a:p>
            <a:pPr lvl="2" marL="914400" indent="-24624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Casually browse the database of recipes </a:t>
            </a:r>
            <a:endParaRPr b="0" lang="en-US" sz="1700" spc="-1" strike="noStrike">
              <a:solidFill>
                <a:srgbClr val="000000"/>
              </a:solidFill>
              <a:latin typeface="Constantia"/>
            </a:endParaRPr>
          </a:p>
          <a:p>
            <a:pPr lvl="2" marL="914400" indent="-24624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Add a new recipe </a:t>
            </a:r>
            <a:endParaRPr b="0" lang="en-US" sz="1700" spc="-1" strike="noStrike">
              <a:solidFill>
                <a:srgbClr val="000000"/>
              </a:solidFill>
              <a:latin typeface="Constantia"/>
            </a:endParaRPr>
          </a:p>
          <a:p>
            <a:pPr lvl="2" marL="914400" indent="-24624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Edit or annotate a recipe </a:t>
            </a:r>
            <a:endParaRPr b="0" lang="en-US" sz="1700" spc="-1" strike="noStrike">
              <a:solidFill>
                <a:srgbClr val="000000"/>
              </a:solidFill>
              <a:latin typeface="Constantia"/>
            </a:endParaRPr>
          </a:p>
          <a:p>
            <a:pPr lvl="2" marL="914400" indent="-24624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Review a plan for several meals </a:t>
            </a:r>
            <a:endParaRPr b="0" lang="en-US" sz="1700" spc="-1" strike="noStrike">
              <a:solidFill>
                <a:srgbClr val="000000"/>
              </a:solidFill>
              <a:latin typeface="Constantia"/>
            </a:endParaRPr>
          </a:p>
          <a:p>
            <a:pPr lvl="2" marL="914400" indent="-24624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Create a plan of meals </a:t>
            </a:r>
            <a:endParaRPr b="0" lang="en-US" sz="17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Many of the details concerning exactly how this is to be done can be ignored for the moment </a:t>
            </a:r>
            <a:endParaRPr b="0" lang="en-US" sz="2100" spc="-1" strike="noStrike">
              <a:solidFill>
                <a:srgbClr val="000000"/>
              </a:solidFill>
              <a:latin typeface="Constantia"/>
            </a:endParaRPr>
          </a:p>
          <a:p>
            <a:pPr marL="272880" indent="-272880">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Greeter</a:t>
            </a:r>
            <a:endParaRPr b="0" lang="en-US" sz="4500" spc="-1" strike="noStrike">
              <a:solidFill>
                <a:srgbClr val="04617b"/>
              </a:solidFill>
              <a:latin typeface="Calibri"/>
            </a:endParaRPr>
          </a:p>
        </p:txBody>
      </p:sp>
      <p:pic>
        <p:nvPicPr>
          <p:cNvPr id="222" name="Picture 4" descr="slide14"/>
          <p:cNvPicPr/>
          <p:nvPr/>
        </p:nvPicPr>
        <p:blipFill>
          <a:blip r:embed="rId1"/>
          <a:stretch/>
        </p:blipFill>
        <p:spPr>
          <a:xfrm>
            <a:off x="1676520" y="1909800"/>
            <a:ext cx="5167080" cy="345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880"/>
            <a:ext cx="8229600" cy="590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The Recipe Database Component</a:t>
            </a:r>
            <a:endParaRPr b="0" lang="en-US" sz="34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gnoring the planning of meals for the moment, your team elects to next explore the recipe database component </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st maintain the database of recipes </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st allow the user to browse the database </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st permit the user to edit or annotate an existing recipe </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st permit the user to add a new recipe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914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The Who/What Cycle</a:t>
            </a:r>
            <a:endParaRPr b="0" lang="en-US" sz="34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s we walk through scenarios, we go through cycles of identifying a what, followed by a who </a:t>
            </a:r>
            <a:endParaRPr b="0" lang="en-US" sz="21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What</a:t>
            </a:r>
            <a:r>
              <a:rPr b="0" lang="en-US" sz="2000" spc="-1" strike="noStrike">
                <a:solidFill>
                  <a:srgbClr val="000000"/>
                </a:solidFill>
                <a:latin typeface="Constantia"/>
              </a:rPr>
              <a:t> action needs to be performed at this moment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Who</a:t>
            </a:r>
            <a:r>
              <a:rPr b="0" lang="en-US" sz="2000" spc="-1" strike="noStrike">
                <a:solidFill>
                  <a:srgbClr val="000000"/>
                </a:solidFill>
                <a:latin typeface="Constantia"/>
              </a:rPr>
              <a:t> is the component charged with performing the action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very </a:t>
            </a:r>
            <a:r>
              <a:rPr b="0" i="1" lang="en-US" sz="2100" spc="-1" strike="noStrike">
                <a:solidFill>
                  <a:srgbClr val="000000"/>
                </a:solidFill>
                <a:latin typeface="Constantia"/>
              </a:rPr>
              <a:t>what</a:t>
            </a:r>
            <a:r>
              <a:rPr b="0" lang="en-US" sz="2100" spc="-1" strike="noStrike">
                <a:solidFill>
                  <a:srgbClr val="000000"/>
                </a:solidFill>
                <a:latin typeface="Constantia"/>
              </a:rPr>
              <a:t> must have a </a:t>
            </a:r>
            <a:r>
              <a:rPr b="0" i="1" lang="en-US" sz="2100" spc="-1" strike="noStrike">
                <a:solidFill>
                  <a:srgbClr val="000000"/>
                </a:solidFill>
                <a:latin typeface="Constantia"/>
              </a:rPr>
              <a:t>who</a:t>
            </a:r>
            <a:r>
              <a:rPr b="0" lang="en-US" sz="2100" spc="-1" strike="noStrike">
                <a:solidFill>
                  <a:srgbClr val="000000"/>
                </a:solidFill>
                <a:latin typeface="Constantia"/>
              </a:rPr>
              <a:t>, otherwise it simply will not happen</a:t>
            </a:r>
            <a:endParaRPr b="0" lang="en-US" sz="21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ometimes the </a:t>
            </a:r>
            <a:r>
              <a:rPr b="0" i="1" lang="en-US" sz="2100" spc="-1" strike="noStrike">
                <a:solidFill>
                  <a:srgbClr val="000000"/>
                </a:solidFill>
                <a:latin typeface="Constantia"/>
              </a:rPr>
              <a:t>who</a:t>
            </a:r>
            <a:r>
              <a:rPr b="0" lang="en-US" sz="2100" spc="-1" strike="noStrike">
                <a:solidFill>
                  <a:srgbClr val="000000"/>
                </a:solidFill>
                <a:latin typeface="Constantia"/>
              </a:rPr>
              <a:t> might not be obvious at first, i.e., who should be in charge of editing a recipe? </a:t>
            </a:r>
            <a:endParaRPr b="0" lang="en-US" sz="21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Postponing Decisions</a:t>
            </a:r>
            <a:endParaRPr b="0" lang="en-US" sz="34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Many decisions, such as the method of browsing, can be ignored for the moment, as they are entirely encapsulated within the recipe database component, and do not effect other components</a:t>
            </a:r>
            <a:endParaRPr b="0" lang="en-US" sz="21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croll bars and windows?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virtual “book'' with thumb-holes and flipping pages?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Keywords and phrases? </a:t>
            </a:r>
            <a:endParaRPr b="0" lang="en-US" sz="2000" spc="-1" strike="noStrike">
              <a:solidFill>
                <a:srgbClr val="000000"/>
              </a:solidFill>
              <a:latin typeface="Constanti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Only need to note that somehow the user can manipulate the database to select a specific recipe </a:t>
            </a:r>
            <a:endParaRPr b="0" lang="en-US" sz="21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Responsibilities of a Recipe</a:t>
            </a:r>
            <a:endParaRPr b="0" lang="en-US" sz="3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We make the recipe itself into an active data structure. It maintains information, but also performs tasks </a:t>
            </a:r>
            <a:endParaRPr b="0" lang="en-US" sz="21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intains the list of ingredients and transformation algorithm (i.e., ingredients to final product)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ust know how to edit these data values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ust know how to interactively display itself on the output device</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ust know how to print itself</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We will add other actions later (ability to scale itself, produce integrate ingredients into a grocery list, and so on) </a:t>
            </a:r>
            <a:endParaRPr b="0" lang="en-US" sz="21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819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The Planner Component</a:t>
            </a:r>
            <a:endParaRPr b="0" lang="en-US" sz="34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turning to the greeter, we start a different scenario. This leads to the description of the </a:t>
            </a:r>
            <a:r>
              <a:rPr b="0" i="1" lang="en-US" sz="2600" spc="-1" strike="noStrike">
                <a:solidFill>
                  <a:srgbClr val="000000"/>
                </a:solidFill>
                <a:latin typeface="Constantia"/>
              </a:rPr>
              <a:t>Planner</a:t>
            </a:r>
            <a:r>
              <a:rPr b="0" lang="en-US" sz="2600" spc="-1" strike="noStrike">
                <a:solidFill>
                  <a:srgbClr val="000000"/>
                </a:solidFill>
                <a:latin typeface="Constantia"/>
              </a:rPr>
              <a:t>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ermits the user to select a sequence of dates for planning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ermits the user to edit an existing plan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ssociates with </a:t>
            </a:r>
            <a:r>
              <a:rPr b="0" i="1" lang="en-US" sz="2400" spc="-1" strike="noStrike">
                <a:solidFill>
                  <a:srgbClr val="000000"/>
                </a:solidFill>
                <a:latin typeface="Constantia"/>
              </a:rPr>
              <a:t>Date</a:t>
            </a:r>
            <a:r>
              <a:rPr b="0" lang="en-US" sz="2400" spc="-1" strike="noStrike">
                <a:solidFill>
                  <a:srgbClr val="000000"/>
                </a:solidFill>
                <a:latin typeface="Constantia"/>
              </a:rPr>
              <a:t> object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The Date Component</a:t>
            </a:r>
            <a:endParaRPr b="0" lang="en-US" sz="34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a:t>
            </a:r>
            <a:r>
              <a:rPr b="0" i="1" lang="en-US" sz="2600" spc="-1" strike="noStrike">
                <a:solidFill>
                  <a:srgbClr val="000000"/>
                </a:solidFill>
                <a:latin typeface="Constantia"/>
              </a:rPr>
              <a:t>Date</a:t>
            </a:r>
            <a:r>
              <a:rPr b="0" lang="en-US" sz="2600" spc="-1" strike="noStrike">
                <a:solidFill>
                  <a:srgbClr val="000000"/>
                </a:solidFill>
                <a:latin typeface="Constantia"/>
              </a:rPr>
              <a:t> component holds a sequence of meals for an individual date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r can edit specific meal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r can annotate information about dates (''Bob's Birthday'', “Christmas Dinner'', and so on)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print out grocery list for entire set of meals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8953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Responsibility Driven Design (RDD)</a:t>
            </a:r>
            <a:endParaRPr b="0" lang="en-US" sz="34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Neue-Bold"/>
              </a:rPr>
              <a:t>Describing the actions and activities for which our software is responsible</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Neue-Bold"/>
              </a:rPr>
              <a:t>Describing the responsibilities in terms that both users and developers can understand</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Neue-Bold"/>
              </a:rPr>
              <a:t>Designing software objects that implement those responsibilitie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819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The Meal Component</a:t>
            </a:r>
            <a:endParaRPr b="0" lang="en-US" sz="34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a:t>
            </a:r>
            <a:r>
              <a:rPr b="0" i="1" lang="en-US" sz="2600" spc="-1" strike="noStrike">
                <a:solidFill>
                  <a:srgbClr val="000000"/>
                </a:solidFill>
                <a:latin typeface="Constantia"/>
              </a:rPr>
              <a:t>Meal</a:t>
            </a:r>
            <a:r>
              <a:rPr b="0" lang="en-US" sz="2600" spc="-1" strike="noStrike">
                <a:solidFill>
                  <a:srgbClr val="000000"/>
                </a:solidFill>
                <a:latin typeface="Constantia"/>
              </a:rPr>
              <a:t> component holds information about a single meal </a:t>
            </a:r>
            <a:endParaRPr b="0" lang="en-US" sz="26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llows user to interact with the recipe database to select individual recipes for meals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ser sets number of people to be present at meal, recipes are automatically scaled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n produce grocery list for entire meal, by combining grocery lists from individual scaled recipes </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The Six Components</a:t>
            </a:r>
            <a:endParaRPr b="0" lang="en-US" sz="34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aving walked through the various scenarios, you team eventually decides everything can be accomplished using only six software component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You can at this point assign the different components to different programmers for development </a:t>
            </a:r>
            <a:endParaRPr b="0" lang="en-US" sz="2000" spc="-1" strike="noStrike">
              <a:solidFill>
                <a:srgbClr val="000000"/>
              </a:solidFill>
              <a:latin typeface="Constantia"/>
            </a:endParaRPr>
          </a:p>
        </p:txBody>
      </p:sp>
      <p:pic>
        <p:nvPicPr>
          <p:cNvPr id="239" name="Picture 4" descr="slide21"/>
          <p:cNvPicPr/>
          <p:nvPr/>
        </p:nvPicPr>
        <p:blipFill>
          <a:blip r:embed="rId1"/>
          <a:stretch/>
        </p:blipFill>
        <p:spPr>
          <a:xfrm>
            <a:off x="1447920" y="2895480"/>
            <a:ext cx="5190840" cy="1952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Interaction Diagrams</a:t>
            </a:r>
            <a:endParaRPr b="0" lang="en-US" sz="34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picture on the previous slide captures static relationships, but not the dynamic flow of messages in a scenario</a:t>
            </a:r>
            <a:endParaRPr b="0" lang="en-US" sz="2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at information can be recorded by an interaction diagram</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pic>
        <p:nvPicPr>
          <p:cNvPr id="242" name="Picture 4" descr="slide21a"/>
          <p:cNvPicPr/>
          <p:nvPr/>
        </p:nvPicPr>
        <p:blipFill>
          <a:blip r:embed="rId1"/>
          <a:stretch/>
        </p:blipFill>
        <p:spPr>
          <a:xfrm>
            <a:off x="2057400" y="3809880"/>
            <a:ext cx="4686480" cy="210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5144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4617b"/>
                </a:solidFill>
                <a:latin typeface="Calibri"/>
              </a:rPr>
              <a:t>Characteristics of Components</a:t>
            </a:r>
            <a:endParaRPr b="0" lang="en-US" sz="3100" spc="-1" strike="noStrike">
              <a:solidFill>
                <a:srgbClr val="04617b"/>
              </a:solidFill>
              <a:latin typeface="Calibri"/>
            </a:endParaRPr>
          </a:p>
        </p:txBody>
      </p:sp>
      <p:sp>
        <p:nvSpPr>
          <p:cNvPr id="24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t us return to the idea of a software componen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 are many different aspects to this simple idea, we will consider just a few: </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havior and state </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stances and classes </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upling and cohesion </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rface and implementation</a:t>
            </a: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Behavior and State</a:t>
            </a:r>
            <a:endParaRPr b="0" lang="en-US" sz="34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All components can be characterized by two aspects</a:t>
            </a:r>
            <a:endParaRPr b="0" lang="en-US" sz="2500" spc="-1" strike="noStrike">
              <a:solidFill>
                <a:srgbClr val="000000"/>
              </a:solidFill>
              <a:latin typeface="Constantia"/>
            </a:endParaRPr>
          </a:p>
          <a:p>
            <a:pPr lvl="1" marL="639720" indent="-245880">
              <a:lnSpc>
                <a:spcPct val="80000"/>
              </a:lnSpc>
              <a:spcBef>
                <a:spcPts val="5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a:t>
            </a:r>
            <a:r>
              <a:rPr b="0" i="1" lang="en-US" sz="2100" spc="-1" strike="noStrike">
                <a:solidFill>
                  <a:srgbClr val="000000"/>
                </a:solidFill>
                <a:latin typeface="Constantia"/>
              </a:rPr>
              <a:t>behavior</a:t>
            </a:r>
            <a:r>
              <a:rPr b="0" lang="en-US" sz="2100" spc="-1" strike="noStrike">
                <a:solidFill>
                  <a:srgbClr val="000000"/>
                </a:solidFill>
                <a:latin typeface="Constantia"/>
              </a:rPr>
              <a:t> of a component is the set of actions a component can perform. The complete set of behavior for a component is sometimes called the protocol</a:t>
            </a:r>
            <a:endParaRPr b="0" lang="en-US" sz="2100" spc="-1" strike="noStrike">
              <a:solidFill>
                <a:srgbClr val="000000"/>
              </a:solidFill>
              <a:latin typeface="Constantia"/>
            </a:endParaRPr>
          </a:p>
          <a:p>
            <a:pPr lvl="1" marL="639720" indent="-245880">
              <a:lnSpc>
                <a:spcPct val="80000"/>
              </a:lnSpc>
              <a:spcBef>
                <a:spcPts val="5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a:t>
            </a:r>
            <a:r>
              <a:rPr b="0" i="1" lang="en-US" sz="2100" spc="-1" strike="noStrike">
                <a:solidFill>
                  <a:srgbClr val="000000"/>
                </a:solidFill>
                <a:latin typeface="Constantia"/>
              </a:rPr>
              <a:t>state</a:t>
            </a:r>
            <a:r>
              <a:rPr b="0" lang="en-US" sz="2100" spc="-1" strike="noStrike">
                <a:solidFill>
                  <a:srgbClr val="000000"/>
                </a:solidFill>
                <a:latin typeface="Constantia"/>
              </a:rPr>
              <a:t> of a component represents all the information (data values) held within a component</a:t>
            </a:r>
            <a:endParaRPr b="0" lang="en-US" sz="2100" spc="-1" strike="noStrike">
              <a:solidFill>
                <a:srgbClr val="000000"/>
              </a:solidFill>
              <a:latin typeface="Constant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 </a:t>
            </a:r>
            <a:endParaRPr b="0" lang="en-US" sz="2500" spc="-1" strike="noStrike">
              <a:solidFill>
                <a:srgbClr val="000000"/>
              </a:solidFill>
              <a:latin typeface="Constantia"/>
            </a:endParaRPr>
          </a:p>
          <a:p>
            <a:pPr marL="272880" indent="-27288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Notice that it is common for behavior to change state. For example, the edit behavior of a recipe may change the preparation instructions, which is part of the state </a:t>
            </a:r>
            <a:endParaRPr b="0" lang="en-US" sz="2500" spc="-1" strike="noStrike">
              <a:solidFill>
                <a:srgbClr val="000000"/>
              </a:solidFill>
              <a:latin typeface="Constantia"/>
            </a:endParaRPr>
          </a:p>
          <a:p>
            <a:pPr marL="272880" indent="-27288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Instances and Classes</a:t>
            </a:r>
            <a:endParaRPr b="0" lang="en-US" sz="34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e can now clarify a point we earlier ignored. There are likely many </a:t>
            </a:r>
            <a:r>
              <a:rPr b="0" i="1" lang="en-US" sz="2400" spc="-1" strike="noStrike">
                <a:solidFill>
                  <a:srgbClr val="000000"/>
                </a:solidFill>
                <a:latin typeface="Constantia"/>
              </a:rPr>
              <a:t>instances</a:t>
            </a:r>
            <a:r>
              <a:rPr b="0" lang="en-US" sz="2400" spc="-1" strike="noStrike">
                <a:solidFill>
                  <a:srgbClr val="000000"/>
                </a:solidFill>
                <a:latin typeface="Constantia"/>
              </a:rPr>
              <a:t> of recipe, but they will all </a:t>
            </a:r>
            <a:r>
              <a:rPr b="0" i="1" lang="en-US" sz="2400" spc="-1" strike="noStrike">
                <a:solidFill>
                  <a:srgbClr val="000000"/>
                </a:solidFill>
                <a:latin typeface="Constantia"/>
              </a:rPr>
              <a:t>behave</a:t>
            </a:r>
            <a:r>
              <a:rPr b="0" lang="en-US" sz="2400" spc="-1" strike="noStrike">
                <a:solidFill>
                  <a:srgbClr val="000000"/>
                </a:solidFill>
                <a:latin typeface="Constantia"/>
              </a:rPr>
              <a:t> in the same way. We say the behavior is common to the class </a:t>
            </a:r>
            <a:r>
              <a:rPr b="1" lang="en-US" sz="2400" spc="-1" strike="noStrike">
                <a:solidFill>
                  <a:srgbClr val="000000"/>
                </a:solidFill>
                <a:latin typeface="Constantia"/>
              </a:rPr>
              <a:t>Recipe</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pic>
        <p:nvPicPr>
          <p:cNvPr id="249" name="Picture 4" descr="slide24"/>
          <p:cNvPicPr/>
          <p:nvPr/>
        </p:nvPicPr>
        <p:blipFill>
          <a:blip r:embed="rId1"/>
          <a:stretch/>
        </p:blipFill>
        <p:spPr>
          <a:xfrm>
            <a:off x="2514600" y="3962520"/>
            <a:ext cx="4019400" cy="1523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880"/>
            <a:ext cx="8229600" cy="590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Coupling and Cohesion</a:t>
            </a:r>
            <a:endParaRPr b="0" lang="en-US" sz="34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separation of tasks into the domains of different components should be guided by the concepts of </a:t>
            </a:r>
            <a:r>
              <a:rPr b="0" i="1" lang="en-US" sz="2100" spc="-1" strike="noStrike">
                <a:solidFill>
                  <a:srgbClr val="000000"/>
                </a:solidFill>
                <a:latin typeface="Constantia"/>
              </a:rPr>
              <a:t>coupling</a:t>
            </a:r>
            <a:r>
              <a:rPr b="0" lang="en-US" sz="2100" spc="-1" strike="noStrike">
                <a:solidFill>
                  <a:srgbClr val="000000"/>
                </a:solidFill>
                <a:latin typeface="Constantia"/>
              </a:rPr>
              <a:t> and </a:t>
            </a:r>
            <a:r>
              <a:rPr b="0" i="1" lang="en-US" sz="2100" spc="-1" strike="noStrike">
                <a:solidFill>
                  <a:srgbClr val="000000"/>
                </a:solidFill>
                <a:latin typeface="Constantia"/>
              </a:rPr>
              <a:t>cohesion</a:t>
            </a:r>
            <a:endParaRPr b="0" lang="en-US" sz="2100" spc="-1" strike="noStrike">
              <a:solidFill>
                <a:srgbClr val="000000"/>
              </a:solidFill>
              <a:latin typeface="Constantia"/>
            </a:endParaRPr>
          </a:p>
          <a:p>
            <a:pPr marL="272880" indent="-2728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endParaRPr b="0" lang="en-US" sz="21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ohesion is the degree to which the tasks assigned to a component seem to form a meaningful unit</a:t>
            </a:r>
            <a:endParaRPr b="0" lang="en-US" sz="21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ant to maximize cohesion</a:t>
            </a:r>
            <a:endParaRPr b="0" lang="en-US" sz="20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oupling is the degree to which the ability to fulfill a certain responsibility depends upon the actions of another component</a:t>
            </a:r>
            <a:endParaRPr b="0" lang="en-US" sz="21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ant to minimize coupling</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Interface and Implementation</a:t>
            </a:r>
            <a:endParaRPr b="0" lang="en-US" sz="34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 have characterized software components by what they can d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user of a software component need only know what it does, not how it does i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Ask not what you can do </a:t>
            </a:r>
            <a:r>
              <a:rPr b="0" i="1" lang="en-US" sz="2600" spc="-1" strike="noStrike">
                <a:solidFill>
                  <a:srgbClr val="000000"/>
                </a:solidFill>
                <a:latin typeface="Constantia"/>
              </a:rPr>
              <a:t>to</a:t>
            </a:r>
            <a:r>
              <a:rPr b="0" lang="en-US" sz="2600" spc="-1" strike="noStrike">
                <a:solidFill>
                  <a:srgbClr val="000000"/>
                </a:solidFill>
                <a:latin typeface="Constantia"/>
              </a:rPr>
              <a:t> a data structure, ask instead what your data structures can do </a:t>
            </a:r>
            <a:r>
              <a:rPr b="0" i="1" lang="en-US" sz="2600" spc="-1" strike="noStrike">
                <a:solidFill>
                  <a:srgbClr val="000000"/>
                </a:solidFill>
                <a:latin typeface="Constantia"/>
              </a:rPr>
              <a:t>for</a:t>
            </a:r>
            <a:r>
              <a:rPr b="0" lang="en-US" sz="2600" spc="-1" strike="noStrike">
                <a:solidFill>
                  <a:srgbClr val="000000"/>
                </a:solidFill>
                <a:latin typeface="Constantia"/>
              </a:rPr>
              <a:t> you''.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880"/>
            <a:ext cx="8229600" cy="590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Two views of a Software System</a:t>
            </a:r>
            <a:endParaRPr b="0" lang="en-US" sz="34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naturally leads to two views of a software system</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term </a:t>
            </a:r>
            <a:r>
              <a:rPr b="0" i="1" lang="en-US" sz="2400" spc="-1" strike="noStrike">
                <a:solidFill>
                  <a:srgbClr val="000000"/>
                </a:solidFill>
                <a:latin typeface="Constantia"/>
              </a:rPr>
              <a:t>information hiding</a:t>
            </a:r>
            <a:r>
              <a:rPr b="0" lang="en-US" sz="2400" spc="-1" strike="noStrike">
                <a:solidFill>
                  <a:srgbClr val="000000"/>
                </a:solidFill>
                <a:latin typeface="Constantia"/>
              </a:rPr>
              <a:t> is used to describe the purposeful hiding of implementation details</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pic>
        <p:nvPicPr>
          <p:cNvPr id="256" name="Picture 4" descr="slide27"/>
          <p:cNvPicPr/>
          <p:nvPr/>
        </p:nvPicPr>
        <p:blipFill>
          <a:blip r:embed="rId1"/>
          <a:stretch/>
        </p:blipFill>
        <p:spPr>
          <a:xfrm>
            <a:off x="2209680" y="3962520"/>
            <a:ext cx="4486320" cy="1724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Parnas' Principles</a:t>
            </a:r>
            <a:endParaRPr b="0" lang="en-US" sz="34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se ideas were captured by computer scientist David Parnas in a pair of rules, which are known as Parnas' Principles: </a:t>
            </a:r>
            <a:endParaRPr b="0" lang="en-US" sz="26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developer of a software component must provide the intended user with all the information needed to make effective use of the services provided by the component, and should provide </a:t>
            </a:r>
            <a:r>
              <a:rPr b="0" i="1" lang="en-US" sz="2200" spc="-1" strike="noStrike">
                <a:solidFill>
                  <a:srgbClr val="000000"/>
                </a:solidFill>
                <a:latin typeface="Constantia"/>
              </a:rPr>
              <a:t>no</a:t>
            </a:r>
            <a:r>
              <a:rPr b="0" lang="en-US" sz="2200" spc="-1" strike="noStrike">
                <a:solidFill>
                  <a:srgbClr val="000000"/>
                </a:solidFill>
                <a:latin typeface="Constantia"/>
              </a:rPr>
              <a:t> other information</a:t>
            </a:r>
            <a:endParaRPr b="0" lang="en-US" sz="2200" spc="-1" strike="noStrike">
              <a:solidFill>
                <a:srgbClr val="000000"/>
              </a:solidFill>
              <a:latin typeface="Constanti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implementer of a software component must be provided with all the information necessary to carry out the given responsibilities assigned to the component, and should be provided with </a:t>
            </a:r>
            <a:r>
              <a:rPr b="0" i="1" lang="en-US" sz="2200" spc="-1" strike="noStrike">
                <a:solidFill>
                  <a:srgbClr val="000000"/>
                </a:solidFill>
                <a:latin typeface="Constantia"/>
              </a:rPr>
              <a:t>no</a:t>
            </a:r>
            <a:r>
              <a:rPr b="0" lang="en-US" sz="2200" spc="-1" strike="noStrike">
                <a:solidFill>
                  <a:srgbClr val="000000"/>
                </a:solidFill>
                <a:latin typeface="Constantia"/>
              </a:rPr>
              <a:t> other information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8953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Responsibility Driven Design (RDD)</a:t>
            </a:r>
            <a:endParaRPr b="0" lang="en-US" sz="34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Neue-Bold"/>
              </a:rPr>
              <a:t>RDD is not a sequential proces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eps in RDD </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ftware component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malize interfac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igning and representation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lementing component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gration of component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intenance and evolu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Public and Private View</a:t>
            </a:r>
            <a:endParaRPr b="0" lang="en-US" sz="34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C++ and Java, Parnas's Principles lead to the ideas of a public and private view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ublic view - those features (data or behavior) that other components can see and use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ivate view - those features (data or behavior) that are used only within the componen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Next Step - Formalize the Interface</a:t>
            </a:r>
            <a:endParaRPr b="0" lang="en-US" sz="34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next step is to formalize the channels of communication between the components </a:t>
            </a:r>
            <a:endParaRPr b="0" lang="en-US" sz="21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eneral structure of each component is identified </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ponents with only one behavior may be made into functions </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ponents with many behaviors are probably more easily implemented as classes </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ames are given to each of the responsibilities - these will eventually be mapped on to procedure names </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formation is assigned to each component and accounted for </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cenarios are replayed in order to ensure all data is available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5144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4617b"/>
                </a:solidFill>
                <a:latin typeface="Calibri"/>
              </a:rPr>
              <a:t>Names with Activities</a:t>
            </a:r>
            <a:endParaRPr b="0" lang="en-US" sz="31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election of names is an important task</a:t>
            </a:r>
            <a:endParaRPr b="0" lang="en-US" sz="24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ames should be evocative in the context of the problem </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ames should be short </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ames should be pronounceable (read them out load)</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ames should be consistent within the project </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void digits within a name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5144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4617b"/>
                </a:solidFill>
                <a:latin typeface="Calibri"/>
              </a:rPr>
              <a:t>Documentation</a:t>
            </a:r>
            <a:endParaRPr b="0" lang="en-US" sz="31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esides CRC cards, it is important that the development of other documentation be performed almost from the beginning</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two most important documents are the user manual and the design documentation of the software system</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User Manual</a:t>
            </a:r>
            <a:endParaRPr b="0" lang="en-US" sz="34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user manual describes the application as seen by the user </a:t>
            </a:r>
            <a:endParaRPr b="0" lang="en-US" sz="26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oes not depend upon the implementation, so can be developed before the implementation</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n naturally flow from the process of walking through scenarios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n be carried back to the clients to make sure the users and the implementers have the same ideas </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Quality</a:t>
            </a:r>
            <a:endParaRPr b="0" lang="en-US" sz="3400" spc="-1" strike="noStrike">
              <a:solidFill>
                <a:srgbClr val="04617b"/>
              </a:solidFill>
              <a:latin typeface="Calibri"/>
            </a:endParaRPr>
          </a:p>
        </p:txBody>
      </p:sp>
      <p:sp>
        <p:nvSpPr>
          <p:cNvPr id="27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You should always remember that the primary measure of quality is the degree to which your customers (clients) are satisfied with your product</a:t>
            </a:r>
            <a:endParaRPr b="0" lang="en-US" sz="21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ince often customers do not know exactly what it is they want, it is important to work with the client early in the design phase to make sure the system your are developing is the desired product</a:t>
            </a:r>
            <a:endParaRPr b="0" lang="en-US" sz="21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One very important way to do this is to create the user manual even before the software is written </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880"/>
            <a:ext cx="8229600" cy="590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System Design Documentation</a:t>
            </a:r>
            <a:endParaRPr b="0" lang="en-US" sz="34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cord the decisions made during the process of system design</a:t>
            </a:r>
            <a:endParaRPr b="0" lang="en-US" sz="26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cord the arguments for and against any major decision, and the factors influencing the final choice</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cord CRC cards for the major components</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aintain a log or diary of the process schedule</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mportant to produce this while the ideas are fresh, not in hindsight when many details will have been forgotten</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ote the code only records the outcome of decisions, not factors that lead up to decisions being made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880"/>
            <a:ext cx="8229600" cy="590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Preparing for Change</a:t>
            </a:r>
            <a:endParaRPr b="0" lang="en-US" sz="34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Your design team should also keep in mind that change is inevitable</a:t>
            </a:r>
            <a:endParaRPr b="0" lang="en-US" sz="2100" spc="-1" strike="noStrike">
              <a:solidFill>
                <a:srgbClr val="000000"/>
              </a:solidFill>
              <a:latin typeface="Constantia"/>
            </a:endParaRPr>
          </a:p>
          <a:p>
            <a:pPr marL="272880" indent="-272880">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marL="272880" indent="-272880">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Users requirements change with experience, hardware changes, government regulations change </a:t>
            </a:r>
            <a:endParaRPr b="0" lang="en-US" sz="21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y to predict the most likely sources of change, and isolate the effect</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on changes include interfaces, file formats, communication protocols </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olate interfaces to hardware that is likely to change</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duce dependency of one software component on another </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Keep accurate record of the reasoning behind every major decision in the design documentation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53352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4617b"/>
                </a:solidFill>
                <a:latin typeface="Calibri"/>
              </a:rPr>
              <a:t>Next Step - Select Representations for Subsystems</a:t>
            </a:r>
            <a:endParaRPr b="0" lang="en-US" sz="31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xt the internal representation of the software subsystem corresponding to each component is selecte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nowledge of the classic data structures of Computer Science is important her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ften once data structures have been selected, the code is almost self-eviden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Next Step - Implement and Test Subsystems</a:t>
            </a:r>
            <a:endParaRPr b="0" lang="en-US" sz="34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assic techniques, such as </a:t>
            </a:r>
            <a:r>
              <a:rPr b="0" i="1" lang="en-US" sz="2600" spc="-1" strike="noStrike">
                <a:solidFill>
                  <a:srgbClr val="000000"/>
                </a:solidFill>
                <a:latin typeface="Constantia"/>
              </a:rPr>
              <a:t>stepwise refinement</a:t>
            </a:r>
            <a:r>
              <a:rPr b="0" lang="en-US" sz="2600" spc="-1" strike="noStrike">
                <a:solidFill>
                  <a:srgbClr val="000000"/>
                </a:solidFill>
                <a:latin typeface="Constantia"/>
              </a:rPr>
              <a:t>, are used to implement each of the subsystems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bsystems are validated in isolation </a:t>
            </a:r>
            <a:endParaRPr b="0" lang="en-US" sz="26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formal proofs of correctness for the subsystem are developed</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dentify necessary conditions for correct functioning. Try to minimize conditions, and test input values whenever possible</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oftware testing is used as a confidence building measure</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8953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Case Study: the IIKH</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riefly, the </a:t>
            </a:r>
            <a:r>
              <a:rPr b="0" i="1" lang="en-US" sz="2600" spc="-1" strike="noStrike">
                <a:solidFill>
                  <a:srgbClr val="000000"/>
                </a:solidFill>
                <a:latin typeface="Constantia"/>
              </a:rPr>
              <a:t>Intelligent Interactive Kitchen Helper (IIKH)</a:t>
            </a:r>
            <a:r>
              <a:rPr b="0" lang="en-US" sz="2600" spc="-1" strike="noStrike">
                <a:solidFill>
                  <a:srgbClr val="000000"/>
                </a:solidFill>
                <a:latin typeface="Constantia"/>
              </a:rPr>
              <a:t> will replace the box of index cards of recipes in the average kitchen </a:t>
            </a:r>
            <a:br>
              <a:rPr sz="2600"/>
            </a:b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819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Step - Integration and Testing</a:t>
            </a:r>
            <a:endParaRPr b="0" lang="en-US" sz="34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onents are slowly integrated into completed system</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bs can be used to perform testing all during integration</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rrors discovered during integration to cause reinvestigation of validation techniques performed at the subsystem leve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819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Maintenance and Evolution</a:t>
            </a:r>
            <a:endParaRPr b="0" lang="en-US" sz="34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oftware does not remain fixed after the first working version is released</a:t>
            </a:r>
            <a:endParaRPr b="0" lang="en-US" sz="21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rrors or bugs can be discovered. Must be corrected </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quirements may change. Say as a result of government regulations, or standardization among similar products </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ardware may change </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sers expectations may change. Greater functionality, more features. Often as a result of competition from similar product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etter documentation may be required. </a:t>
            </a:r>
            <a:endParaRPr b="0" lang="en-US" sz="2000" spc="-1" strike="noStrike">
              <a:solidFill>
                <a:srgbClr val="000000"/>
              </a:solidFill>
              <a:latin typeface="Constantia"/>
            </a:endParaRPr>
          </a:p>
          <a:p>
            <a:pPr marL="272880" indent="-272880">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 good design recognizes the inevitability of change, and plans an accommodation for these activities from the very beginning </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880"/>
            <a:ext cx="8229600" cy="590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Common Design Flaws</a:t>
            </a:r>
            <a:endParaRPr b="0" lang="en-US" sz="3400" spc="-1" strike="noStrike">
              <a:solidFill>
                <a:srgbClr val="04617b"/>
              </a:solidFill>
              <a:latin typeface="Calibri"/>
            </a:endParaRPr>
          </a:p>
        </p:txBody>
      </p:sp>
      <p:sp>
        <p:nvSpPr>
          <p:cNvPr id="284" name=""/>
          <p:cNvSpPr txBox="1"/>
          <p:nvPr/>
        </p:nvSpPr>
        <p:spPr>
          <a:xfrm>
            <a:off x="566280" y="1752120"/>
            <a:ext cx="8001000" cy="4496040"/>
          </a:xfrm>
          <a:prstGeom prst="rect">
            <a:avLst/>
          </a:prstGeom>
          <a:noFill/>
          <a:ln w="0">
            <a:noFill/>
          </a:ln>
        </p:spPr>
        <p:txBody>
          <a:bodyPr lIns="90000" rIns="90000" tIns="46800" bIns="46800" anchor="t">
            <a:normAutofit/>
          </a:bodyPr>
          <a:p>
            <a:pPr marL="272880" indent="-272880">
              <a:lnSpc>
                <a:spcPct val="80000"/>
              </a:lnSpc>
              <a:spcBef>
                <a:spcPts val="32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The following categories present some of the more common design flaws:</a:t>
            </a:r>
            <a:r>
              <a:rPr b="0" lang="en-US" sz="1300" spc="-1" strike="noStrike">
                <a:solidFill>
                  <a:srgbClr val="000000"/>
                </a:solidFill>
                <a:latin typeface="Constantia"/>
              </a:rPr>
              <a:t> </a:t>
            </a:r>
            <a:endParaRPr b="0" lang="en-US" sz="1300" spc="-1" strike="noStrike">
              <a:solidFill>
                <a:srgbClr val="000000"/>
              </a:solidFill>
              <a:latin typeface="Constantia"/>
            </a:endParaRPr>
          </a:p>
          <a:p>
            <a:pPr lvl="1" marL="639720" indent="-245880">
              <a:lnSpc>
                <a:spcPct val="80000"/>
              </a:lnSpc>
              <a:spcBef>
                <a:spcPts val="2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Direct modification</a:t>
            </a:r>
            <a:r>
              <a:rPr b="0" lang="en-US" sz="1100" spc="-1" strike="noStrike">
                <a:solidFill>
                  <a:srgbClr val="000000"/>
                </a:solidFill>
                <a:latin typeface="Constantia"/>
              </a:rPr>
              <a:t> </a:t>
            </a:r>
            <a:endParaRPr b="0" lang="en-US" sz="1100" spc="-1" strike="noStrike">
              <a:solidFill>
                <a:srgbClr val="000000"/>
              </a:solidFill>
              <a:latin typeface="Constantia"/>
            </a:endParaRPr>
          </a:p>
          <a:p>
            <a:pPr lvl="2" marL="914400" indent="-246240">
              <a:lnSpc>
                <a:spcPct val="8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Components that make direct modification of data values in other components are a direct violation of encapsulation</a:t>
            </a:r>
            <a:endParaRPr b="0" lang="en-US" sz="1200" spc="-1" strike="noStrike">
              <a:solidFill>
                <a:srgbClr val="000000"/>
              </a:solidFill>
              <a:latin typeface="Constantia"/>
            </a:endParaRPr>
          </a:p>
          <a:p>
            <a:pPr lvl="2" marL="914400" indent="-246240">
              <a:lnSpc>
                <a:spcPct val="8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Such coupling makes for inflexible designs </a:t>
            </a:r>
            <a:endParaRPr b="0" lang="en-US" sz="1200" spc="-1" strike="noStrike">
              <a:solidFill>
                <a:srgbClr val="000000"/>
              </a:solidFill>
              <a:latin typeface="Constantia"/>
            </a:endParaRPr>
          </a:p>
          <a:p>
            <a:pPr lvl="1" marL="639720" indent="-245880">
              <a:lnSpc>
                <a:spcPct val="80000"/>
              </a:lnSpc>
              <a:spcBef>
                <a:spcPts val="3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Too Much Responsibility</a:t>
            </a:r>
            <a:r>
              <a:rPr b="0" lang="en-US" sz="1400" spc="-1" strike="noStrike">
                <a:solidFill>
                  <a:srgbClr val="000000"/>
                </a:solidFill>
                <a:latin typeface="Constantia"/>
              </a:rPr>
              <a:t> </a:t>
            </a:r>
            <a:endParaRPr b="0" lang="en-US" sz="1400" spc="-1" strike="noStrike">
              <a:solidFill>
                <a:srgbClr val="000000"/>
              </a:solidFill>
              <a:latin typeface="Constantia"/>
            </a:endParaRPr>
          </a:p>
          <a:p>
            <a:pPr lvl="2" marL="914400" indent="-246240">
              <a:lnSpc>
                <a:spcPct val="8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Components with too much responsibility are difficult to understand and to use</a:t>
            </a:r>
            <a:endParaRPr b="0" lang="en-US" sz="1200" spc="-1" strike="noStrike">
              <a:solidFill>
                <a:srgbClr val="000000"/>
              </a:solidFill>
              <a:latin typeface="Constantia"/>
            </a:endParaRPr>
          </a:p>
          <a:p>
            <a:pPr lvl="2" marL="914400" indent="-246240">
              <a:lnSpc>
                <a:spcPct val="8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Responsibility should be broken into smaller meaningful packages and distributed </a:t>
            </a:r>
            <a:endParaRPr b="0" lang="en-US" sz="1200" spc="-1" strike="noStrike">
              <a:solidFill>
                <a:srgbClr val="000000"/>
              </a:solidFill>
              <a:latin typeface="Constantia"/>
            </a:endParaRPr>
          </a:p>
          <a:p>
            <a:pPr lvl="1" marL="639720" indent="-245880">
              <a:lnSpc>
                <a:spcPct val="80000"/>
              </a:lnSpc>
              <a:spcBef>
                <a:spcPts val="2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No Responsibility</a:t>
            </a:r>
            <a:r>
              <a:rPr b="0" lang="en-US" sz="1100" spc="-1" strike="noStrike">
                <a:solidFill>
                  <a:srgbClr val="000000"/>
                </a:solidFill>
                <a:latin typeface="Constantia"/>
              </a:rPr>
              <a:t> </a:t>
            </a:r>
            <a:endParaRPr b="0" lang="en-US" sz="1100" spc="-1" strike="noStrike">
              <a:solidFill>
                <a:srgbClr val="000000"/>
              </a:solidFill>
              <a:latin typeface="Constantia"/>
            </a:endParaRPr>
          </a:p>
          <a:p>
            <a:pPr lvl="2" marL="914400" indent="-246240">
              <a:lnSpc>
                <a:spcPct val="8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Components with no responsibility serve no purpose</a:t>
            </a:r>
            <a:endParaRPr b="0" lang="en-US" sz="1200" spc="-1" strike="noStrike">
              <a:solidFill>
                <a:srgbClr val="000000"/>
              </a:solidFill>
              <a:latin typeface="Constantia"/>
            </a:endParaRPr>
          </a:p>
          <a:p>
            <a:pPr lvl="2" marL="914400" indent="-246240">
              <a:lnSpc>
                <a:spcPct val="8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Often arise when designers equate physical existence with logical design existence </a:t>
            </a:r>
            <a:endParaRPr b="0" lang="en-US" sz="1200" spc="-1" strike="noStrike">
              <a:solidFill>
                <a:srgbClr val="000000"/>
              </a:solidFill>
              <a:latin typeface="Constantia"/>
            </a:endParaRPr>
          </a:p>
          <a:p>
            <a:pPr lvl="2" marL="914400" indent="-246240">
              <a:lnSpc>
                <a:spcPct val="8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a:t>
            </a:r>
            <a:r>
              <a:rPr b="0" lang="en-US" sz="1200" spc="-1" strike="noStrike">
                <a:solidFill>
                  <a:srgbClr val="000000"/>
                </a:solidFill>
                <a:latin typeface="Constantia"/>
              </a:rPr>
              <a:t>Money is no object'' </a:t>
            </a:r>
            <a:endParaRPr b="0" lang="en-US" sz="1200" spc="-1" strike="noStrike">
              <a:solidFill>
                <a:srgbClr val="000000"/>
              </a:solidFill>
              <a:latin typeface="Constantia"/>
            </a:endParaRPr>
          </a:p>
          <a:p>
            <a:pPr lvl="1" marL="639720" indent="-245880">
              <a:lnSpc>
                <a:spcPct val="80000"/>
              </a:lnSpc>
              <a:spcBef>
                <a:spcPts val="2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Components with unused responsibility</a:t>
            </a:r>
            <a:r>
              <a:rPr b="0" lang="en-US" sz="1100" spc="-1" strike="noStrike">
                <a:solidFill>
                  <a:srgbClr val="000000"/>
                </a:solidFill>
                <a:latin typeface="Constantia"/>
              </a:rPr>
              <a:t> </a:t>
            </a:r>
            <a:endParaRPr b="0" lang="en-US" sz="1100" spc="-1" strike="noStrike">
              <a:solidFill>
                <a:srgbClr val="000000"/>
              </a:solidFill>
              <a:latin typeface="Constantia"/>
            </a:endParaRPr>
          </a:p>
          <a:p>
            <a:pPr lvl="2" marL="914400" indent="-246240">
              <a:lnSpc>
                <a:spcPct val="80000"/>
              </a:lnSpc>
              <a:spcBef>
                <a:spcPts val="24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Usually the result of designing software components without thinking about how they will be used</a:t>
            </a:r>
            <a:r>
              <a:rPr b="0" lang="en-US" sz="1000" spc="-1" strike="noStrike">
                <a:solidFill>
                  <a:srgbClr val="000000"/>
                </a:solidFill>
                <a:latin typeface="Constantia"/>
              </a:rPr>
              <a:t> </a:t>
            </a:r>
            <a:endParaRPr b="0" lang="en-US" sz="1000" spc="-1" strike="noStrike">
              <a:solidFill>
                <a:srgbClr val="000000"/>
              </a:solidFill>
              <a:latin typeface="Constantia"/>
            </a:endParaRPr>
          </a:p>
          <a:p>
            <a:pPr lvl="1" marL="639720" indent="-245880">
              <a:lnSpc>
                <a:spcPct val="80000"/>
              </a:lnSpc>
              <a:spcBef>
                <a:spcPts val="2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Misleading Names</a:t>
            </a:r>
            <a:r>
              <a:rPr b="0" lang="en-US" sz="1100" spc="-1" strike="noStrike">
                <a:solidFill>
                  <a:srgbClr val="000000"/>
                </a:solidFill>
                <a:latin typeface="Constantia"/>
              </a:rPr>
              <a:t> </a:t>
            </a:r>
            <a:endParaRPr b="0" lang="en-US" sz="1100" spc="-1" strike="noStrike">
              <a:solidFill>
                <a:srgbClr val="000000"/>
              </a:solidFill>
              <a:latin typeface="Constantia"/>
            </a:endParaRPr>
          </a:p>
          <a:p>
            <a:pPr lvl="2" marL="914400" indent="-246240">
              <a:lnSpc>
                <a:spcPct val="8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Names should be short and unambiguously indicate what the responsibilities of the component involve </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Your Job</a:t>
            </a:r>
            <a:endParaRPr b="0" lang="en-US" sz="45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magine you are the chief software architec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Your job is to develop the software that will implement the IIKH</a:t>
            </a:r>
            <a:endParaRPr b="0" lang="en-US" sz="2600" spc="-1" strike="noStrike">
              <a:solidFill>
                <a:srgbClr val="000000"/>
              </a:solidFill>
              <a:latin typeface="Constantia"/>
            </a:endParaRPr>
          </a:p>
        </p:txBody>
      </p:sp>
      <p:pic>
        <p:nvPicPr>
          <p:cNvPr id="205" name="Picture 4" descr="slide08"/>
          <p:cNvPicPr/>
          <p:nvPr/>
        </p:nvPicPr>
        <p:blipFill>
          <a:blip r:embed="rId1"/>
          <a:stretch/>
        </p:blipFill>
        <p:spPr>
          <a:xfrm>
            <a:off x="6553080" y="3581280"/>
            <a:ext cx="2390760" cy="261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Abilities of the IIKH</a:t>
            </a:r>
            <a:endParaRPr b="0" lang="en-US" sz="34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re are some of the things a user can do with the IIKH: </a:t>
            </a:r>
            <a:endParaRPr b="0" lang="en-US" sz="26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rowse a database of recipes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dd a new recipe to the database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dit or annotate an existing recipe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lan a meal consisting of several courses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cale a recipe for some number of users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lan a longer period, say a week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Generate a grocery list that includes all the items in all the menus for a period </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819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Characterization by Behavior</a:t>
            </a:r>
            <a:endParaRPr b="0" lang="en-US" sz="34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Just as an Abstract Data Type is characterized more by behavior than by representation, the goal in using Responsibility Driven Design will be to first characterize the application by </a:t>
            </a:r>
            <a:r>
              <a:rPr b="0" i="1" lang="en-US" sz="2100" spc="-1" strike="noStrike">
                <a:solidFill>
                  <a:srgbClr val="000000"/>
                </a:solidFill>
                <a:latin typeface="Constantia"/>
              </a:rPr>
              <a:t>behavior</a:t>
            </a:r>
            <a:r>
              <a:rPr b="0" lang="en-US" sz="2100" spc="-1" strike="noStrike">
                <a:solidFill>
                  <a:srgbClr val="000000"/>
                </a:solidFill>
                <a:latin typeface="Constantia"/>
              </a:rPr>
              <a:t> </a:t>
            </a:r>
            <a:endParaRPr b="0" lang="en-US" sz="21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rst capture the behavior of the entire application</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fine this into behavioral descriptions of subsystems</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fine behavior descriptions into code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is emphasis on behavior is a hallmark of Object-Oriented programming</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819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Working Through Scenarios</a:t>
            </a:r>
            <a:endParaRPr b="0" lang="en-US" sz="34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ecause of the ambiguity in the specification, the major tool here used to uncover the desired behavior is to walk through application scenarios </a:t>
            </a:r>
            <a:endParaRPr b="0" lang="en-US" sz="21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etend there is already a working application</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alk through the various uses of the system </a:t>
            </a:r>
            <a:endParaRPr b="0" lang="en-US" sz="20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Establish the “look and feel'' of the system </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ake sure uncover all the intended uses </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Develop descriptive documentation </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Create the high level software design </a:t>
            </a:r>
            <a:endParaRPr b="0" lang="en-US" sz="1900" spc="-1" strike="noStrike">
              <a:solidFill>
                <a:srgbClr val="000000"/>
              </a:solidFill>
              <a:latin typeface="Constanti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term “use-cases'' used for this process of developing scenarios by others</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Example: Browsing Scenario</a:t>
            </a:r>
            <a:endParaRPr b="0" lang="en-US" sz="3400" spc="-1" strike="noStrike">
              <a:solidFill>
                <a:srgbClr val="04617b"/>
              </a:solidFill>
              <a:latin typeface="Calibri"/>
            </a:endParaRPr>
          </a:p>
        </p:txBody>
      </p:sp>
      <p:sp>
        <p:nvSpPr>
          <p:cNvPr id="213" name=""/>
          <p:cNvSpPr txBox="1"/>
          <p:nvPr/>
        </p:nvSpPr>
        <p:spPr>
          <a:xfrm>
            <a:off x="566280" y="1523880"/>
            <a:ext cx="8001000" cy="4191120"/>
          </a:xfrm>
          <a:prstGeom prst="rect">
            <a:avLst/>
          </a:prstGeom>
          <a:noFill/>
          <a:ln w="0">
            <a:noFill/>
          </a:ln>
        </p:spPr>
        <p:txBody>
          <a:bodyPr lIns="90000" rIns="90000" tIns="46800" bIns="46800"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ice Smith starts the IIKH</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IKH displays welcome message</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ice presses the return button to begin</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ice is given a choices of a number of options</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ice selects to browse recipe</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ice enters keywords to search, e.g., salmon, dill weed</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IKH return two results</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ice selects the firs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IKH displays a window, showing everything regarding the recipe</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ice does not want the recipe, returns to the search result page</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ice selects the second recipe</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ice wants the recipe</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ice selects “quit” from the IIKH program menu</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IIKH program quit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6T22:07:25Z</dcterms:created>
  <dc:creator>IT</dc:creator>
  <dc:description/>
  <dc:language>en-US</dc:language>
  <cp:lastModifiedBy>Eng.Vincent Adul</cp:lastModifiedBy>
  <dcterms:modified xsi:type="dcterms:W3CDTF">2012-03-23T06:52:53Z</dcterms:modified>
  <cp:revision>147</cp:revision>
  <dc:subject/>
  <dc:title>CSSE 501 Object-Oriented Development</dc:title>
</cp:coreProperties>
</file>