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063-5845-42BF-A94B-1E5FB7D4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4CB-E053-47C3-851F-69A754A3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ACC-8D6F-4DFD-AE97-3424F11C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F19-F128-453D-817A-75321694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DCB-918B-497E-8054-285186E1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666-9FED-4E84-A57D-D771370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C5D-0F20-4E99-93F7-C8B0A12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A56-28ED-4492-BE87-40D470B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57F-00A8-4CBC-B43C-D0D1AAE2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13E-8D57-4BFC-99D9-0CE557D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713-81FB-4F12-A566-E65BFA8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446-9401-439B-B9AF-B5C69E4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D44-2948-4C79-9FCD-9B6C5724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eader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438280"/>
            <a:ext cx="1447920" cy="3682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MÔN HỌ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352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ÁP LUẬT ĐẠI C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441600"/>
            <a:ext cx="0" cy="3276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440" y="6324480"/>
            <a:ext cx="3962520" cy="0"/>
          </a:xfrm>
          <a:prstGeom prst="line">
            <a:avLst/>
          </a:prstGeom>
          <a:ln w="1908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071080" y="1963080"/>
            <a:ext cx="6696000" cy="4645080"/>
            <a:chOff x="2071080" y="1963080"/>
            <a:chExt cx="6696000" cy="4645080"/>
          </a:xfrm>
        </p:grpSpPr>
        <p:grpSp>
          <p:nvGrpSpPr>
            <p:cNvPr id="248" name=""/>
            <p:cNvGrpSpPr/>
            <p:nvPr/>
          </p:nvGrpSpPr>
          <p:grpSpPr>
            <a:xfrm>
              <a:off x="2071080" y="1963080"/>
              <a:ext cx="6696000" cy="4645080"/>
              <a:chOff x="2071080" y="1963080"/>
              <a:chExt cx="6696000" cy="4645080"/>
            </a:xfrm>
          </p:grpSpPr>
          <p:sp>
            <p:nvSpPr>
              <p:cNvPr id="249" name=""/>
              <p:cNvSpPr/>
              <p:nvPr/>
            </p:nvSpPr>
            <p:spPr>
              <a:xfrm>
                <a:off x="2133720" y="1981080"/>
                <a:ext cx="6552360" cy="4543200"/>
              </a:xfrm>
              <a:prstGeom prst="ellipse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071080" y="1963080"/>
                <a:ext cx="6696000" cy="4645080"/>
                <a:chOff x="2071080" y="1963080"/>
                <a:chExt cx="6696000" cy="46450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003920" y="3178440"/>
                  <a:ext cx="2880360" cy="2044080"/>
                </a:xfrm>
                <a:prstGeom prst="ellipse">
                  <a:avLst/>
                </a:prstGeom>
                <a:solidFill>
                  <a:srgbClr val="ff66ff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540680" y="3558240"/>
                  <a:ext cx="1801440" cy="1249200"/>
                </a:xfrm>
                <a:prstGeom prst="ellipse">
                  <a:avLst/>
                </a:prstGeom>
                <a:solidFill>
                  <a:srgbClr val="ffff00"/>
                </a:solidFill>
                <a:ln w="38160">
                  <a:solidFill>
                    <a:srgbClr val="ff00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3300"/>
                      </a:solidFill>
                      <a:latin typeface=".VnArial"/>
                      <a:ea typeface="Arial"/>
                    </a:rPr>
                    <a:t>C</a:t>
                  </a:r>
                  <a:r>
                    <a:rPr b="1" i="1" lang="en-US" sz="2000" spc="-1" strike="noStrike">
                      <a:solidFill>
                        <a:srgbClr val="ff3300"/>
                      </a:solidFill>
                      <a:latin typeface="Arial"/>
                    </a:rPr>
                    <a:t>ẤU THÀNH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884280" y="3486240"/>
                  <a:ext cx="180144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.VnArial"/>
                      <a:ea typeface="Arial"/>
                    </a:rPr>
                    <a:t>CH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Ủ THỂ CỦA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645080" y="5303520"/>
                  <a:ext cx="180180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.VnArial"/>
                      <a:ea typeface="Arial"/>
                    </a:rPr>
                    <a:t>M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ẶT CHỦ QUA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33720" y="3525480"/>
                  <a:ext cx="1863360" cy="124884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KH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ÁCH THỂ CỦA VPP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6025400">
                  <a:off x="4482360" y="1568160"/>
                  <a:ext cx="1831320" cy="275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337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337212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67360" y="2230200"/>
                  <a:ext cx="2452680" cy="687600"/>
                </a:xfrm>
                <a:prstGeom prst="ellipse">
                  <a:avLst/>
                </a:prstGeom>
                <a:solidFill>
                  <a:srgbClr val="9933ff"/>
                </a:solidFill>
                <a:ln w="0">
                  <a:noFill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M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ẶT KHÁCH QUA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1199800">
                  <a:off x="6025320" y="3267000"/>
                  <a:ext cx="2639160" cy="19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0393800">
                  <a:off x="2174400" y="3269880"/>
                  <a:ext cx="2639520" cy="19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5085000">
                  <a:off x="4475880" y="4191120"/>
                  <a:ext cx="1829880" cy="275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9" y="4817"/>
                      </a:moveTo>
                      <a:arcTo wR="10800" hR="10800" stAng="-8781428" swAng="18622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9" y="4817"/>
                      </a:moveTo>
                      <a:arcTo wR="10800" hR="10800" stAng="-8781428" swAng="18622191"/>
                    </a:path>
                  </a:pathLst>
                </a:custGeom>
                <a:noFill/>
                <a:ln w="76320">
                  <a:solidFill>
                    <a:srgbClr val="00ff00"/>
                  </a:solidFill>
                  <a:prstDash val="sysDot"/>
                  <a:miter/>
                </a:ln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6282720" y="4356720"/>
                  <a:ext cx="546120" cy="15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3989880" y="4356360"/>
                  <a:ext cx="546120" cy="75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3116520" y="2463840"/>
                  <a:ext cx="327600" cy="226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79480" y="5552280"/>
                  <a:ext cx="263880" cy="226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8335440" y="5038200"/>
                  <a:ext cx="159120" cy="302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5410080" y="3197160"/>
              <a:ext cx="0" cy="37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68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57200" y="1676520"/>
            <a:ext cx="3276720" cy="3682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ẤU THÀNH VI PHẠM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971800"/>
            <a:ext cx="1600200" cy="7621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YẾU T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62"/>
          <p:cNvGrpSpPr/>
          <p:nvPr/>
        </p:nvGrpSpPr>
        <p:grpSpPr>
          <a:xfrm>
            <a:off x="0" y="914400"/>
            <a:ext cx="6019560" cy="863640"/>
            <a:chOff x="0" y="914400"/>
            <a:chExt cx="6019560" cy="863640"/>
          </a:xfrm>
        </p:grpSpPr>
        <p:sp>
          <p:nvSpPr>
            <p:cNvPr id="285" name="AutoShape 47"/>
            <p:cNvSpPr/>
            <p:nvPr/>
          </p:nvSpPr>
          <p:spPr>
            <a:xfrm>
              <a:off x="486000" y="1063800"/>
              <a:ext cx="553356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48"/>
            <p:cNvSpPr/>
            <p:nvPr/>
          </p:nvSpPr>
          <p:spPr>
            <a:xfrm>
              <a:off x="0" y="91440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9"/>
            <p:cNvSpPr/>
            <p:nvPr/>
          </p:nvSpPr>
          <p:spPr>
            <a:xfrm>
              <a:off x="925560" y="1239840"/>
              <a:ext cx="5019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0"/>
            <p:cNvSpPr/>
            <p:nvPr/>
          </p:nvSpPr>
          <p:spPr>
            <a:xfrm>
              <a:off x="246960" y="118692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14400" y="1752480"/>
            <a:ext cx="7792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ẶT KHÁCH QUAN CỦA VP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3733920"/>
            <a:ext cx="1944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HÀNH V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I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657600"/>
            <a:ext cx="2089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SỰ THIỆT HẠ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O XÃ H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3581280"/>
            <a:ext cx="2089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ỐI QUAN H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HÂN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19280" y="2973240"/>
            <a:ext cx="2448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8720" y="297324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2973240"/>
            <a:ext cx="28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06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429000" y="2362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581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49528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3657600"/>
            <a:ext cx="990360" cy="4572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Ỗ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048120"/>
            <a:ext cx="2666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ĐỘNG C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ỤC ĐÍ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37492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7524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30481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1523880"/>
            <a:ext cx="1905120" cy="203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Ố 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Ô 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65760" y="16765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438280"/>
            <a:ext cx="533160" cy="2819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124080"/>
            <a:ext cx="3657600" cy="3276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ỔI LÀ THƯỚ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ĐO CỦA TN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ỖI LÀ YẾU T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BẮT BUỘ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ỚI M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6095880"/>
            <a:ext cx="5334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572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533520" y="1523520"/>
            <a:ext cx="1980720" cy="4419720"/>
            <a:chOff x="533520" y="1523520"/>
            <a:chExt cx="1980720" cy="4419720"/>
          </a:xfrm>
        </p:grpSpPr>
        <p:pic>
          <p:nvPicPr>
            <p:cNvPr id="326" name="Picture 6" descr="shadow rectangle white inner"/>
            <p:cNvPicPr/>
            <p:nvPr/>
          </p:nvPicPr>
          <p:blipFill>
            <a:blip r:embed="rId1"/>
            <a:stretch/>
          </p:blipFill>
          <p:spPr>
            <a:xfrm rot="16200000">
              <a:off x="-685800" y="2742840"/>
              <a:ext cx="441972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7"/>
            <p:cNvSpPr/>
            <p:nvPr/>
          </p:nvSpPr>
          <p:spPr>
            <a:xfrm rot="16200000">
              <a:off x="945720" y="2518920"/>
              <a:ext cx="610920" cy="5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90720" y="304812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Ặ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3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62"/>
          <p:cNvGrpSpPr/>
          <p:nvPr/>
        </p:nvGrpSpPr>
        <p:grpSpPr>
          <a:xfrm>
            <a:off x="3657600" y="1905120"/>
            <a:ext cx="5181120" cy="1447560"/>
            <a:chOff x="3657600" y="1905120"/>
            <a:chExt cx="5181120" cy="1447560"/>
          </a:xfrm>
        </p:grpSpPr>
        <p:sp>
          <p:nvSpPr>
            <p:cNvPr id="344" name="AutoShape 47"/>
            <p:cNvSpPr/>
            <p:nvPr/>
          </p:nvSpPr>
          <p:spPr>
            <a:xfrm>
              <a:off x="4075920" y="2155680"/>
              <a:ext cx="47628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48"/>
            <p:cNvSpPr/>
            <p:nvPr/>
          </p:nvSpPr>
          <p:spPr>
            <a:xfrm>
              <a:off x="3657600" y="1905120"/>
              <a:ext cx="751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9"/>
            <p:cNvSpPr/>
            <p:nvPr/>
          </p:nvSpPr>
          <p:spPr>
            <a:xfrm>
              <a:off x="4455720" y="2449440"/>
              <a:ext cx="43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KHÔNG CÓ NĂNG LỰC TNPL, KHÔNG PHẢI LÀ CHỦ THỂ CỦA VPP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50"/>
            <p:cNvSpPr/>
            <p:nvPr/>
          </p:nvSpPr>
          <p:spPr>
            <a:xfrm>
              <a:off x="3854160" y="236376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62"/>
          <p:cNvGrpSpPr/>
          <p:nvPr/>
        </p:nvGrpSpPr>
        <p:grpSpPr>
          <a:xfrm>
            <a:off x="3657600" y="4267080"/>
            <a:ext cx="5181120" cy="1447920"/>
            <a:chOff x="3657600" y="4267080"/>
            <a:chExt cx="5181120" cy="1447920"/>
          </a:xfrm>
        </p:grpSpPr>
        <p:sp>
          <p:nvSpPr>
            <p:cNvPr id="349" name="AutoShape 47"/>
            <p:cNvSpPr/>
            <p:nvPr/>
          </p:nvSpPr>
          <p:spPr>
            <a:xfrm>
              <a:off x="4075920" y="4518000"/>
              <a:ext cx="47628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48"/>
            <p:cNvSpPr/>
            <p:nvPr/>
          </p:nvSpPr>
          <p:spPr>
            <a:xfrm>
              <a:off x="3657600" y="4267080"/>
              <a:ext cx="751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9"/>
            <p:cNvSpPr/>
            <p:nvPr/>
          </p:nvSpPr>
          <p:spPr>
            <a:xfrm>
              <a:off x="4454280" y="4811760"/>
              <a:ext cx="43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HỦ THỂ LÀ CÁ NHÂN, PHẢI XEM XÉT ĐỘ TUỔI, TRẠNG THÁI TÂM 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0"/>
            <p:cNvSpPr/>
            <p:nvPr/>
          </p:nvSpPr>
          <p:spPr>
            <a:xfrm>
              <a:off x="3852720" y="472608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276720" y="3581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3962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3"/>
          <p:cNvGrpSpPr/>
          <p:nvPr/>
        </p:nvGrpSpPr>
        <p:grpSpPr>
          <a:xfrm>
            <a:off x="0" y="1294920"/>
            <a:ext cx="3123720" cy="4876920"/>
            <a:chOff x="0" y="1294920"/>
            <a:chExt cx="3123720" cy="4876920"/>
          </a:xfrm>
        </p:grpSpPr>
        <p:pic>
          <p:nvPicPr>
            <p:cNvPr id="356" name="Picture 6" descr="shadow rectangle white inner"/>
            <p:cNvPicPr/>
            <p:nvPr/>
          </p:nvPicPr>
          <p:blipFill>
            <a:blip r:embed="rId1"/>
            <a:stretch/>
          </p:blipFill>
          <p:spPr>
            <a:xfrm rot="16200000">
              <a:off x="-876240" y="2171520"/>
              <a:ext cx="4876920" cy="31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7"/>
            <p:cNvSpPr/>
            <p:nvPr/>
          </p:nvSpPr>
          <p:spPr>
            <a:xfrm rot="16200000">
              <a:off x="823680" y="2227680"/>
              <a:ext cx="6105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85800" y="2286000"/>
            <a:ext cx="190512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Chủ thể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Là cá nhân hay tổ chức có năng lực trách nhiệm pháp 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6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52680" y="1905120"/>
            <a:ext cx="495324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À NHỮNG QUAN HỆ XÃ HỘI ĐƯỢC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UẬT BẢO VỆ NHƯNG BỊ HÀNH VI 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XÂM H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4343400"/>
            <a:ext cx="49528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ÍNH CHẤT CỦA KHÁCH THỂ  PHẢN Á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ỨC ĐỘ NGUY HIỂM CỦA HÀNH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905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HÁCH THỂ CỦA V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3623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5146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83908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388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62"/>
          <p:cNvGrpSpPr/>
          <p:nvPr/>
        </p:nvGrpSpPr>
        <p:grpSpPr>
          <a:xfrm>
            <a:off x="3886200" y="1447920"/>
            <a:ext cx="4800240" cy="1447560"/>
            <a:chOff x="3886200" y="1447920"/>
            <a:chExt cx="4800240" cy="1447560"/>
          </a:xfrm>
        </p:grpSpPr>
        <p:sp>
          <p:nvSpPr>
            <p:cNvPr id="393" name="AutoShape 47"/>
            <p:cNvSpPr/>
            <p:nvPr/>
          </p:nvSpPr>
          <p:spPr>
            <a:xfrm>
              <a:off x="4273920" y="1698480"/>
              <a:ext cx="441252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48"/>
            <p:cNvSpPr/>
            <p:nvPr/>
          </p:nvSpPr>
          <p:spPr>
            <a:xfrm>
              <a:off x="3886200" y="1447920"/>
              <a:ext cx="69624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9"/>
            <p:cNvSpPr/>
            <p:nvPr/>
          </p:nvSpPr>
          <p:spPr>
            <a:xfrm>
              <a:off x="4624560" y="1992240"/>
              <a:ext cx="400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VPPL HÌNH SỰ ( TỘI PHẠ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50"/>
            <p:cNvSpPr/>
            <p:nvPr/>
          </p:nvSpPr>
          <p:spPr>
            <a:xfrm>
              <a:off x="4063680" y="19065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2"/>
          <p:cNvGrpSpPr/>
          <p:nvPr/>
        </p:nvGrpSpPr>
        <p:grpSpPr>
          <a:xfrm>
            <a:off x="3962520" y="2438280"/>
            <a:ext cx="4647600" cy="1447920"/>
            <a:chOff x="3962520" y="2438280"/>
            <a:chExt cx="4647600" cy="1447920"/>
          </a:xfrm>
        </p:grpSpPr>
        <p:sp>
          <p:nvSpPr>
            <p:cNvPr id="398" name="AutoShape 47"/>
            <p:cNvSpPr/>
            <p:nvPr/>
          </p:nvSpPr>
          <p:spPr>
            <a:xfrm>
              <a:off x="4337640" y="2689200"/>
              <a:ext cx="427248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VPPL H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ÀNH CHÍN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8"/>
            <p:cNvSpPr/>
            <p:nvPr/>
          </p:nvSpPr>
          <p:spPr>
            <a:xfrm>
              <a:off x="3962520" y="2438280"/>
              <a:ext cx="6739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9"/>
            <p:cNvSpPr/>
            <p:nvPr/>
          </p:nvSpPr>
          <p:spPr>
            <a:xfrm>
              <a:off x="4677120" y="2982960"/>
              <a:ext cx="387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0"/>
            <p:cNvSpPr/>
            <p:nvPr/>
          </p:nvSpPr>
          <p:spPr>
            <a:xfrm>
              <a:off x="4130280" y="28972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62"/>
          <p:cNvGrpSpPr/>
          <p:nvPr/>
        </p:nvGrpSpPr>
        <p:grpSpPr>
          <a:xfrm>
            <a:off x="4191120" y="3505320"/>
            <a:ext cx="4343040" cy="1447560"/>
            <a:chOff x="4191120" y="3505320"/>
            <a:chExt cx="4343040" cy="1447560"/>
          </a:xfrm>
        </p:grpSpPr>
        <p:sp>
          <p:nvSpPr>
            <p:cNvPr id="403" name="AutoShape 47"/>
            <p:cNvSpPr/>
            <p:nvPr/>
          </p:nvSpPr>
          <p:spPr>
            <a:xfrm>
              <a:off x="4541760" y="3755880"/>
              <a:ext cx="39924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Verdana"/>
                </a:rPr>
                <a:t>VPPL D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ÂN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8"/>
            <p:cNvSpPr/>
            <p:nvPr/>
          </p:nvSpPr>
          <p:spPr>
            <a:xfrm>
              <a:off x="4191120" y="3505320"/>
              <a:ext cx="63000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4858920" y="4049640"/>
              <a:ext cx="362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0"/>
            <p:cNvSpPr/>
            <p:nvPr/>
          </p:nvSpPr>
          <p:spPr>
            <a:xfrm>
              <a:off x="4336560" y="39639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62"/>
          <p:cNvGrpSpPr/>
          <p:nvPr/>
        </p:nvGrpSpPr>
        <p:grpSpPr>
          <a:xfrm>
            <a:off x="4267080" y="4495680"/>
            <a:ext cx="4343040" cy="1447920"/>
            <a:chOff x="4267080" y="4495680"/>
            <a:chExt cx="4343040" cy="1447920"/>
          </a:xfrm>
        </p:grpSpPr>
        <p:sp>
          <p:nvSpPr>
            <p:cNvPr id="408" name="AutoShape 47"/>
            <p:cNvSpPr/>
            <p:nvPr/>
          </p:nvSpPr>
          <p:spPr>
            <a:xfrm>
              <a:off x="4617720" y="4746600"/>
              <a:ext cx="39924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VI PH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ẠM KỶ LUẬ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8"/>
            <p:cNvSpPr/>
            <p:nvPr/>
          </p:nvSpPr>
          <p:spPr>
            <a:xfrm>
              <a:off x="4267080" y="4495680"/>
              <a:ext cx="6300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49"/>
            <p:cNvSpPr/>
            <p:nvPr/>
          </p:nvSpPr>
          <p:spPr>
            <a:xfrm>
              <a:off x="4934880" y="5040360"/>
              <a:ext cx="362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0"/>
            <p:cNvSpPr/>
            <p:nvPr/>
          </p:nvSpPr>
          <p:spPr>
            <a:xfrm>
              <a:off x="4412520" y="49546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V="1">
            <a:off x="2666880" y="2209680"/>
            <a:ext cx="1295640" cy="1371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3581280"/>
            <a:ext cx="1600200" cy="1676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705040" y="3124080"/>
            <a:ext cx="1295640" cy="457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5040" y="3581280"/>
            <a:ext cx="1524240" cy="6098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514600"/>
            <a:ext cx="1523880" cy="21337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33720"/>
              <a:gd name="textAreaBottom" fmla="*/ 2059560 h 2133720"/>
            </a:gdLst>
            <a:ahLst/>
            <a:rect l="textAreaLeft" t="textAreaTop" r="textAreaRight" b="textAreaBottom"/>
            <a:pathLst>
              <a:path w="21600" h="30242">
                <a:moveTo>
                  <a:pt x="3600" y="0"/>
                </a:moveTo>
                <a:arcTo wR="3600" hR="3600" stAng="16200000" swAng="-5400000"/>
                <a:lnTo>
                  <a:pt x="0" y="26642"/>
                </a:lnTo>
                <a:arcTo wR="3600" hR="3600" stAng="10800000" swAng="-5400000"/>
                <a:lnTo>
                  <a:pt x="18000" y="3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ÂN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VI PH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ÁP LUẬ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671200">
            <a:off x="2060640" y="487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4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38280" y="5105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2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21932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HÁI N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2362320"/>
            <a:ext cx="6400800" cy="25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NPL LÀ TRÁCH NHIỆM CỦA CÁC CHỦ THỂ V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ƯỚC NHÀ NƯỚC,THỂ HIỆN Ở MỐI QUAN HỆ ĐẶ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ỆT GIỮA NN VỚI CHỦ THỂ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VPP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RONG ĐÓ CHỦ THỂ VPPL PH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GÁNH CHỊU NHỮNG HẬU QUẢ BẤ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LỢI VÀ NHỮNG BIỆN PHÁP CƯỠNG CHẾ C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NHÀ NƯỚ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981080"/>
            <a:ext cx="762120" cy="1447920"/>
          </a:xfrm>
          <a:custGeom>
            <a:avLst/>
            <a:gdLst>
              <a:gd name="textAreaLeft" fmla="*/ 101880 w 762120"/>
              <a:gd name="textAreaRight" fmla="*/ 660240 w 76212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67652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5943600" cy="12027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ONG HOẠT ĐỘNG NN CÓ MỘT SỐ BIỆN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ƯỠNG CHẾ NN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 ĐƯỢC ÁP DỤNG KHÔNG LIÊ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QUAN TỚI TRÁCH NHIỆ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5943600"/>
            <a:ext cx="1600200" cy="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LƯU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4038480"/>
            <a:ext cx="761760" cy="1447920"/>
          </a:xfrm>
          <a:custGeom>
            <a:avLst/>
            <a:gdLst>
              <a:gd name="textAreaLeft" fmla="*/ 101880 w 761760"/>
              <a:gd name="textAreaRight" fmla="*/ 659880 w 76176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52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9880" y="1752480"/>
            <a:ext cx="48006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Ơ SỞ CỦA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À 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2819520"/>
            <a:ext cx="48769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ỆC TRUY CỨU TNPL CHỈ DO CÁ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Ơ QUAN NN CÓ THẨM QUYỀN TIẾN HÀ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22840" y="3809880"/>
            <a:ext cx="486396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RÁCH NHIỆM PHÁP LÝ LUÔN GẮN LIỀ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VỚI BIỆN PHÁP CƯỠNG CHẾ NHÀ NƯỚ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22840" y="4851360"/>
            <a:ext cx="4787640" cy="939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RUY CỨU TNPL LÀ MỘT QUÁ TRÌNH HO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ĐỘNG PHỨC TẠP CỦA CƠ QUAN N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2286000"/>
            <a:ext cx="129528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Á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343400"/>
            <a:ext cx="13716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3124080"/>
            <a:ext cx="13716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5334120"/>
            <a:ext cx="0" cy="3808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52480" y="5715000"/>
            <a:ext cx="20574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2057400"/>
            <a:ext cx="0" cy="2286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2057400"/>
            <a:ext cx="190476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77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R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21932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752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ĂN CỨ TRUY CỨU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057400"/>
            <a:ext cx="22096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ẦN XÁC ĐỊ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ẤU THÀ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ỦA VI PHẠ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3429000"/>
            <a:ext cx="24386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ỜI HIỆU TRU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ỨU TR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Ý ĐỐI V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ỪNG TRƯỜNG HỢ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Ụ TH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38280" y="2286000"/>
            <a:ext cx="0" cy="1066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2209680"/>
            <a:ext cx="14479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38480" y="5029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TNPL SẼ CHẤM DỨT KHI CÓ SỰ KIỆN                        PHÁP LÝ THÍCH 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426708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83908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55308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499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50"/>
            <p:cNvSpPr/>
            <p:nvPr/>
          </p:nvSpPr>
          <p:spPr>
            <a:xfrm>
              <a:off x="280080" y="932760"/>
              <a:ext cx="43668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62"/>
          <p:cNvGrpSpPr/>
          <p:nvPr/>
        </p:nvGrpSpPr>
        <p:grpSpPr>
          <a:xfrm>
            <a:off x="3886200" y="1447920"/>
            <a:ext cx="4800240" cy="1447560"/>
            <a:chOff x="3886200" y="1447920"/>
            <a:chExt cx="4800240" cy="1447560"/>
          </a:xfrm>
        </p:grpSpPr>
        <p:sp>
          <p:nvSpPr>
            <p:cNvPr id="504" name="AutoShape 47"/>
            <p:cNvSpPr/>
            <p:nvPr/>
          </p:nvSpPr>
          <p:spPr>
            <a:xfrm>
              <a:off x="4273920" y="1698480"/>
              <a:ext cx="441252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48"/>
            <p:cNvSpPr/>
            <p:nvPr/>
          </p:nvSpPr>
          <p:spPr>
            <a:xfrm>
              <a:off x="3886200" y="1447920"/>
              <a:ext cx="69624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49"/>
            <p:cNvSpPr/>
            <p:nvPr/>
          </p:nvSpPr>
          <p:spPr>
            <a:xfrm>
              <a:off x="4624560" y="1992240"/>
              <a:ext cx="400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TNPL HÌNH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50"/>
            <p:cNvSpPr/>
            <p:nvPr/>
          </p:nvSpPr>
          <p:spPr>
            <a:xfrm>
              <a:off x="4063680" y="19065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62"/>
          <p:cNvGrpSpPr/>
          <p:nvPr/>
        </p:nvGrpSpPr>
        <p:grpSpPr>
          <a:xfrm>
            <a:off x="3962520" y="2438280"/>
            <a:ext cx="4647600" cy="1447920"/>
            <a:chOff x="3962520" y="2438280"/>
            <a:chExt cx="4647600" cy="1447920"/>
          </a:xfrm>
        </p:grpSpPr>
        <p:sp>
          <p:nvSpPr>
            <p:cNvPr id="509" name="AutoShape 47"/>
            <p:cNvSpPr/>
            <p:nvPr/>
          </p:nvSpPr>
          <p:spPr>
            <a:xfrm>
              <a:off x="4337640" y="2689200"/>
              <a:ext cx="427248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TNPL H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ÀNH CHÍN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48"/>
            <p:cNvSpPr/>
            <p:nvPr/>
          </p:nvSpPr>
          <p:spPr>
            <a:xfrm>
              <a:off x="3962520" y="2438280"/>
              <a:ext cx="6739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49"/>
            <p:cNvSpPr/>
            <p:nvPr/>
          </p:nvSpPr>
          <p:spPr>
            <a:xfrm>
              <a:off x="4677120" y="2982960"/>
              <a:ext cx="387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50"/>
            <p:cNvSpPr/>
            <p:nvPr/>
          </p:nvSpPr>
          <p:spPr>
            <a:xfrm>
              <a:off x="4130280" y="28972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2"/>
          <p:cNvGrpSpPr/>
          <p:nvPr/>
        </p:nvGrpSpPr>
        <p:grpSpPr>
          <a:xfrm>
            <a:off x="4191120" y="3505320"/>
            <a:ext cx="4343040" cy="1447560"/>
            <a:chOff x="4191120" y="3505320"/>
            <a:chExt cx="4343040" cy="1447560"/>
          </a:xfrm>
        </p:grpSpPr>
        <p:sp>
          <p:nvSpPr>
            <p:cNvPr id="514" name="AutoShape 47"/>
            <p:cNvSpPr/>
            <p:nvPr/>
          </p:nvSpPr>
          <p:spPr>
            <a:xfrm>
              <a:off x="4541760" y="3755880"/>
              <a:ext cx="39924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Verdana"/>
                </a:rPr>
                <a:t>TNPL D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ÂN S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48"/>
            <p:cNvSpPr/>
            <p:nvPr/>
          </p:nvSpPr>
          <p:spPr>
            <a:xfrm>
              <a:off x="4191120" y="3505320"/>
              <a:ext cx="63000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9"/>
            <p:cNvSpPr/>
            <p:nvPr/>
          </p:nvSpPr>
          <p:spPr>
            <a:xfrm>
              <a:off x="4858920" y="4049640"/>
              <a:ext cx="362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50"/>
            <p:cNvSpPr/>
            <p:nvPr/>
          </p:nvSpPr>
          <p:spPr>
            <a:xfrm>
              <a:off x="4336560" y="396396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62"/>
          <p:cNvGrpSpPr/>
          <p:nvPr/>
        </p:nvGrpSpPr>
        <p:grpSpPr>
          <a:xfrm>
            <a:off x="4267080" y="4495680"/>
            <a:ext cx="4343040" cy="1447920"/>
            <a:chOff x="4267080" y="4495680"/>
            <a:chExt cx="4343040" cy="1447920"/>
          </a:xfrm>
        </p:grpSpPr>
        <p:sp>
          <p:nvSpPr>
            <p:cNvPr id="519" name="AutoShape 47"/>
            <p:cNvSpPr/>
            <p:nvPr/>
          </p:nvSpPr>
          <p:spPr>
            <a:xfrm>
              <a:off x="4617720" y="4746600"/>
              <a:ext cx="39924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Verdana"/>
                </a:rPr>
                <a:t>TN K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Ỷ LUẬT V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TN VẬT CHẤ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8"/>
            <p:cNvSpPr/>
            <p:nvPr/>
          </p:nvSpPr>
          <p:spPr>
            <a:xfrm>
              <a:off x="4267080" y="4495680"/>
              <a:ext cx="6300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49"/>
            <p:cNvSpPr/>
            <p:nvPr/>
          </p:nvSpPr>
          <p:spPr>
            <a:xfrm>
              <a:off x="4934880" y="5040360"/>
              <a:ext cx="362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50"/>
            <p:cNvSpPr/>
            <p:nvPr/>
          </p:nvSpPr>
          <p:spPr>
            <a:xfrm>
              <a:off x="4412520" y="4954680"/>
              <a:ext cx="319320" cy="5205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666880" y="2209680"/>
            <a:ext cx="1295640" cy="1371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3581280"/>
            <a:ext cx="1600200" cy="167652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705040" y="3124080"/>
            <a:ext cx="1295640" cy="4572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05040" y="3581280"/>
            <a:ext cx="1524240" cy="60984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2514600"/>
            <a:ext cx="1752480" cy="21337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133720"/>
              <a:gd name="textAreaBottom" fmla="*/ 2048400 h 2133720"/>
            </a:gdLst>
            <a:ahLst/>
            <a:rect l="textAreaLeft" t="textAreaTop" r="textAreaRight" b="textAreaBottom"/>
            <a:pathLst>
              <a:path w="21600" h="26298">
                <a:moveTo>
                  <a:pt x="3600" y="0"/>
                </a:moveTo>
                <a:arcTo wR="3600" hR="3600" stAng="16200000" swAng="-5400000"/>
                <a:lnTo>
                  <a:pt x="0" y="22698"/>
                </a:lnTo>
                <a:arcTo wR="3600" hR="3600" stAng="10800000" swAng="-5400000"/>
                <a:lnTo>
                  <a:pt x="18000" y="26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HÂN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TR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671200">
            <a:off x="2060640" y="4875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4 LO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438280" y="5105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60199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ương ứng với 4 loại VPP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ó 4 loại TN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9480" y="640080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47680" y="841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RÁCH NHIỆM PHÁP 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057400"/>
            <a:ext cx="449568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ỰC HIỆN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971800"/>
            <a:ext cx="4572000" cy="1143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VI PHẠM PHÁP L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886200"/>
            <a:ext cx="472428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RÁCH NHIỆM PHÁP 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8400" y="2590920"/>
            <a:ext cx="0" cy="403848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019920"/>
            <a:ext cx="5181480" cy="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93760"/>
            <a:ext cx="3809880" cy="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838080"/>
            <a:ext cx="0" cy="3581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61722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1722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1295280" y="9907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4"/>
          <p:cNvSpPr/>
          <p:nvPr/>
        </p:nvSpPr>
        <p:spPr>
          <a:xfrm>
            <a:off x="1981080" y="1743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header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533520" y="3441600"/>
            <a:ext cx="0" cy="32767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440" y="6324480"/>
            <a:ext cx="3962520" cy="0"/>
          </a:xfrm>
          <a:prstGeom prst="line">
            <a:avLst/>
          </a:prstGeom>
          <a:ln w="1908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1016800">
            <a:off x="1600200" y="34286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CHÚC CÁC EM HỌC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"/>
          <p:cNvSpPr/>
          <p:nvPr/>
        </p:nvSpPr>
        <p:spPr>
          <a:xfrm>
            <a:off x="990720" y="762120"/>
            <a:ext cx="5303880" cy="806400"/>
          </a:xfrm>
          <a:prstGeom prst="pie">
            <a:avLst/>
          </a:prstGeom>
          <a:gradFill rotWithShape="0">
            <a:gsLst>
              <a:gs pos="0">
                <a:srgbClr val="bbe0e3"/>
              </a:gs>
              <a:gs pos="50000">
                <a:srgbClr val="b4e8c5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92400">
            <a:off x="761760" y="1523880"/>
            <a:ext cx="36576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ET CAU NOI 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2"/>
          <p:cNvGrpSpPr/>
          <p:nvPr/>
        </p:nvGrpSpPr>
        <p:grpSpPr>
          <a:xfrm>
            <a:off x="2057400" y="2362320"/>
            <a:ext cx="6172200" cy="1447560"/>
            <a:chOff x="2057400" y="2362320"/>
            <a:chExt cx="6172200" cy="1447560"/>
          </a:xfrm>
        </p:grpSpPr>
        <p:sp>
          <p:nvSpPr>
            <p:cNvPr id="70" name="AutoShape 47"/>
            <p:cNvSpPr/>
            <p:nvPr/>
          </p:nvSpPr>
          <p:spPr>
            <a:xfrm>
              <a:off x="2556000" y="2612880"/>
              <a:ext cx="56736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8"/>
            <p:cNvSpPr/>
            <p:nvPr/>
          </p:nvSpPr>
          <p:spPr>
            <a:xfrm>
              <a:off x="2057400" y="2362320"/>
              <a:ext cx="895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9"/>
            <p:cNvSpPr/>
            <p:nvPr/>
          </p:nvSpPr>
          <p:spPr>
            <a:xfrm>
              <a:off x="3006720" y="2906640"/>
              <a:ext cx="5146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0"/>
            <p:cNvSpPr/>
            <p:nvPr/>
          </p:nvSpPr>
          <p:spPr>
            <a:xfrm>
              <a:off x="2356920" y="28209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2"/>
          <p:cNvGrpSpPr/>
          <p:nvPr/>
        </p:nvGrpSpPr>
        <p:grpSpPr>
          <a:xfrm>
            <a:off x="1676520" y="3581280"/>
            <a:ext cx="6172200" cy="1447920"/>
            <a:chOff x="1676520" y="3581280"/>
            <a:chExt cx="6172200" cy="1447920"/>
          </a:xfrm>
        </p:grpSpPr>
        <p:sp>
          <p:nvSpPr>
            <p:cNvPr id="75" name="AutoShape 47"/>
            <p:cNvSpPr/>
            <p:nvPr/>
          </p:nvSpPr>
          <p:spPr>
            <a:xfrm>
              <a:off x="2175120" y="3832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1600" spc="-1" strike="noStrike">
                  <a:solidFill>
                    <a:srgbClr val="cc0066"/>
                  </a:solidFill>
                  <a:latin typeface="Verdana"/>
                </a:rPr>
                <a:t>KHAI NIEM, DAC DIEM QUAN HE PHAP LU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8"/>
            <p:cNvSpPr/>
            <p:nvPr/>
          </p:nvSpPr>
          <p:spPr>
            <a:xfrm>
              <a:off x="1676520" y="3581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9"/>
            <p:cNvSpPr/>
            <p:nvPr/>
          </p:nvSpPr>
          <p:spPr>
            <a:xfrm>
              <a:off x="2625840" y="4125960"/>
              <a:ext cx="5146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0"/>
            <p:cNvSpPr/>
            <p:nvPr/>
          </p:nvSpPr>
          <p:spPr>
            <a:xfrm>
              <a:off x="1976040" y="40402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62"/>
          <p:cNvGrpSpPr/>
          <p:nvPr/>
        </p:nvGrpSpPr>
        <p:grpSpPr>
          <a:xfrm>
            <a:off x="1676520" y="3581280"/>
            <a:ext cx="6172200" cy="1447920"/>
            <a:chOff x="1676520" y="3581280"/>
            <a:chExt cx="6172200" cy="1447920"/>
          </a:xfrm>
        </p:grpSpPr>
        <p:sp>
          <p:nvSpPr>
            <p:cNvPr id="80" name="AutoShape 47"/>
            <p:cNvSpPr/>
            <p:nvPr/>
          </p:nvSpPr>
          <p:spPr>
            <a:xfrm>
              <a:off x="2175120" y="3832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cc0066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cc0066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8"/>
            <p:cNvSpPr/>
            <p:nvPr/>
          </p:nvSpPr>
          <p:spPr>
            <a:xfrm>
              <a:off x="1676520" y="3581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9"/>
            <p:cNvSpPr/>
            <p:nvPr/>
          </p:nvSpPr>
          <p:spPr>
            <a:xfrm>
              <a:off x="2625840" y="4125960"/>
              <a:ext cx="5146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0"/>
            <p:cNvSpPr/>
            <p:nvPr/>
          </p:nvSpPr>
          <p:spPr>
            <a:xfrm>
              <a:off x="1934280" y="4040280"/>
              <a:ext cx="35136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2"/>
          <p:cNvGrpSpPr/>
          <p:nvPr/>
        </p:nvGrpSpPr>
        <p:grpSpPr>
          <a:xfrm>
            <a:off x="1295280" y="4724280"/>
            <a:ext cx="6172200" cy="1447920"/>
            <a:chOff x="1295280" y="4724280"/>
            <a:chExt cx="6172200" cy="1447920"/>
          </a:xfrm>
        </p:grpSpPr>
        <p:sp>
          <p:nvSpPr>
            <p:cNvPr id="85" name="AutoShape 47"/>
            <p:cNvSpPr/>
            <p:nvPr/>
          </p:nvSpPr>
          <p:spPr>
            <a:xfrm>
              <a:off x="1793880" y="4975200"/>
              <a:ext cx="567360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cc0066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8"/>
            <p:cNvSpPr/>
            <p:nvPr/>
          </p:nvSpPr>
          <p:spPr>
            <a:xfrm>
              <a:off x="1295280" y="4724280"/>
              <a:ext cx="89532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cc0066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2244600" y="5268960"/>
              <a:ext cx="51465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RÁCH NHIỆM PHÁP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1510920" y="5183280"/>
              <a:ext cx="436680" cy="4597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2"/>
          <p:cNvGrpSpPr/>
          <p:nvPr/>
        </p:nvGrpSpPr>
        <p:grpSpPr>
          <a:xfrm>
            <a:off x="76320" y="660240"/>
            <a:ext cx="6172200" cy="863640"/>
            <a:chOff x="76320" y="660240"/>
            <a:chExt cx="6172200" cy="863640"/>
          </a:xfrm>
        </p:grpSpPr>
        <p:sp>
          <p:nvSpPr>
            <p:cNvPr id="99" name="AutoShape 47"/>
            <p:cNvSpPr/>
            <p:nvPr/>
          </p:nvSpPr>
          <p:spPr>
            <a:xfrm>
              <a:off x="574920" y="809640"/>
              <a:ext cx="56736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8"/>
            <p:cNvSpPr/>
            <p:nvPr/>
          </p:nvSpPr>
          <p:spPr>
            <a:xfrm>
              <a:off x="76320" y="660240"/>
              <a:ext cx="89532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1025640" y="985680"/>
              <a:ext cx="5146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0"/>
            <p:cNvSpPr/>
            <p:nvPr/>
          </p:nvSpPr>
          <p:spPr>
            <a:xfrm>
              <a:off x="375840" y="9327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1523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KHÁI N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1280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057400"/>
            <a:ext cx="6705360" cy="19051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ỰC HIỆN PHÁP LUẬT L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ỘT QUÁ TRÌNH HO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ĐỘNG CÓ MỤC ĐÍCH LÀM CHO NHỮNG QUI ĐỊ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ỦA PHÁP LUẬT ĐI VÀO CUỘC SỐNG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RỞ THÀ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HỮNG HÀNH VI THỰC TẾ HỢP PHÁP CỦA CÁ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Ủ THỂ PHÁP LUẬ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1160" y="181620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62"/>
          <p:cNvGrpSpPr/>
          <p:nvPr/>
        </p:nvGrpSpPr>
        <p:grpSpPr>
          <a:xfrm>
            <a:off x="1676520" y="3962520"/>
            <a:ext cx="6172200" cy="1447560"/>
            <a:chOff x="1676520" y="3962520"/>
            <a:chExt cx="6172200" cy="1447560"/>
          </a:xfrm>
        </p:grpSpPr>
        <p:sp>
          <p:nvSpPr>
            <p:cNvPr id="112" name="AutoShape 47"/>
            <p:cNvSpPr/>
            <p:nvPr/>
          </p:nvSpPr>
          <p:spPr>
            <a:xfrm>
              <a:off x="2175120" y="4213080"/>
              <a:ext cx="5673600" cy="96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48"/>
            <p:cNvSpPr/>
            <p:nvPr/>
          </p:nvSpPr>
          <p:spPr>
            <a:xfrm>
              <a:off x="1676520" y="3962520"/>
              <a:ext cx="895320" cy="144756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9"/>
            <p:cNvSpPr/>
            <p:nvPr/>
          </p:nvSpPr>
          <p:spPr>
            <a:xfrm>
              <a:off x="2625840" y="4506840"/>
              <a:ext cx="514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66"/>
                  </a:solidFill>
                  <a:latin typeface="Arial"/>
                </a:rPr>
                <a:t>PHÁP LUẬT CHỈ CÓ Ý NGHĨA ĐÍCH THỰC KHI ĐƯỢC THỰC HIỆ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0"/>
            <p:cNvSpPr/>
            <p:nvPr/>
          </p:nvSpPr>
          <p:spPr>
            <a:xfrm>
              <a:off x="1940040" y="442116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2"/>
          <p:cNvGrpSpPr/>
          <p:nvPr/>
        </p:nvGrpSpPr>
        <p:grpSpPr>
          <a:xfrm>
            <a:off x="1219320" y="4952880"/>
            <a:ext cx="7086240" cy="1447920"/>
            <a:chOff x="1219320" y="4952880"/>
            <a:chExt cx="7086240" cy="1447920"/>
          </a:xfrm>
        </p:grpSpPr>
        <p:sp>
          <p:nvSpPr>
            <p:cNvPr id="117" name="AutoShape 47"/>
            <p:cNvSpPr/>
            <p:nvPr/>
          </p:nvSpPr>
          <p:spPr>
            <a:xfrm>
              <a:off x="1791720" y="5203800"/>
              <a:ext cx="6513840" cy="96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ỰC HIÊN PHÁP LUẬT LÀ HÀNH VI CỦ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99"/>
                  </a:solidFill>
                  <a:latin typeface="Arial"/>
                </a:rPr>
                <a:t>NGƯỜI PHÙ HỢP VỚI QUI ĐỊNH CỦA PHÁP LUẬ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8"/>
            <p:cNvSpPr/>
            <p:nvPr/>
          </p:nvSpPr>
          <p:spPr>
            <a:xfrm>
              <a:off x="1219320" y="4952880"/>
              <a:ext cx="1027800" cy="144792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2309040" y="5497560"/>
              <a:ext cx="5908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0"/>
            <p:cNvSpPr/>
            <p:nvPr/>
          </p:nvSpPr>
          <p:spPr>
            <a:xfrm>
              <a:off x="1545840" y="5411880"/>
              <a:ext cx="339120" cy="581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14400" y="3581280"/>
            <a:ext cx="914400" cy="1752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132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T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ỰC HIỆN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0"/>
            <p:cNvSpPr/>
            <p:nvPr/>
          </p:nvSpPr>
          <p:spPr>
            <a:xfrm>
              <a:off x="365040" y="932760"/>
              <a:ext cx="26604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066680" y="160020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ÁC HÌNH THỨC THỰC HIỆN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705040"/>
            <a:ext cx="121932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4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VNI-Times"/>
              </a:rPr>
              <a:t>hợ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Ự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981080"/>
            <a:ext cx="3429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 Black"/>
              </a:rPr>
              <a:t>TU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ÂN THỦ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200400"/>
            <a:ext cx="3429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THI 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ÀNH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381560"/>
            <a:ext cx="3505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Ử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600880"/>
            <a:ext cx="358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ÁP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05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14400" y="23241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324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543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762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7652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1447920"/>
            <a:ext cx="1447560" cy="380988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3809880"/>
              <a:gd name="textAreaBottom" fmla="*/ 3716280 h 3809880"/>
            </a:gdLst>
            <a:ahLst/>
            <a:rect l="textAreaLeft" t="textAreaTop" r="textAreaRight" b="textAreaBottom"/>
            <a:pathLst>
              <a:path w="21600" h="56841">
                <a:moveTo>
                  <a:pt x="0" y="0"/>
                </a:moveTo>
                <a:lnTo>
                  <a:pt x="21600" y="0"/>
                </a:lnTo>
                <a:lnTo>
                  <a:pt x="21600" y="56841"/>
                </a:lnTo>
                <a:lnTo>
                  <a:pt x="0" y="56841"/>
                </a:lnTo>
                <a:close/>
              </a:path>
              <a:path fill="lightenLess" w="21600" h="56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6841">
                <a:moveTo>
                  <a:pt x="21600" y="0"/>
                </a:moveTo>
                <a:lnTo>
                  <a:pt x="21600" y="56841"/>
                </a:lnTo>
                <a:lnTo>
                  <a:pt x="20200" y="55441"/>
                </a:lnTo>
                <a:lnTo>
                  <a:pt x="20200" y="1400"/>
                </a:lnTo>
                <a:close/>
              </a:path>
              <a:path fill="darkenLess" w="21600" h="56841">
                <a:moveTo>
                  <a:pt x="21600" y="56841"/>
                </a:moveTo>
                <a:lnTo>
                  <a:pt x="0" y="56841"/>
                </a:lnTo>
                <a:lnTo>
                  <a:pt x="1400" y="55441"/>
                </a:lnTo>
                <a:lnTo>
                  <a:pt x="20200" y="55441"/>
                </a:lnTo>
                <a:close/>
              </a:path>
              <a:path fill="lighten" w="21600" h="56841">
                <a:moveTo>
                  <a:pt x="0" y="56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55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ÁP DỤ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UẬT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Ì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Ứ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Ự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UÔN C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Ự TH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IA 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HÀ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4952880"/>
            <a:ext cx="1752480" cy="1143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6070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3320" y="2654280"/>
            <a:ext cx="12193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NI-Times"/>
              </a:rPr>
              <a:t>4TRƯỜ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NI-Times"/>
              </a:rPr>
              <a:t>HỢ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P DỤ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37040" y="1930320"/>
            <a:ext cx="5168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 Black"/>
              </a:rPr>
              <a:t>KHI C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ẦN ÁP DỤNG CÁC BIỆN PHÁP CƯ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CHẾ NN HOẶC ÁP DỤNG CÁC CHẾ TÀI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7040" y="3111480"/>
            <a:ext cx="5168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KHI QU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ỀN VÀ NGHĨA VỤ PHÁP LÝ KHÔ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ẶC NHIÊN PHÁT SINH,THAY ĐỔI,CHẤM D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ẾU KHÔNG CÓ SỰ CAN THIỆP CỦA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7040" y="4330800"/>
            <a:ext cx="52448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 Black"/>
              </a:rPr>
              <a:t>KHI X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ẢY RA TRANH CHẤP VỀ QUYỀN V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GHĨA VỤ PHÁP LÝ GIỮA CÁC BÊN THAM 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QHPL MÀ HỌ KHÔNG TỰ GIẢI QUYẾT ĐƯỢ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7040" y="5549760"/>
            <a:ext cx="52448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ONG MỘT SỐ QHPL MÀ NN THẤY CẦN THIẾ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ẢI THAM GIA ĐỂ KIỂM TRA,GIÁM SÁ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36840" y="55119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5969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536840" y="227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36840" y="2273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22640" y="3492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22640" y="4711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219320"/>
            <a:ext cx="609624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HỮNG TRƯỜNG HỢP CẦN ÁP DỤNG 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06360" y="1371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371600"/>
            <a:ext cx="53316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373392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705720"/>
            <a:ext cx="43434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185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080" y="1676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KHÁI NIỆ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7524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286000"/>
            <a:ext cx="2971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 PHẠM PL LÀ HÀNH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ÁI PHÁP LUẬT, CÓ LỖ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CHỦ THỂ CÓ NĂ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ỰC TRÁCH NHIỆ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ÁP LÝ THỰC 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ÂM HẠI CÁC QUAN H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Ã HỘI ĐƯỢC PHÁ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ẬT BẢO V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2819520"/>
            <a:ext cx="29718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 PHẠM PL CÓ THỂ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ÀNH VI TRÁI PHÁ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UẬT CỦA CÁ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Á NHÂ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ŨNG CÓ TH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À HOẠT ĐỘNG CỦ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ÁC CƠ QUAN NH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ƯỚC, CÁC TỔ CHỨ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Ã H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0574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ƯU 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63244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0" y="5791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07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886200" y="1752480"/>
            <a:ext cx="41148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À HÀNH VI XÁC ĐỊ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ỦA CON NGƯỜ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2819520"/>
            <a:ext cx="419112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À HÀNH VI TRÁI PL XÂM H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ỚI CÁC QHXH ĐƯỢC PL BẢO V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22840" y="3809880"/>
            <a:ext cx="425448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VNI-Times"/>
              </a:rPr>
              <a:t>VPPL L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À HÀNH VI CHỨA ĐỰNG LỖ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ỦA CHỦ THỂ THỰC H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2840" y="4851360"/>
            <a:ext cx="440676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NI-Times"/>
              </a:rPr>
              <a:t>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Ủ THỂ THỰC HIỆN HÀNH VI PH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Ó NĂNG LỰC TRÁCH NHIỆM PHÁP 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666880"/>
            <a:ext cx="2057400" cy="16200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ÁC DẤU H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Ơ BẢN C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 PH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HÁP LU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3390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4034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66880" y="2082960"/>
            <a:ext cx="12193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429000"/>
            <a:ext cx="11430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152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À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60520" y="533520"/>
            <a:ext cx="6858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28600"/>
            <a:ext cx="30456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8600"/>
            <a:ext cx="30492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63120" y="3581280"/>
            <a:ext cx="0" cy="3200400"/>
          </a:xfrm>
          <a:prstGeom prst="line">
            <a:avLst/>
          </a:prstGeom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6400800"/>
            <a:ext cx="43434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6553080"/>
            <a:ext cx="30456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6553080"/>
            <a:ext cx="30492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62"/>
          <p:cNvGrpSpPr/>
          <p:nvPr/>
        </p:nvGrpSpPr>
        <p:grpSpPr>
          <a:xfrm>
            <a:off x="76320" y="660240"/>
            <a:ext cx="6019200" cy="863640"/>
            <a:chOff x="76320" y="660240"/>
            <a:chExt cx="6019200" cy="863640"/>
          </a:xfrm>
        </p:grpSpPr>
        <p:sp>
          <p:nvSpPr>
            <p:cNvPr id="230" name="AutoShape 47"/>
            <p:cNvSpPr/>
            <p:nvPr/>
          </p:nvSpPr>
          <p:spPr>
            <a:xfrm>
              <a:off x="562320" y="809640"/>
              <a:ext cx="5533200" cy="57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99cc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Verdana"/>
                </a:rPr>
                <a:t>VI PH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ẠM PHÁP LUẬ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8"/>
            <p:cNvSpPr/>
            <p:nvPr/>
          </p:nvSpPr>
          <p:spPr>
            <a:xfrm>
              <a:off x="76320" y="660240"/>
              <a:ext cx="873000" cy="863640"/>
            </a:xfrm>
            <a:prstGeom prst="diamond">
              <a:avLst/>
            </a:prstGeom>
            <a:solidFill>
              <a:srgbClr val="bbe0e3"/>
            </a:solidFill>
            <a:ln w="25560">
              <a:solidFill>
                <a:srgbClr val="99cc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9"/>
            <p:cNvSpPr/>
            <p:nvPr/>
          </p:nvSpPr>
          <p:spPr>
            <a:xfrm>
              <a:off x="1001880" y="985680"/>
              <a:ext cx="501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0"/>
            <p:cNvSpPr/>
            <p:nvPr/>
          </p:nvSpPr>
          <p:spPr>
            <a:xfrm>
              <a:off x="322920" y="932760"/>
              <a:ext cx="351360" cy="4597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981080" y="2286000"/>
            <a:ext cx="609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236232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22860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ọi hành vi vi phạm pháp luật đều là hành vi trái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ọi hành vi trái  pháp luật đều là hành vi vi phạm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ự thiệt hại về vật chất là dấu hiệu bắt buộc của vi phạm pháp lu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286000"/>
            <a:ext cx="990360" cy="38098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3809880"/>
              <a:gd name="textAreaBottom" fmla="*/ 3745800 h 3809880"/>
            </a:gdLst>
            <a:ahLst/>
            <a:rect l="textAreaLeft" t="textAreaTop" r="textAreaRight" b="textAreaBottom"/>
            <a:pathLst>
              <a:path w="21600" h="83072">
                <a:moveTo>
                  <a:pt x="0" y="0"/>
                </a:moveTo>
                <a:lnTo>
                  <a:pt x="21600" y="0"/>
                </a:lnTo>
                <a:lnTo>
                  <a:pt x="21600" y="83072"/>
                </a:lnTo>
                <a:lnTo>
                  <a:pt x="0" y="83072"/>
                </a:lnTo>
                <a:close/>
              </a:path>
              <a:path fill="lightenLess" w="21600" h="83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072">
                <a:moveTo>
                  <a:pt x="21600" y="0"/>
                </a:moveTo>
                <a:lnTo>
                  <a:pt x="21600" y="83072"/>
                </a:lnTo>
                <a:lnTo>
                  <a:pt x="20200" y="81672"/>
                </a:lnTo>
                <a:lnTo>
                  <a:pt x="20200" y="1400"/>
                </a:lnTo>
                <a:close/>
              </a:path>
              <a:path fill="darkenLess" w="21600" h="83072">
                <a:moveTo>
                  <a:pt x="21600" y="83072"/>
                </a:moveTo>
                <a:lnTo>
                  <a:pt x="0" y="83072"/>
                </a:lnTo>
                <a:lnTo>
                  <a:pt x="1400" y="81672"/>
                </a:lnTo>
                <a:lnTo>
                  <a:pt x="20200" y="81672"/>
                </a:lnTo>
                <a:close/>
              </a:path>
              <a:path fill="lighten" w="21600" h="83072">
                <a:moveTo>
                  <a:pt x="0" y="83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81672"/>
                </a:lnTo>
                <a:close/>
              </a:path>
              <a:path fill="darken" w="21600" h="83072">
                <a:moveTo>
                  <a:pt x="10800" y="455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83072">
                <a:moveTo>
                  <a:pt x="11905" y="45018"/>
                </a:moveTo>
                <a:lnTo>
                  <a:pt x="11905" y="43059"/>
                </a:lnTo>
                <a:cubicBezTo>
                  <a:pt x="11905" y="42232"/>
                  <a:pt x="12236" y="41536"/>
                  <a:pt x="12837" y="41536"/>
                </a:cubicBezTo>
                <a:cubicBezTo>
                  <a:pt x="13968" y="41536"/>
                  <a:pt x="14865" y="40170"/>
                  <a:pt x="14865" y="38585"/>
                </a:cubicBezTo>
                <a:cubicBezTo>
                  <a:pt x="14865" y="36270"/>
                  <a:pt x="13011" y="34530"/>
                  <a:pt x="10800" y="34530"/>
                </a:cubicBezTo>
                <a:cubicBezTo>
                  <a:pt x="8589" y="34530"/>
                  <a:pt x="6918" y="36270"/>
                  <a:pt x="6918" y="38585"/>
                </a:cubicBezTo>
                <a:lnTo>
                  <a:pt x="8772" y="38585"/>
                </a:lnTo>
                <a:cubicBezTo>
                  <a:pt x="8772" y="37445"/>
                  <a:pt x="9695" y="36558"/>
                  <a:pt x="10800" y="36558"/>
                </a:cubicBezTo>
                <a:cubicBezTo>
                  <a:pt x="11905" y="36558"/>
                  <a:pt x="12837" y="37445"/>
                  <a:pt x="12837" y="38585"/>
                </a:cubicBezTo>
                <a:cubicBezTo>
                  <a:pt x="12837" y="39325"/>
                  <a:pt x="12367" y="40056"/>
                  <a:pt x="11905" y="40056"/>
                </a:cubicBezTo>
                <a:cubicBezTo>
                  <a:pt x="10800" y="40056"/>
                  <a:pt x="9695" y="41536"/>
                  <a:pt x="9695" y="43059"/>
                </a:cubicBezTo>
                <a:lnTo>
                  <a:pt x="9695" y="45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37:01Z</dcterms:created>
  <dc:creator>User</dc:creator>
  <dc:description/>
  <dc:language>en-US</dc:language>
  <cp:lastModifiedBy>Nguyen Huy Khanh</cp:lastModifiedBy>
  <dcterms:modified xsi:type="dcterms:W3CDTF">2010-08-20T06:45:33Z</dcterms:modified>
  <cp:revision>121</cp:revision>
  <dc:subject/>
  <dc:title>Slide 1</dc:title>
</cp:coreProperties>
</file>