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16C-3CFA-48CD-8C2D-4CC160E8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E67-4D68-434B-9CDA-474FABB8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B37-0990-49DA-A3A9-D2C0F7DF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583-8CEF-462D-BA27-25D42006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AA0-380C-4C5B-8A7A-050532F9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851-8247-48AF-ACF0-40382D4F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D8C-D983-4467-893A-74DEADF5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BB1-25D0-4A6A-98DA-446099E2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C59-5C71-49D2-BB65-5C30ED64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F85-9A75-4D3B-A483-3FB0DAB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56B-FA67-45DA-9BD5-AAEC5BBE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B87-0A1C-4265-9E98-F9FC112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B162-893B-4487-91BD-29A6346DB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50000">
                <a:srgbClr val="b4e8c5"/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header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438280"/>
            <a:ext cx="1447920" cy="3682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MÔN HỌ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3352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ÁP LUẬT ĐẠI C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441600"/>
            <a:ext cx="0" cy="32767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440" y="6324480"/>
            <a:ext cx="3962520" cy="0"/>
          </a:xfrm>
          <a:prstGeom prst="line">
            <a:avLst/>
          </a:prstGeom>
          <a:ln w="1908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071080" y="1963080"/>
            <a:ext cx="6696000" cy="4645080"/>
            <a:chOff x="2071080" y="1963080"/>
            <a:chExt cx="6696000" cy="4645080"/>
          </a:xfrm>
        </p:grpSpPr>
        <p:grpSp>
          <p:nvGrpSpPr>
            <p:cNvPr id="248" name=""/>
            <p:cNvGrpSpPr/>
            <p:nvPr/>
          </p:nvGrpSpPr>
          <p:grpSpPr>
            <a:xfrm>
              <a:off x="2071080" y="1963080"/>
              <a:ext cx="6696000" cy="4645080"/>
              <a:chOff x="2071080" y="1963080"/>
              <a:chExt cx="6696000" cy="4645080"/>
            </a:xfrm>
          </p:grpSpPr>
          <p:sp>
            <p:nvSpPr>
              <p:cNvPr id="249" name=""/>
              <p:cNvSpPr/>
              <p:nvPr/>
            </p:nvSpPr>
            <p:spPr>
              <a:xfrm>
                <a:off x="2133720" y="1981080"/>
                <a:ext cx="6552360" cy="4543200"/>
              </a:xfrm>
              <a:prstGeom prst="ellipse">
                <a:avLst/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071080" y="1963080"/>
                <a:ext cx="6696000" cy="4645080"/>
                <a:chOff x="2071080" y="1963080"/>
                <a:chExt cx="6696000" cy="46450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003920" y="3178440"/>
                  <a:ext cx="2880360" cy="2044080"/>
                </a:xfrm>
                <a:prstGeom prst="ellipse">
                  <a:avLst/>
                </a:prstGeom>
                <a:solidFill>
                  <a:srgbClr val="ff66ff"/>
                </a:solidFill>
                <a:ln w="38160">
                  <a:solidFill>
                    <a:srgbClr val="0000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540680" y="3558240"/>
                  <a:ext cx="1801440" cy="1249200"/>
                </a:xfrm>
                <a:prstGeom prst="ellipse">
                  <a:avLst/>
                </a:prstGeom>
                <a:solidFill>
                  <a:srgbClr val="ffff00"/>
                </a:solidFill>
                <a:ln w="38160">
                  <a:solidFill>
                    <a:srgbClr val="ff00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3300"/>
                      </a:solidFill>
                      <a:latin typeface=".VnArial"/>
                      <a:ea typeface="Arial"/>
                    </a:rPr>
                    <a:t>C</a:t>
                  </a:r>
                  <a:r>
                    <a:rPr b="1" i="1" lang="en-US" sz="2000" spc="-1" strike="noStrike">
                      <a:solidFill>
                        <a:srgbClr val="ff3300"/>
                      </a:solidFill>
                      <a:latin typeface="Arial"/>
                    </a:rPr>
                    <a:t>ẤU THÀNH VPP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884280" y="3486240"/>
                  <a:ext cx="1801440" cy="1248840"/>
                </a:xfrm>
                <a:prstGeom prst="ellipse">
                  <a:avLst/>
                </a:prstGeom>
                <a:solidFill>
                  <a:srgbClr val="9933ff"/>
                </a:solidFill>
                <a:ln w="0">
                  <a:noFill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.VnArial"/>
                      <a:ea typeface="Arial"/>
                    </a:rPr>
                    <a:t>CH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Ủ THỂ CỦA VPP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645080" y="5303520"/>
                  <a:ext cx="1801800" cy="1248840"/>
                </a:xfrm>
                <a:prstGeom prst="ellipse">
                  <a:avLst/>
                </a:prstGeom>
                <a:solidFill>
                  <a:srgbClr val="9933ff"/>
                </a:solidFill>
                <a:ln w="0">
                  <a:noFill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.VnArial"/>
                      <a:ea typeface="Arial"/>
                    </a:rPr>
                    <a:t>M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ẶT CHỦ QUA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133720" y="3525480"/>
                  <a:ext cx="1863360" cy="1248840"/>
                </a:xfrm>
                <a:prstGeom prst="ellipse">
                  <a:avLst/>
                </a:prstGeom>
                <a:solidFill>
                  <a:srgbClr val="9933ff"/>
                </a:solidFill>
                <a:ln w="0">
                  <a:noFill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KH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ÁCH THỂ CỦA VPP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6025400">
                  <a:off x="4482360" y="1568160"/>
                  <a:ext cx="1831320" cy="275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9" y="4817"/>
                      </a:moveTo>
                      <a:arcTo wR="10800" hR="10800" stAng="-8781428" swAng="18337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9" y="4817"/>
                      </a:moveTo>
                      <a:arcTo wR="10800" hR="10800" stAng="-8781428" swAng="18337212"/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67360" y="2230200"/>
                  <a:ext cx="2452680" cy="687600"/>
                </a:xfrm>
                <a:prstGeom prst="ellipse">
                  <a:avLst/>
                </a:prstGeom>
                <a:solidFill>
                  <a:srgbClr val="9933ff"/>
                </a:solidFill>
                <a:ln w="0">
                  <a:noFill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M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ẶT KHÁCH QUA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1199800">
                  <a:off x="6025320" y="3267000"/>
                  <a:ext cx="2639160" cy="19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9" y="4817"/>
                      </a:moveTo>
                      <a:arcTo wR="10800" hR="10800" stAng="-8781428" swAng="18622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9" y="4817"/>
                      </a:moveTo>
                      <a:arcTo wR="10800" hR="10800" stAng="-8781428" swAng="18622191"/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0393800">
                  <a:off x="2174400" y="3269880"/>
                  <a:ext cx="2639520" cy="19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9" y="4817"/>
                      </a:moveTo>
                      <a:arcTo wR="10800" hR="10800" stAng="-8781428" swAng="18622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9" y="4817"/>
                      </a:moveTo>
                      <a:arcTo wR="10800" hR="10800" stAng="-8781428" swAng="18622191"/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5085000">
                  <a:off x="4475880" y="4191120"/>
                  <a:ext cx="1829880" cy="275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9" y="4817"/>
                      </a:moveTo>
                      <a:arcTo wR="10800" hR="10800" stAng="-8781428" swAng="18622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9" y="4817"/>
                      </a:moveTo>
                      <a:arcTo wR="10800" hR="10800" stAng="-8781428" swAng="18622191"/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6282720" y="4356720"/>
                  <a:ext cx="546120" cy="151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3989880" y="4356360"/>
                  <a:ext cx="546120" cy="75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3116520" y="2463840"/>
                  <a:ext cx="327600" cy="226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679480" y="5552280"/>
                  <a:ext cx="263880" cy="226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8335440" y="5038200"/>
                  <a:ext cx="159120" cy="302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5410080" y="3197160"/>
              <a:ext cx="0" cy="37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268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57200" y="1676520"/>
            <a:ext cx="3276720" cy="36828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ẤU THÀNH VI PHẠM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2971800"/>
            <a:ext cx="1600200" cy="7621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 YẾU T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62"/>
          <p:cNvGrpSpPr/>
          <p:nvPr/>
        </p:nvGrpSpPr>
        <p:grpSpPr>
          <a:xfrm>
            <a:off x="0" y="914400"/>
            <a:ext cx="6019560" cy="863640"/>
            <a:chOff x="0" y="914400"/>
            <a:chExt cx="6019560" cy="863640"/>
          </a:xfrm>
        </p:grpSpPr>
        <p:sp>
          <p:nvSpPr>
            <p:cNvPr id="285" name="AutoShape 47"/>
            <p:cNvSpPr/>
            <p:nvPr/>
          </p:nvSpPr>
          <p:spPr>
            <a:xfrm>
              <a:off x="486000" y="1063800"/>
              <a:ext cx="553356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48"/>
            <p:cNvSpPr/>
            <p:nvPr/>
          </p:nvSpPr>
          <p:spPr>
            <a:xfrm>
              <a:off x="0" y="91440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9"/>
            <p:cNvSpPr/>
            <p:nvPr/>
          </p:nvSpPr>
          <p:spPr>
            <a:xfrm>
              <a:off x="925560" y="1239840"/>
              <a:ext cx="5019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0"/>
            <p:cNvSpPr/>
            <p:nvPr/>
          </p:nvSpPr>
          <p:spPr>
            <a:xfrm>
              <a:off x="246960" y="118692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914400" y="1752480"/>
            <a:ext cx="7792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MẶT KHÁCH QUAN CỦA VP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3733920"/>
            <a:ext cx="1944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HÀNH V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I PHÁP L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3657600"/>
            <a:ext cx="2089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SỰ THIỆT HẠ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O XÃ H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3581280"/>
            <a:ext cx="2089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MỐI QUAN H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HÂN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19280" y="2973240"/>
            <a:ext cx="2448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68720" y="2973240"/>
            <a:ext cx="432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67280" y="2973240"/>
            <a:ext cx="288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306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429000" y="2362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3581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49528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3657600"/>
            <a:ext cx="990360" cy="4572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Ỗ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3048120"/>
            <a:ext cx="2666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ĐỘNG C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ỤC ĐÍ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237492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1752480"/>
            <a:ext cx="228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30481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1523880"/>
            <a:ext cx="1905120" cy="2035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Ố 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Ô 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65760" y="167652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2438280"/>
            <a:ext cx="533160" cy="2819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3124080"/>
            <a:ext cx="3657600" cy="3276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ỔI LÀ THƯỚ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ĐO CỦA TN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ỖI LÀ YẾU T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BẮT BUỘ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VỚI M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V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6095880"/>
            <a:ext cx="53341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572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ƯU 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3"/>
          <p:cNvGrpSpPr/>
          <p:nvPr/>
        </p:nvGrpSpPr>
        <p:grpSpPr>
          <a:xfrm>
            <a:off x="533520" y="1523520"/>
            <a:ext cx="1980720" cy="4419720"/>
            <a:chOff x="533520" y="1523520"/>
            <a:chExt cx="1980720" cy="4419720"/>
          </a:xfrm>
        </p:grpSpPr>
        <p:pic>
          <p:nvPicPr>
            <p:cNvPr id="326" name="Picture 6" descr="shadow rectangle white inner"/>
            <p:cNvPicPr/>
            <p:nvPr/>
          </p:nvPicPr>
          <p:blipFill>
            <a:blip r:embed="rId1"/>
            <a:stretch/>
          </p:blipFill>
          <p:spPr>
            <a:xfrm rot="16200000">
              <a:off x="-685800" y="2742840"/>
              <a:ext cx="4419720" cy="19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7"/>
            <p:cNvSpPr/>
            <p:nvPr/>
          </p:nvSpPr>
          <p:spPr>
            <a:xfrm rot="16200000">
              <a:off x="945720" y="2518920"/>
              <a:ext cx="610920" cy="5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990720" y="304812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Ặ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Ủ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339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62"/>
          <p:cNvGrpSpPr/>
          <p:nvPr/>
        </p:nvGrpSpPr>
        <p:grpSpPr>
          <a:xfrm>
            <a:off x="3657600" y="1905120"/>
            <a:ext cx="5181120" cy="1447560"/>
            <a:chOff x="3657600" y="1905120"/>
            <a:chExt cx="5181120" cy="1447560"/>
          </a:xfrm>
        </p:grpSpPr>
        <p:sp>
          <p:nvSpPr>
            <p:cNvPr id="344" name="AutoShape 47"/>
            <p:cNvSpPr/>
            <p:nvPr/>
          </p:nvSpPr>
          <p:spPr>
            <a:xfrm>
              <a:off x="4075920" y="2155680"/>
              <a:ext cx="47628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48"/>
            <p:cNvSpPr/>
            <p:nvPr/>
          </p:nvSpPr>
          <p:spPr>
            <a:xfrm>
              <a:off x="3657600" y="1905120"/>
              <a:ext cx="75132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9"/>
            <p:cNvSpPr/>
            <p:nvPr/>
          </p:nvSpPr>
          <p:spPr>
            <a:xfrm>
              <a:off x="4455720" y="2449440"/>
              <a:ext cx="43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KHÔNG CÓ NĂNG LỰC TNPL, KHÔNG PHẢI LÀ CHỦ THỂ CỦA VPP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50"/>
            <p:cNvSpPr/>
            <p:nvPr/>
          </p:nvSpPr>
          <p:spPr>
            <a:xfrm>
              <a:off x="3854160" y="2363760"/>
              <a:ext cx="339120" cy="581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62"/>
          <p:cNvGrpSpPr/>
          <p:nvPr/>
        </p:nvGrpSpPr>
        <p:grpSpPr>
          <a:xfrm>
            <a:off x="3657600" y="4267080"/>
            <a:ext cx="5181120" cy="1447920"/>
            <a:chOff x="3657600" y="4267080"/>
            <a:chExt cx="5181120" cy="1447920"/>
          </a:xfrm>
        </p:grpSpPr>
        <p:sp>
          <p:nvSpPr>
            <p:cNvPr id="349" name="AutoShape 47"/>
            <p:cNvSpPr/>
            <p:nvPr/>
          </p:nvSpPr>
          <p:spPr>
            <a:xfrm>
              <a:off x="4075920" y="4518000"/>
              <a:ext cx="47628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48"/>
            <p:cNvSpPr/>
            <p:nvPr/>
          </p:nvSpPr>
          <p:spPr>
            <a:xfrm>
              <a:off x="3657600" y="4267080"/>
              <a:ext cx="7513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49"/>
            <p:cNvSpPr/>
            <p:nvPr/>
          </p:nvSpPr>
          <p:spPr>
            <a:xfrm>
              <a:off x="4454280" y="4811760"/>
              <a:ext cx="43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HỦ THỂ LÀ CÁ NHÂN, PHẢI XEM XÉT ĐỘ TUỔI, TRẠNG THÁI TÂM 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0"/>
            <p:cNvSpPr/>
            <p:nvPr/>
          </p:nvSpPr>
          <p:spPr>
            <a:xfrm>
              <a:off x="3852720" y="4726080"/>
              <a:ext cx="339120" cy="581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276720" y="3581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ƯU 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8120" y="3962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3"/>
          <p:cNvGrpSpPr/>
          <p:nvPr/>
        </p:nvGrpSpPr>
        <p:grpSpPr>
          <a:xfrm>
            <a:off x="0" y="1294920"/>
            <a:ext cx="3123720" cy="4876920"/>
            <a:chOff x="0" y="1294920"/>
            <a:chExt cx="3123720" cy="4876920"/>
          </a:xfrm>
        </p:grpSpPr>
        <p:pic>
          <p:nvPicPr>
            <p:cNvPr id="356" name="Picture 6" descr="shadow rectangle white inner"/>
            <p:cNvPicPr/>
            <p:nvPr/>
          </p:nvPicPr>
          <p:blipFill>
            <a:blip r:embed="rId1"/>
            <a:stretch/>
          </p:blipFill>
          <p:spPr>
            <a:xfrm rot="16200000">
              <a:off x="-876240" y="2171520"/>
              <a:ext cx="4876920" cy="31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7"/>
            <p:cNvSpPr/>
            <p:nvPr/>
          </p:nvSpPr>
          <p:spPr>
            <a:xfrm rot="16200000">
              <a:off x="823680" y="2227680"/>
              <a:ext cx="6105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85800" y="2286000"/>
            <a:ext cx="190512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Chủ thểV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Là cá nhân hay tổ chức có năng lực trách nhiệm pháp 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369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352680" y="1905120"/>
            <a:ext cx="495324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À NHỮNG QUAN HỆ XÃ HỘI ĐƯỢC 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UẬT BẢO VỆ NHƯNG BỊ HÀNH VI V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XÂM H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4343400"/>
            <a:ext cx="4952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ÍNH CHẤT CỦA KHÁCH THỂ  PHẢN Á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ỨC ĐỘ NGUY HIỂM CỦA HÀNH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 PHẠM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1905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HÁCH THỂ CỦA V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7400" y="23623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5146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83908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388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62"/>
          <p:cNvGrpSpPr/>
          <p:nvPr/>
        </p:nvGrpSpPr>
        <p:grpSpPr>
          <a:xfrm>
            <a:off x="3886200" y="1447920"/>
            <a:ext cx="4800240" cy="1447560"/>
            <a:chOff x="3886200" y="1447920"/>
            <a:chExt cx="4800240" cy="1447560"/>
          </a:xfrm>
        </p:grpSpPr>
        <p:sp>
          <p:nvSpPr>
            <p:cNvPr id="393" name="AutoShape 47"/>
            <p:cNvSpPr/>
            <p:nvPr/>
          </p:nvSpPr>
          <p:spPr>
            <a:xfrm>
              <a:off x="4273920" y="1698480"/>
              <a:ext cx="441252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48"/>
            <p:cNvSpPr/>
            <p:nvPr/>
          </p:nvSpPr>
          <p:spPr>
            <a:xfrm>
              <a:off x="3886200" y="1447920"/>
              <a:ext cx="69624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9"/>
            <p:cNvSpPr/>
            <p:nvPr/>
          </p:nvSpPr>
          <p:spPr>
            <a:xfrm>
              <a:off x="4624560" y="1992240"/>
              <a:ext cx="400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VPPL HÌNH SỰ ( TỘI PHẠ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50"/>
            <p:cNvSpPr/>
            <p:nvPr/>
          </p:nvSpPr>
          <p:spPr>
            <a:xfrm>
              <a:off x="4063680" y="190656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62"/>
          <p:cNvGrpSpPr/>
          <p:nvPr/>
        </p:nvGrpSpPr>
        <p:grpSpPr>
          <a:xfrm>
            <a:off x="3962520" y="2438280"/>
            <a:ext cx="4647600" cy="1447920"/>
            <a:chOff x="3962520" y="2438280"/>
            <a:chExt cx="4647600" cy="1447920"/>
          </a:xfrm>
        </p:grpSpPr>
        <p:sp>
          <p:nvSpPr>
            <p:cNvPr id="398" name="AutoShape 47"/>
            <p:cNvSpPr/>
            <p:nvPr/>
          </p:nvSpPr>
          <p:spPr>
            <a:xfrm>
              <a:off x="4337640" y="2689200"/>
              <a:ext cx="427248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Verdana"/>
                </a:rPr>
                <a:t>VPPL H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ÀNH CHÍN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48"/>
            <p:cNvSpPr/>
            <p:nvPr/>
          </p:nvSpPr>
          <p:spPr>
            <a:xfrm>
              <a:off x="3962520" y="2438280"/>
              <a:ext cx="6739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9"/>
            <p:cNvSpPr/>
            <p:nvPr/>
          </p:nvSpPr>
          <p:spPr>
            <a:xfrm>
              <a:off x="4677120" y="2982960"/>
              <a:ext cx="387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0"/>
            <p:cNvSpPr/>
            <p:nvPr/>
          </p:nvSpPr>
          <p:spPr>
            <a:xfrm>
              <a:off x="4130280" y="289728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62"/>
          <p:cNvGrpSpPr/>
          <p:nvPr/>
        </p:nvGrpSpPr>
        <p:grpSpPr>
          <a:xfrm>
            <a:off x="4191120" y="3505320"/>
            <a:ext cx="4343040" cy="1447560"/>
            <a:chOff x="4191120" y="3505320"/>
            <a:chExt cx="4343040" cy="1447560"/>
          </a:xfrm>
        </p:grpSpPr>
        <p:sp>
          <p:nvSpPr>
            <p:cNvPr id="403" name="AutoShape 47"/>
            <p:cNvSpPr/>
            <p:nvPr/>
          </p:nvSpPr>
          <p:spPr>
            <a:xfrm>
              <a:off x="4541760" y="3755880"/>
              <a:ext cx="39924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Verdana"/>
                </a:rPr>
                <a:t>VPPL D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ÂN S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48"/>
            <p:cNvSpPr/>
            <p:nvPr/>
          </p:nvSpPr>
          <p:spPr>
            <a:xfrm>
              <a:off x="4191120" y="3505320"/>
              <a:ext cx="63000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9"/>
            <p:cNvSpPr/>
            <p:nvPr/>
          </p:nvSpPr>
          <p:spPr>
            <a:xfrm>
              <a:off x="4858920" y="4049640"/>
              <a:ext cx="362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0"/>
            <p:cNvSpPr/>
            <p:nvPr/>
          </p:nvSpPr>
          <p:spPr>
            <a:xfrm>
              <a:off x="4336560" y="396396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62"/>
          <p:cNvGrpSpPr/>
          <p:nvPr/>
        </p:nvGrpSpPr>
        <p:grpSpPr>
          <a:xfrm>
            <a:off x="4267080" y="4495680"/>
            <a:ext cx="4343040" cy="1447920"/>
            <a:chOff x="4267080" y="4495680"/>
            <a:chExt cx="4343040" cy="1447920"/>
          </a:xfrm>
        </p:grpSpPr>
        <p:sp>
          <p:nvSpPr>
            <p:cNvPr id="408" name="AutoShape 47"/>
            <p:cNvSpPr/>
            <p:nvPr/>
          </p:nvSpPr>
          <p:spPr>
            <a:xfrm>
              <a:off x="4617720" y="4746600"/>
              <a:ext cx="39924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Verdana"/>
                </a:rPr>
                <a:t>VI PH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ẠM KỶ LUẬ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8"/>
            <p:cNvSpPr/>
            <p:nvPr/>
          </p:nvSpPr>
          <p:spPr>
            <a:xfrm>
              <a:off x="4267080" y="4495680"/>
              <a:ext cx="63000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49"/>
            <p:cNvSpPr/>
            <p:nvPr/>
          </p:nvSpPr>
          <p:spPr>
            <a:xfrm>
              <a:off x="4934880" y="5040360"/>
              <a:ext cx="362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0"/>
            <p:cNvSpPr/>
            <p:nvPr/>
          </p:nvSpPr>
          <p:spPr>
            <a:xfrm>
              <a:off x="4412520" y="495468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 flipV="1">
            <a:off x="2666880" y="2209680"/>
            <a:ext cx="1295640" cy="1371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3581280"/>
            <a:ext cx="1600200" cy="16765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705040" y="3124080"/>
            <a:ext cx="1295640" cy="4572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05040" y="3581280"/>
            <a:ext cx="1524240" cy="6098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3000" y="2514600"/>
            <a:ext cx="1523880" cy="213372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133720"/>
              <a:gd name="textAreaBottom" fmla="*/ 2059560 h 2133720"/>
            </a:gdLst>
            <a:ahLst/>
            <a:rect l="textAreaLeft" t="textAreaTop" r="textAreaRight" b="textAreaBottom"/>
            <a:pathLst>
              <a:path w="21600" h="30242">
                <a:moveTo>
                  <a:pt x="3600" y="0"/>
                </a:moveTo>
                <a:arcTo wR="3600" hR="3600" stAng="16200000" swAng="-5400000"/>
                <a:lnTo>
                  <a:pt x="0" y="26642"/>
                </a:lnTo>
                <a:arcTo wR="3600" hR="3600" stAng="10800000" swAng="-5400000"/>
                <a:lnTo>
                  <a:pt x="18000" y="30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HÂN LO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VI PH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HÁP LUẬ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671200">
            <a:off x="2060640" y="4875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4 LO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438280" y="510516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429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R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ÁCH NHIỆM PHÁP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0"/>
            <p:cNvSpPr/>
            <p:nvPr/>
          </p:nvSpPr>
          <p:spPr>
            <a:xfrm>
              <a:off x="280080" y="932760"/>
              <a:ext cx="43668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219320" y="18288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KHÁI NIỆ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2362320"/>
            <a:ext cx="6400800" cy="25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TNPL LÀ TRÁCH NHIỆM CỦA CÁC CHỦ THỂ V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ƯỚC NHÀ NƯỚC,THỂ HIỆN Ở MỐI QUAN HỆ ĐẶ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IỆT GIỮA NN VỚI CHỦ THỂ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VPP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TRONG ĐÓ CHỦ THỂ VPPL PHẢ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GÁNH CHỊU NHỮNG HẬU QUẢ BẤ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LỢI VÀ NHỮNG BIỆN PHÁP CƯỠNG CHẾ CỦ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NHÀ NƯỚ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981080"/>
            <a:ext cx="762120" cy="1447920"/>
          </a:xfrm>
          <a:custGeom>
            <a:avLst/>
            <a:gdLst>
              <a:gd name="textAreaLeft" fmla="*/ 101880 w 762120"/>
              <a:gd name="textAreaRight" fmla="*/ 660240 w 76212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67652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5105520"/>
            <a:ext cx="5943600" cy="12027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RONG HOẠT ĐỘNG NN CÓ MỘT SỐ BIỆN 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ƯỠNG CHẾ NN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 ĐƯỢC ÁP DỤNG KHÔNG LIÊ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QUAN TỚI TRÁCH NHIỆ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5943600"/>
            <a:ext cx="1600200" cy="0"/>
          </a:xfrm>
          <a:prstGeom prst="line">
            <a:avLst/>
          </a:prstGeom>
          <a:ln w="190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4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LƯU 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4038480"/>
            <a:ext cx="761760" cy="1447920"/>
          </a:xfrm>
          <a:custGeom>
            <a:avLst/>
            <a:gdLst>
              <a:gd name="textAreaLeft" fmla="*/ 101880 w 761760"/>
              <a:gd name="textAreaRight" fmla="*/ 659880 w 76176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452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R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ÁCH NHIỆM PHÁP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50"/>
            <p:cNvSpPr/>
            <p:nvPr/>
          </p:nvSpPr>
          <p:spPr>
            <a:xfrm>
              <a:off x="280080" y="932760"/>
              <a:ext cx="43668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809880" y="1752480"/>
            <a:ext cx="480060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Ơ SỞ CỦA TRÁCH NHIỆM 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À VI PHẠM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9880" y="2819520"/>
            <a:ext cx="487692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ỆC TRUY CỨU TNPL CHỈ DO CÁ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Ơ QUAN NN CÓ THẨM QUYỀN TIẾN HÀ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22840" y="3809880"/>
            <a:ext cx="486396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RÁCH NHIỆM PHÁP LÝ LUÔN GẮN LIỀ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VỚI BIỆN PHÁP CƯỠNG CHẾ NHÀ NƯỚ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22840" y="4851360"/>
            <a:ext cx="4787640" cy="939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RUY CỨU TNPL LÀ MỘT QUÁ TRÌNH HO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ĐỘNG PHỨC TẠP CỦA CƠ QUAN N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2286000"/>
            <a:ext cx="129528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Ủ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Á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Ệ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Á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343400"/>
            <a:ext cx="137160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38280" y="3124080"/>
            <a:ext cx="137160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5334120"/>
            <a:ext cx="0" cy="3808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52480" y="5715000"/>
            <a:ext cx="205740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2057400"/>
            <a:ext cx="0" cy="2286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2057400"/>
            <a:ext cx="190476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477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R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ÁCH NHIỆM PHÁP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280080" y="932760"/>
              <a:ext cx="43668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219320" y="18288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752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ĂN CỨ TRUY CỨU TRÁCH NHIỆM 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2057400"/>
            <a:ext cx="2209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ẦN XÁC ĐỊ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ẤU THÀ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ỦA VI PHẠ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3429000"/>
            <a:ext cx="243864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ỜI HIỆU TRU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ỨU TRÁCH NHIỆ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HÁP LÝ ĐỐI V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ỪNG TRƯỜNG HỢ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 PHẠM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Ụ TH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38280" y="2286000"/>
            <a:ext cx="0" cy="1066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2209680"/>
            <a:ext cx="14479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38480" y="50292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TNPL SẼ CHẤM DỨT KHI CÓ SỰ KIỆN                        PHÁP LÝ THÍCH 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4800" y="5791320"/>
            <a:ext cx="4267080" cy="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83908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655308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499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50"/>
            <p:cNvSpPr/>
            <p:nvPr/>
          </p:nvSpPr>
          <p:spPr>
            <a:xfrm>
              <a:off x="280080" y="932760"/>
              <a:ext cx="43668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62"/>
          <p:cNvGrpSpPr/>
          <p:nvPr/>
        </p:nvGrpSpPr>
        <p:grpSpPr>
          <a:xfrm>
            <a:off x="3886200" y="1447920"/>
            <a:ext cx="4800240" cy="1447560"/>
            <a:chOff x="3886200" y="1447920"/>
            <a:chExt cx="4800240" cy="1447560"/>
          </a:xfrm>
        </p:grpSpPr>
        <p:sp>
          <p:nvSpPr>
            <p:cNvPr id="504" name="AutoShape 47"/>
            <p:cNvSpPr/>
            <p:nvPr/>
          </p:nvSpPr>
          <p:spPr>
            <a:xfrm>
              <a:off x="4273920" y="1698480"/>
              <a:ext cx="441252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48"/>
            <p:cNvSpPr/>
            <p:nvPr/>
          </p:nvSpPr>
          <p:spPr>
            <a:xfrm>
              <a:off x="3886200" y="1447920"/>
              <a:ext cx="69624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49"/>
            <p:cNvSpPr/>
            <p:nvPr/>
          </p:nvSpPr>
          <p:spPr>
            <a:xfrm>
              <a:off x="4624560" y="1992240"/>
              <a:ext cx="400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TNPL HÌNH S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50"/>
            <p:cNvSpPr/>
            <p:nvPr/>
          </p:nvSpPr>
          <p:spPr>
            <a:xfrm>
              <a:off x="4063680" y="190656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62"/>
          <p:cNvGrpSpPr/>
          <p:nvPr/>
        </p:nvGrpSpPr>
        <p:grpSpPr>
          <a:xfrm>
            <a:off x="3962520" y="2438280"/>
            <a:ext cx="4647600" cy="1447920"/>
            <a:chOff x="3962520" y="2438280"/>
            <a:chExt cx="4647600" cy="1447920"/>
          </a:xfrm>
        </p:grpSpPr>
        <p:sp>
          <p:nvSpPr>
            <p:cNvPr id="509" name="AutoShape 47"/>
            <p:cNvSpPr/>
            <p:nvPr/>
          </p:nvSpPr>
          <p:spPr>
            <a:xfrm>
              <a:off x="4337640" y="2689200"/>
              <a:ext cx="427248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TNPL H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ÀNH CHÍN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48"/>
            <p:cNvSpPr/>
            <p:nvPr/>
          </p:nvSpPr>
          <p:spPr>
            <a:xfrm>
              <a:off x="3962520" y="2438280"/>
              <a:ext cx="6739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49"/>
            <p:cNvSpPr/>
            <p:nvPr/>
          </p:nvSpPr>
          <p:spPr>
            <a:xfrm>
              <a:off x="4677120" y="2982960"/>
              <a:ext cx="387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50"/>
            <p:cNvSpPr/>
            <p:nvPr/>
          </p:nvSpPr>
          <p:spPr>
            <a:xfrm>
              <a:off x="4130280" y="289728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62"/>
          <p:cNvGrpSpPr/>
          <p:nvPr/>
        </p:nvGrpSpPr>
        <p:grpSpPr>
          <a:xfrm>
            <a:off x="4191120" y="3505320"/>
            <a:ext cx="4343040" cy="1447560"/>
            <a:chOff x="4191120" y="3505320"/>
            <a:chExt cx="4343040" cy="1447560"/>
          </a:xfrm>
        </p:grpSpPr>
        <p:sp>
          <p:nvSpPr>
            <p:cNvPr id="514" name="AutoShape 47"/>
            <p:cNvSpPr/>
            <p:nvPr/>
          </p:nvSpPr>
          <p:spPr>
            <a:xfrm>
              <a:off x="4541760" y="3755880"/>
              <a:ext cx="39924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Verdana"/>
                </a:rPr>
                <a:t>TNPL D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ÂN S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48"/>
            <p:cNvSpPr/>
            <p:nvPr/>
          </p:nvSpPr>
          <p:spPr>
            <a:xfrm>
              <a:off x="4191120" y="3505320"/>
              <a:ext cx="63000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9"/>
            <p:cNvSpPr/>
            <p:nvPr/>
          </p:nvSpPr>
          <p:spPr>
            <a:xfrm>
              <a:off x="4858920" y="4049640"/>
              <a:ext cx="362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50"/>
            <p:cNvSpPr/>
            <p:nvPr/>
          </p:nvSpPr>
          <p:spPr>
            <a:xfrm>
              <a:off x="4336560" y="396396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62"/>
          <p:cNvGrpSpPr/>
          <p:nvPr/>
        </p:nvGrpSpPr>
        <p:grpSpPr>
          <a:xfrm>
            <a:off x="4267080" y="4495680"/>
            <a:ext cx="4343040" cy="1447920"/>
            <a:chOff x="4267080" y="4495680"/>
            <a:chExt cx="4343040" cy="1447920"/>
          </a:xfrm>
        </p:grpSpPr>
        <p:sp>
          <p:nvSpPr>
            <p:cNvPr id="519" name="AutoShape 47"/>
            <p:cNvSpPr/>
            <p:nvPr/>
          </p:nvSpPr>
          <p:spPr>
            <a:xfrm>
              <a:off x="4617720" y="4746600"/>
              <a:ext cx="39924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TN K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Ỷ LUẬT V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TN VẬT CHẤ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48"/>
            <p:cNvSpPr/>
            <p:nvPr/>
          </p:nvSpPr>
          <p:spPr>
            <a:xfrm>
              <a:off x="4267080" y="4495680"/>
              <a:ext cx="63000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49"/>
            <p:cNvSpPr/>
            <p:nvPr/>
          </p:nvSpPr>
          <p:spPr>
            <a:xfrm>
              <a:off x="4934880" y="5040360"/>
              <a:ext cx="362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50"/>
            <p:cNvSpPr/>
            <p:nvPr/>
          </p:nvSpPr>
          <p:spPr>
            <a:xfrm>
              <a:off x="4412520" y="495468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666880" y="2209680"/>
            <a:ext cx="1295640" cy="1371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66880" y="3581280"/>
            <a:ext cx="1600200" cy="16765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705040" y="3124080"/>
            <a:ext cx="1295640" cy="4572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05040" y="3581280"/>
            <a:ext cx="1524240" cy="6098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2514600"/>
            <a:ext cx="1752480" cy="21337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133720"/>
              <a:gd name="textAreaBottom" fmla="*/ 2048400 h 2133720"/>
            </a:gdLst>
            <a:ahLst/>
            <a:rect l="textAreaLeft" t="textAreaTop" r="textAreaRight" b="textAreaBottom"/>
            <a:pathLst>
              <a:path w="21600" h="26298">
                <a:moveTo>
                  <a:pt x="3600" y="0"/>
                </a:moveTo>
                <a:arcTo wR="3600" hR="3600" stAng="16200000" swAng="-5400000"/>
                <a:lnTo>
                  <a:pt x="0" y="22698"/>
                </a:lnTo>
                <a:arcTo wR="3600" hR="3600" stAng="10800000" swAng="-5400000"/>
                <a:lnTo>
                  <a:pt x="18000" y="262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HÂN LO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TR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ÁCH NHIỆ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671200">
            <a:off x="2060640" y="4875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4 LO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2438280" y="510516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60199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ương ứng với 4 loại VPP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ó 4 loại TN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09480" y="6400800"/>
            <a:ext cx="4038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147680" y="8413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RÁCH NHIỆM PHÁP 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057400"/>
            <a:ext cx="4495680" cy="1066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ỰC HIỆN PHÁP L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971800"/>
            <a:ext cx="4572000" cy="1143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VI PHẠM PHÁP L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886200"/>
            <a:ext cx="4724280" cy="12193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RÁCH NHIỆM PHÁP 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8400" y="2590920"/>
            <a:ext cx="0" cy="403848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019920"/>
            <a:ext cx="5181480" cy="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193760"/>
            <a:ext cx="3809880" cy="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58200" y="838080"/>
            <a:ext cx="0" cy="35816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61722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61722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4"/>
          <p:cNvSpPr/>
          <p:nvPr/>
        </p:nvSpPr>
        <p:spPr>
          <a:xfrm>
            <a:off x="1295280" y="990720"/>
            <a:ext cx="5303880" cy="80640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50000">
                <a:srgbClr val="b4e8c5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50000">
                <a:srgbClr val="b4e8c5"/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5" descr="header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533520" y="3441600"/>
            <a:ext cx="0" cy="32767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440" y="6324480"/>
            <a:ext cx="3962520" cy="0"/>
          </a:xfrm>
          <a:prstGeom prst="line">
            <a:avLst/>
          </a:prstGeom>
          <a:ln w="1908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21016800">
            <a:off x="1600200" y="34286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CHÚC CÁC EM HỌC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"/>
          <p:cNvSpPr/>
          <p:nvPr/>
        </p:nvSpPr>
        <p:spPr>
          <a:xfrm>
            <a:off x="990720" y="762120"/>
            <a:ext cx="5303880" cy="80640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50000">
                <a:srgbClr val="b4e8c5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792400">
            <a:off x="761760" y="1523880"/>
            <a:ext cx="36576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ET CAU NOI 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2"/>
          <p:cNvGrpSpPr/>
          <p:nvPr/>
        </p:nvGrpSpPr>
        <p:grpSpPr>
          <a:xfrm>
            <a:off x="2057400" y="2362320"/>
            <a:ext cx="6172200" cy="1447560"/>
            <a:chOff x="2057400" y="2362320"/>
            <a:chExt cx="6172200" cy="1447560"/>
          </a:xfrm>
        </p:grpSpPr>
        <p:sp>
          <p:nvSpPr>
            <p:cNvPr id="70" name="AutoShape 47"/>
            <p:cNvSpPr/>
            <p:nvPr/>
          </p:nvSpPr>
          <p:spPr>
            <a:xfrm>
              <a:off x="2556000" y="2612880"/>
              <a:ext cx="56736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ỰC HIỆN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8"/>
            <p:cNvSpPr/>
            <p:nvPr/>
          </p:nvSpPr>
          <p:spPr>
            <a:xfrm>
              <a:off x="2057400" y="2362320"/>
              <a:ext cx="89532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49"/>
            <p:cNvSpPr/>
            <p:nvPr/>
          </p:nvSpPr>
          <p:spPr>
            <a:xfrm>
              <a:off x="3006720" y="2906640"/>
              <a:ext cx="5146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0"/>
            <p:cNvSpPr/>
            <p:nvPr/>
          </p:nvSpPr>
          <p:spPr>
            <a:xfrm>
              <a:off x="2356920" y="2820960"/>
              <a:ext cx="26604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62"/>
          <p:cNvGrpSpPr/>
          <p:nvPr/>
        </p:nvGrpSpPr>
        <p:grpSpPr>
          <a:xfrm>
            <a:off x="1676520" y="3581280"/>
            <a:ext cx="6172200" cy="1447920"/>
            <a:chOff x="1676520" y="3581280"/>
            <a:chExt cx="6172200" cy="1447920"/>
          </a:xfrm>
        </p:grpSpPr>
        <p:sp>
          <p:nvSpPr>
            <p:cNvPr id="75" name="AutoShape 47"/>
            <p:cNvSpPr/>
            <p:nvPr/>
          </p:nvSpPr>
          <p:spPr>
            <a:xfrm>
              <a:off x="2175120" y="3832200"/>
              <a:ext cx="56736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1600" spc="-1" strike="noStrike">
                  <a:solidFill>
                    <a:srgbClr val="cc0066"/>
                  </a:solidFill>
                  <a:latin typeface="Verdana"/>
                </a:rPr>
                <a:t>KHAI NIEM, DAC DIEM QUAN HE PHAP LU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8"/>
            <p:cNvSpPr/>
            <p:nvPr/>
          </p:nvSpPr>
          <p:spPr>
            <a:xfrm>
              <a:off x="1676520" y="3581280"/>
              <a:ext cx="8953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9"/>
            <p:cNvSpPr/>
            <p:nvPr/>
          </p:nvSpPr>
          <p:spPr>
            <a:xfrm>
              <a:off x="2625840" y="4125960"/>
              <a:ext cx="5146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50"/>
            <p:cNvSpPr/>
            <p:nvPr/>
          </p:nvSpPr>
          <p:spPr>
            <a:xfrm>
              <a:off x="1976040" y="4040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62"/>
          <p:cNvGrpSpPr/>
          <p:nvPr/>
        </p:nvGrpSpPr>
        <p:grpSpPr>
          <a:xfrm>
            <a:off x="1676520" y="3581280"/>
            <a:ext cx="6172200" cy="1447920"/>
            <a:chOff x="1676520" y="3581280"/>
            <a:chExt cx="6172200" cy="1447920"/>
          </a:xfrm>
        </p:grpSpPr>
        <p:sp>
          <p:nvSpPr>
            <p:cNvPr id="80" name="AutoShape 47"/>
            <p:cNvSpPr/>
            <p:nvPr/>
          </p:nvSpPr>
          <p:spPr>
            <a:xfrm>
              <a:off x="2175120" y="3832200"/>
              <a:ext cx="56736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cc0066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cc0066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48"/>
            <p:cNvSpPr/>
            <p:nvPr/>
          </p:nvSpPr>
          <p:spPr>
            <a:xfrm>
              <a:off x="1676520" y="3581280"/>
              <a:ext cx="8953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49"/>
            <p:cNvSpPr/>
            <p:nvPr/>
          </p:nvSpPr>
          <p:spPr>
            <a:xfrm>
              <a:off x="2625840" y="4125960"/>
              <a:ext cx="5146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0"/>
            <p:cNvSpPr/>
            <p:nvPr/>
          </p:nvSpPr>
          <p:spPr>
            <a:xfrm>
              <a:off x="1934280" y="4040280"/>
              <a:ext cx="35136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2"/>
          <p:cNvGrpSpPr/>
          <p:nvPr/>
        </p:nvGrpSpPr>
        <p:grpSpPr>
          <a:xfrm>
            <a:off x="1295280" y="4724280"/>
            <a:ext cx="6172200" cy="1447920"/>
            <a:chOff x="1295280" y="4724280"/>
            <a:chExt cx="6172200" cy="1447920"/>
          </a:xfrm>
        </p:grpSpPr>
        <p:sp>
          <p:nvSpPr>
            <p:cNvPr id="85" name="AutoShape 47"/>
            <p:cNvSpPr/>
            <p:nvPr/>
          </p:nvSpPr>
          <p:spPr>
            <a:xfrm>
              <a:off x="1793880" y="4975200"/>
              <a:ext cx="56736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cc0066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8"/>
            <p:cNvSpPr/>
            <p:nvPr/>
          </p:nvSpPr>
          <p:spPr>
            <a:xfrm>
              <a:off x="1295280" y="4724280"/>
              <a:ext cx="8953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cc0066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2244600" y="5268960"/>
              <a:ext cx="51465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ÁCH NHIỆM PHÁP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1510920" y="5183280"/>
              <a:ext cx="436680" cy="45972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2"/>
          <p:cNvGrpSpPr/>
          <p:nvPr/>
        </p:nvGrpSpPr>
        <p:grpSpPr>
          <a:xfrm>
            <a:off x="76320" y="660240"/>
            <a:ext cx="6172200" cy="863640"/>
            <a:chOff x="76320" y="660240"/>
            <a:chExt cx="6172200" cy="863640"/>
          </a:xfrm>
        </p:grpSpPr>
        <p:sp>
          <p:nvSpPr>
            <p:cNvPr id="99" name="AutoShape 47"/>
            <p:cNvSpPr/>
            <p:nvPr/>
          </p:nvSpPr>
          <p:spPr>
            <a:xfrm>
              <a:off x="574920" y="809640"/>
              <a:ext cx="56736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ỰC HIỆN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48"/>
            <p:cNvSpPr/>
            <p:nvPr/>
          </p:nvSpPr>
          <p:spPr>
            <a:xfrm>
              <a:off x="76320" y="660240"/>
              <a:ext cx="89532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9"/>
            <p:cNvSpPr/>
            <p:nvPr/>
          </p:nvSpPr>
          <p:spPr>
            <a:xfrm>
              <a:off x="1025640" y="985680"/>
              <a:ext cx="5146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0"/>
            <p:cNvSpPr/>
            <p:nvPr/>
          </p:nvSpPr>
          <p:spPr>
            <a:xfrm>
              <a:off x="375840" y="932760"/>
              <a:ext cx="26604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1523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KHÁI NIỆ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1280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057400"/>
            <a:ext cx="6705360" cy="19051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HỰC HIỆN PHÁP LUẬT L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MỘT QUÁ TRÌNH HO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ĐỘNG CÓ MỤC ĐÍCH LÀM CHO NHỮNG QUI ĐỊ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CỦA PHÁP LUẬT ĐI VÀO CUỘC SỐNG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RỞ THÀ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HỮNG HÀNH VI THỰC TẾ HỢP PHÁP CỦA CÁ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Ủ THỂ PHÁP LUẬ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1160" y="181620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2"/>
          <p:cNvGrpSpPr/>
          <p:nvPr/>
        </p:nvGrpSpPr>
        <p:grpSpPr>
          <a:xfrm>
            <a:off x="1676520" y="3962520"/>
            <a:ext cx="6172200" cy="1447560"/>
            <a:chOff x="1676520" y="3962520"/>
            <a:chExt cx="6172200" cy="1447560"/>
          </a:xfrm>
        </p:grpSpPr>
        <p:sp>
          <p:nvSpPr>
            <p:cNvPr id="112" name="AutoShape 47"/>
            <p:cNvSpPr/>
            <p:nvPr/>
          </p:nvSpPr>
          <p:spPr>
            <a:xfrm>
              <a:off x="2175120" y="4213080"/>
              <a:ext cx="56736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48"/>
            <p:cNvSpPr/>
            <p:nvPr/>
          </p:nvSpPr>
          <p:spPr>
            <a:xfrm>
              <a:off x="1676520" y="3962520"/>
              <a:ext cx="89532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9"/>
            <p:cNvSpPr/>
            <p:nvPr/>
          </p:nvSpPr>
          <p:spPr>
            <a:xfrm>
              <a:off x="2625840" y="4506840"/>
              <a:ext cx="514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66"/>
                  </a:solidFill>
                  <a:latin typeface="Arial"/>
                </a:rPr>
                <a:t>PHÁP LUẬT CHỈ CÓ Ý NGHĨA ĐÍCH THỰC KHI ĐƯỢC THỰC HIỆ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0"/>
            <p:cNvSpPr/>
            <p:nvPr/>
          </p:nvSpPr>
          <p:spPr>
            <a:xfrm>
              <a:off x="1940040" y="4421160"/>
              <a:ext cx="339120" cy="581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2"/>
          <p:cNvGrpSpPr/>
          <p:nvPr/>
        </p:nvGrpSpPr>
        <p:grpSpPr>
          <a:xfrm>
            <a:off x="1219320" y="4952880"/>
            <a:ext cx="7086240" cy="1447920"/>
            <a:chOff x="1219320" y="4952880"/>
            <a:chExt cx="7086240" cy="1447920"/>
          </a:xfrm>
        </p:grpSpPr>
        <p:sp>
          <p:nvSpPr>
            <p:cNvPr id="117" name="AutoShape 47"/>
            <p:cNvSpPr/>
            <p:nvPr/>
          </p:nvSpPr>
          <p:spPr>
            <a:xfrm>
              <a:off x="1791720" y="5203800"/>
              <a:ext cx="651384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Verdana"/>
                </a:rPr>
                <a:t>TH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Arial"/>
                </a:rPr>
                <a:t>ỰC HIÊN PHÁP LUẬT LÀ HÀNH VI CỦA 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Arial"/>
                </a:rPr>
                <a:t>NGƯỜI PHÙ HỢP VỚI QUI ĐỊNH CỦA PHÁP LUẬ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8"/>
            <p:cNvSpPr/>
            <p:nvPr/>
          </p:nvSpPr>
          <p:spPr>
            <a:xfrm>
              <a:off x="1219320" y="4952880"/>
              <a:ext cx="102780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9"/>
            <p:cNvSpPr/>
            <p:nvPr/>
          </p:nvSpPr>
          <p:spPr>
            <a:xfrm>
              <a:off x="2309040" y="5497560"/>
              <a:ext cx="5908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0"/>
            <p:cNvSpPr/>
            <p:nvPr/>
          </p:nvSpPr>
          <p:spPr>
            <a:xfrm>
              <a:off x="1545840" y="5411880"/>
              <a:ext cx="339120" cy="581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914400" y="3581280"/>
            <a:ext cx="914400" cy="1752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132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ỰC HIỆN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0"/>
            <p:cNvSpPr/>
            <p:nvPr/>
          </p:nvSpPr>
          <p:spPr>
            <a:xfrm>
              <a:off x="365040" y="932760"/>
              <a:ext cx="26604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066680" y="160020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CÁC HÌNH THỨC THỰC HIỆN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705040"/>
            <a:ext cx="121932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VNI-Times"/>
              </a:rPr>
              <a:t>4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VNI-Times"/>
              </a:rPr>
              <a:t>hợ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HỰ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1981080"/>
            <a:ext cx="3429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 Black"/>
              </a:rPr>
              <a:t>TU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ÂN THỦ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200400"/>
            <a:ext cx="3429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THI 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ÀNH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381560"/>
            <a:ext cx="3505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Ử DỤNG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600880"/>
            <a:ext cx="3581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ÁP DỤNG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6058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914400" y="23241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32416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3543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762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67652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1447920"/>
            <a:ext cx="1447560" cy="380988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3809880"/>
              <a:gd name="textAreaBottom" fmla="*/ 3716280 h 3809880"/>
            </a:gdLst>
            <a:ahLst/>
            <a:rect l="textAreaLeft" t="textAreaTop" r="textAreaRight" b="textAreaBottom"/>
            <a:pathLst>
              <a:path w="21600" h="56841">
                <a:moveTo>
                  <a:pt x="0" y="0"/>
                </a:moveTo>
                <a:lnTo>
                  <a:pt x="21600" y="0"/>
                </a:lnTo>
                <a:lnTo>
                  <a:pt x="21600" y="56841"/>
                </a:lnTo>
                <a:lnTo>
                  <a:pt x="0" y="56841"/>
                </a:lnTo>
                <a:close/>
              </a:path>
              <a:path fill="lightenLess" w="21600" h="56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6841">
                <a:moveTo>
                  <a:pt x="21600" y="0"/>
                </a:moveTo>
                <a:lnTo>
                  <a:pt x="21600" y="56841"/>
                </a:lnTo>
                <a:lnTo>
                  <a:pt x="20200" y="55441"/>
                </a:lnTo>
                <a:lnTo>
                  <a:pt x="20200" y="1400"/>
                </a:lnTo>
                <a:close/>
              </a:path>
              <a:path fill="darkenLess" w="21600" h="56841">
                <a:moveTo>
                  <a:pt x="21600" y="56841"/>
                </a:moveTo>
                <a:lnTo>
                  <a:pt x="0" y="56841"/>
                </a:lnTo>
                <a:lnTo>
                  <a:pt x="1400" y="55441"/>
                </a:lnTo>
                <a:lnTo>
                  <a:pt x="20200" y="55441"/>
                </a:lnTo>
                <a:close/>
              </a:path>
              <a:path fill="lighten" w="21600" h="56841">
                <a:moveTo>
                  <a:pt x="0" y="56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554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ÁP DỤ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UẬT L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HÌ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Ứ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Ự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H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UÔN C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Ự TH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IA CỦ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HÀ NƯ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4952880"/>
            <a:ext cx="1752480" cy="1143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LƯU 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6070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03320" y="2654280"/>
            <a:ext cx="12193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NI-Times"/>
              </a:rPr>
              <a:t>4TRƯỜ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NI-Times"/>
              </a:rPr>
              <a:t>HỢ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P DỤ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37040" y="1930320"/>
            <a:ext cx="5168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 Black"/>
              </a:rPr>
              <a:t>KHI C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ẦN ÁP DỤNG CÁC BIỆN PHÁP CƯ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CHẾ NN HOẶC ÁP DỤNG CÁC CHẾ TÀI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7040" y="3111480"/>
            <a:ext cx="5168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KHI QU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ỀN VÀ NGHĨA VỤ PHÁP LÝ KHÔ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ẶC NHIÊN PHÁT SINH,THAY ĐỔI,CHẤM D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ẾU KHÔNG CÓ SỰ CAN THIỆP CỦA 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7040" y="4330800"/>
            <a:ext cx="52448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 Black"/>
              </a:rPr>
              <a:t>KHI X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ẢY RA TRANH CHẤP VỀ QUYỀN V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GHĨA VỤ PHÁP LÝ GIỮA CÁC BÊN THAM 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QHPL MÀ HỌ KHÔNG TỰ GIẢI QUYẾT ĐƯỢ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7040" y="5549760"/>
            <a:ext cx="52448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ONG MỘT SỐ QHPL MÀ NN THẤY CẦN THIẾ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ẢI THAM GIA ĐỂ KIỂM TRA,GIÁM SÁ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36840" y="55119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596916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536840" y="227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36840" y="22734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22640" y="34923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22640" y="4711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219320"/>
            <a:ext cx="609624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HỮNG TRƯỜNG HỢP CẦN ÁP DỤNG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06360" y="13716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371600"/>
            <a:ext cx="53316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63120" y="373392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6705720"/>
            <a:ext cx="43434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246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185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38080" y="1676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KHÁI NIỆ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7524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2286000"/>
            <a:ext cx="29718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 PHẠM PL LÀ HÀNH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ÁI PHÁP LUẬT, CÓ LỖ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CHỦ THỂ CÓ NĂ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ỰC TRÁCH NHIỆ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ÁP LÝ THỰC H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ÂM HẠI CÁC QUAN H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Ã HỘI ĐƯỢC PHÁ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UẬT BẢO V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2819520"/>
            <a:ext cx="2971800" cy="350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 PHẠM PL CÓ THỂ L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ÀNH VI TRÁI 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UẬT CỦA CÁ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Á NHÂ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ŨNG CÓ TH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À HOẠT ĐỘNG CỦ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ÁC CƠ QUAN NH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ƯỚC, CÁC TỔ CHỨ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Ã H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057400"/>
            <a:ext cx="609480" cy="1523880"/>
          </a:xfrm>
          <a:custGeom>
            <a:avLst/>
            <a:gdLst>
              <a:gd name="textAreaLeft" fmla="*/ 81360 w 609480"/>
              <a:gd name="textAreaRight" fmla="*/ 528120 w 6094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594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ƯU 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63244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4400" y="5791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207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886200" y="1752480"/>
            <a:ext cx="411480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VNI-Times"/>
              </a:rPr>
              <a:t>VPPL L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À HÀNH VI XÁC ĐỊ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ỦA CON NGƯỜ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2819520"/>
            <a:ext cx="419112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NI-Times"/>
              </a:rPr>
              <a:t>VPPL 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À HÀNH VI TRÁI PL XÂM H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ỚI CÁC QHXH ĐƯỢC PL BẢO V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22840" y="3809880"/>
            <a:ext cx="4254480" cy="6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VNI-Times"/>
              </a:rPr>
              <a:t>VPPL L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À HÀNH VI CHỨA ĐỰNG LỖ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ỦA CHỦ THỂ THỰC H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22840" y="4851360"/>
            <a:ext cx="4406760" cy="762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NI-Times"/>
              </a:rPr>
              <a:t>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Ủ THỂ THỰC HIỆN HÀNH VI PHẢ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Ó NĂNG LỰC TRÁCH NHIỆM 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2666880"/>
            <a:ext cx="2057400" cy="16200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ÁC DẤU HI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Ơ BẢN C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 PH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66880" y="33908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34034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66880" y="2082960"/>
            <a:ext cx="12193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429000"/>
            <a:ext cx="11430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230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981080" y="2286000"/>
            <a:ext cx="609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236232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228600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ọi hành vi vi phạm pháp luật đều là hành vi trái pháp luậ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ọi hành vi trái  pháp luật đều là hành vi vi phạm pháp luậ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ự thiệt hại về vật chất là dấu hiệu bắt buộc của vi phạm pháp luậ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286000"/>
            <a:ext cx="990360" cy="380988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3809880"/>
              <a:gd name="textAreaBottom" fmla="*/ 3745800 h 3809880"/>
            </a:gdLst>
            <a:ahLst/>
            <a:rect l="textAreaLeft" t="textAreaTop" r="textAreaRight" b="textAreaBottom"/>
            <a:pathLst>
              <a:path w="21600" h="83072">
                <a:moveTo>
                  <a:pt x="0" y="0"/>
                </a:moveTo>
                <a:lnTo>
                  <a:pt x="21600" y="0"/>
                </a:lnTo>
                <a:lnTo>
                  <a:pt x="21600" y="83072"/>
                </a:lnTo>
                <a:lnTo>
                  <a:pt x="0" y="83072"/>
                </a:lnTo>
                <a:close/>
              </a:path>
              <a:path fill="lightenLess" w="21600" h="83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3072">
                <a:moveTo>
                  <a:pt x="21600" y="0"/>
                </a:moveTo>
                <a:lnTo>
                  <a:pt x="21600" y="83072"/>
                </a:lnTo>
                <a:lnTo>
                  <a:pt x="20200" y="81672"/>
                </a:lnTo>
                <a:lnTo>
                  <a:pt x="20200" y="1400"/>
                </a:lnTo>
                <a:close/>
              </a:path>
              <a:path fill="darkenLess" w="21600" h="83072">
                <a:moveTo>
                  <a:pt x="21600" y="83072"/>
                </a:moveTo>
                <a:lnTo>
                  <a:pt x="0" y="83072"/>
                </a:lnTo>
                <a:lnTo>
                  <a:pt x="1400" y="81672"/>
                </a:lnTo>
                <a:lnTo>
                  <a:pt x="20200" y="81672"/>
                </a:lnTo>
                <a:close/>
              </a:path>
              <a:path fill="lighten" w="21600" h="83072">
                <a:moveTo>
                  <a:pt x="0" y="83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81672"/>
                </a:lnTo>
                <a:close/>
              </a:path>
              <a:path fill="darken" w="21600" h="83072">
                <a:moveTo>
                  <a:pt x="10800" y="455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83072">
                <a:moveTo>
                  <a:pt x="11905" y="45018"/>
                </a:moveTo>
                <a:lnTo>
                  <a:pt x="11905" y="43059"/>
                </a:lnTo>
                <a:cubicBezTo>
                  <a:pt x="11905" y="42232"/>
                  <a:pt x="12236" y="41536"/>
                  <a:pt x="12837" y="41536"/>
                </a:cubicBezTo>
                <a:cubicBezTo>
                  <a:pt x="13968" y="41536"/>
                  <a:pt x="14865" y="40170"/>
                  <a:pt x="14865" y="38585"/>
                </a:cubicBezTo>
                <a:cubicBezTo>
                  <a:pt x="14865" y="36270"/>
                  <a:pt x="13011" y="34530"/>
                  <a:pt x="10800" y="34530"/>
                </a:cubicBezTo>
                <a:cubicBezTo>
                  <a:pt x="8589" y="34530"/>
                  <a:pt x="6918" y="36270"/>
                  <a:pt x="6918" y="38585"/>
                </a:cubicBezTo>
                <a:lnTo>
                  <a:pt x="8772" y="38585"/>
                </a:lnTo>
                <a:cubicBezTo>
                  <a:pt x="8772" y="37445"/>
                  <a:pt x="9695" y="36558"/>
                  <a:pt x="10800" y="36558"/>
                </a:cubicBezTo>
                <a:cubicBezTo>
                  <a:pt x="11905" y="36558"/>
                  <a:pt x="12837" y="37445"/>
                  <a:pt x="12837" y="38585"/>
                </a:cubicBezTo>
                <a:cubicBezTo>
                  <a:pt x="12837" y="39325"/>
                  <a:pt x="12367" y="40056"/>
                  <a:pt x="11905" y="40056"/>
                </a:cubicBezTo>
                <a:cubicBezTo>
                  <a:pt x="10800" y="40056"/>
                  <a:pt x="9695" y="41536"/>
                  <a:pt x="9695" y="43059"/>
                </a:cubicBezTo>
                <a:lnTo>
                  <a:pt x="9695" y="45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37:01Z</dcterms:created>
  <dc:creator>User</dc:creator>
  <dc:description/>
  <dc:language>en-US</dc:language>
  <cp:lastModifiedBy>Nguyen Huy Khanh</cp:lastModifiedBy>
  <dcterms:modified xsi:type="dcterms:W3CDTF">2010-08-20T06:45:33Z</dcterms:modified>
  <cp:revision>121</cp:revision>
  <dc:subject/>
  <dc:title>Slide 1</dc:title>
</cp:coreProperties>
</file>