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C87-559A-4652-AFEC-EFD115D1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4D1-F63F-4B3E-A560-61CEE883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97D-9440-4EF4-97CB-FED8E929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916-5407-4DC0-8C95-99792D66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F5E-1D93-451B-A936-5D65A90E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8DF-F64B-47FD-8855-8A8B417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542-0EF2-46E5-A9EC-B2A8A0E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6F4-775E-4E81-B3CF-1B2B2845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C12-1946-410A-A1D2-C50FB8DA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8EC-DEDF-4910-9368-711B110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561-4900-4A2C-AC28-F4FBABA2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66A-5AC9-4C8E-A3FE-929E8E93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D10CF-B77D-4C4C-AE3A-784D11B7D7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0373C-43AE-4D03-84E6-9E6C57A4739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6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7:48:45Z</dcterms:created>
  <dc:creator>최봉수</dc:creator>
  <dc:description/>
  <dc:language>en-US</dc:language>
  <cp:lastModifiedBy>맛있다 군만두</cp:lastModifiedBy>
  <dcterms:modified xsi:type="dcterms:W3CDTF">2024-09-24T08:13:57Z</dcterms:modified>
  <cp:revision>5</cp:revision>
  <dc:subject/>
  <dc:title>슬라이드 1</dc:title>
</cp:coreProperties>
</file>