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20CC-55F6-421C-BE43-C3F5931A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A731-AE33-4566-8DDF-93EA9364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284-B2A2-4A0F-854B-37FD83A3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096B-167C-48BE-B7C4-A9DB9ACF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12F5-ECC6-4E33-AA37-CA92EE36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AADF-0B7E-4324-9595-CCE45856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3159-2ADA-4186-957B-A885E425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E4D5-C60E-4823-A28C-B6B8E864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4F1-8010-495F-ADAC-4C7DFDA8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78B-A097-4FD7-97CC-B5878594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BB30-705C-4CB7-9C47-7E2D8424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1200-701D-4191-BF98-738FFC5D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570F48-964B-4826-834E-54FFC25947E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BB75A-3758-4F4D-86BC-D873F5AB0D7F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6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7:48:45Z</dcterms:created>
  <dc:creator>최봉수</dc:creator>
  <dc:description/>
  <dc:language>en-US</dc:language>
  <cp:lastModifiedBy>맛있다 군만두</cp:lastModifiedBy>
  <dcterms:modified xsi:type="dcterms:W3CDTF">2024-09-24T08:13:57Z</dcterms:modified>
  <cp:revision>5</cp:revision>
  <dc:subject/>
  <dc:title>슬라이드 1</dc:title>
</cp:coreProperties>
</file>