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Marvin%20-%20Vrije%20Piraten%20herkenning%20(instrumentaal).wav" ContentType="audio/x-wav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C90-314E-4687-9FA7-30BF8839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261-61F7-4E7C-99AE-6576C049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F33-A1B5-4BE1-923B-684E0DBE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8DD-5AD9-4FB8-97A7-91CD1624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11F-EBFD-4E1C-A7EB-CE52AE6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6E1-109B-4DF9-9C9A-273E848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6B4-1A39-4B1D-8B59-F1F65933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AC9-DA5E-4C8F-A8E1-6E6D13FC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220-47B0-42C9-AF12-280526A4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4D3-CFA7-44FE-9776-02EA743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1C9-9A3A-4C2D-9E53-41FEA61C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279-5E8C-4809-8A3B-1E5DF92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EA02-9FDF-4C98-87DC-1C0DCD30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audio" Target="../media/Marvin%20-%20Vrije%20Piraten%20herkenning%20(instrumentaal)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907920"/>
            <a:ext cx="4535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Handen in elkaar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692280"/>
            <a:ext cx="5184720" cy="177948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453528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5280" y="2781360"/>
            <a:ext cx="5040360" cy="388764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561440" cy="554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20640"/>
            <a:ext cx="7561440" cy="5545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6600" y="1197000"/>
            <a:ext cx="57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Handen in elk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woon een symbolisch ge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99480" y="3951360"/>
            <a:ext cx="46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handen die elkaar 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die niemand los kan m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561440" cy="554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46520" y="1071720"/>
            <a:ext cx="57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riendsch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en kostbaar 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n er zonder l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en echte vriend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al er altijd voor je zij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e je help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j het verwerken van je p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70400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81920" y="1484280"/>
            <a:ext cx="603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riendsch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s een warme d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ok in slechte t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et te verbr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jezelf g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l je ook terug ontv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riends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aan geen strijd en r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640720" cy="612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56920" y="7840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s houd vriendschap geen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0000" y="162864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n was er ook geen hecht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89320" y="3087720"/>
            <a:ext cx="46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ij die vrienden,na een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et meer zien sta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600" y="5084640"/>
            <a:ext cx="71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 is jammer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nt deze vriendschap heeft nooit besta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941720"/>
            <a:ext cx="7274160" cy="1224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80000" cy="203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521080" cy="165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80000" y="3284640"/>
            <a:ext cx="4771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nze website</a:t>
            </a:r>
            <a:endParaRPr b="1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ww.frank-gea.drentsweb.nl</a:t>
            </a:r>
            <a:endParaRPr b="1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96000" y="4437000"/>
            <a:ext cx="2790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-mail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ank-gea@live.nl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60280"/>
            <a:ext cx="8569080" cy="6408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566100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56000" y="604836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5832360"/>
            <a:ext cx="5952960" cy="2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07:04:25Z</dcterms:created>
  <dc:creator>Lassche</dc:creator>
  <dc:description/>
  <dc:language>en-US</dc:language>
  <cp:lastModifiedBy>Smets</cp:lastModifiedBy>
  <dcterms:modified xsi:type="dcterms:W3CDTF">2010-01-17T05:29:25Z</dcterms:modified>
  <cp:revision>3</cp:revision>
  <dc:subject/>
  <dc:title>Dia 1</dc:title>
</cp:coreProperties>
</file>