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Marvin%20-%20Vrije%20Piraten%20herkenning%20(instrumentaal).wav" ContentType="audio/x-wav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792-1BD7-49FD-A0F0-60B9BE82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A3C2-0CCF-45AB-B27B-CAE45299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086-19C4-42D9-B8A7-D57A68C8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466-D20D-4837-A9A7-A95BC5D1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A0F-39D5-4A73-970A-30332927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5CB-8F52-4838-B4DF-7FC80069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E9F-B9D1-480A-BECB-15F096D4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A97-9A59-49D3-ABA8-0448A0ED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2F4-98A3-4DB2-8A46-6157FE99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938-E7E6-4325-9CB1-66743961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D9A-B2CD-4EE6-9B12-6DBA9007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458-8DB8-497C-8AFC-FAA726BB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DEC-A5E6-49D5-BACD-0AD0BC9C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audio" Target="../media/Marvin%20-%20Vrije%20Piraten%20herkenning%20(instrumentaal)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907920"/>
            <a:ext cx="453564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Handen in elkaar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692280"/>
            <a:ext cx="5184720" cy="177948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24360" y="2997360"/>
            <a:ext cx="453528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35280" y="2781360"/>
            <a:ext cx="5040360" cy="388764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7561440" cy="554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620640"/>
            <a:ext cx="7561440" cy="5545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6600" y="1197000"/>
            <a:ext cx="57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Handen in elk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woon een symbolisch ge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99480" y="3951360"/>
            <a:ext cx="46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handen die elkaar 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 die niemand los kan m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7561440" cy="554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46520" y="1071720"/>
            <a:ext cx="5700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riendscha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en kostbaar ge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n er zonder le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en echte vriend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al er altijd voor je zij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e je help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j het verwerken van je p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704000" cy="583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81920" y="1484280"/>
            <a:ext cx="6035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riendscha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s een warme d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ok in slechte t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et te verbr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 jezelf g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l je ook terug ontv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riendsch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aan geen strijd en r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8640720" cy="6121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56920" y="78408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ms houd vriendschap geen 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0000" y="162864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n was er ook geen hecht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89320" y="3087720"/>
            <a:ext cx="46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ij die vrienden,na een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et meer zien staa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0600" y="5084640"/>
            <a:ext cx="71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 is jammer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nt deze vriendschap heeft nooit besta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4941720"/>
            <a:ext cx="7274160" cy="1224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132000" y="549360"/>
            <a:ext cx="2880000" cy="203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521080" cy="165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3780000" y="3284640"/>
            <a:ext cx="4771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Onze website</a:t>
            </a:r>
            <a:endParaRPr b="1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ww.frank-gea.drentsweb.nl</a:t>
            </a:r>
            <a:endParaRPr b="1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96000" y="4437000"/>
            <a:ext cx="27907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-mail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rank-gea@live.nl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60280"/>
            <a:ext cx="8569080" cy="64087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566100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56000" y="604836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92360" y="5832360"/>
            <a:ext cx="5952960" cy="200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07:04:25Z</dcterms:created>
  <dc:creator>Lassche</dc:creator>
  <dc:description/>
  <dc:language>en-US</dc:language>
  <cp:lastModifiedBy>Smets</cp:lastModifiedBy>
  <dcterms:modified xsi:type="dcterms:W3CDTF">2010-01-17T05:29:25Z</dcterms:modified>
  <cp:revision>3</cp:revision>
  <dc:subject/>
  <dc:title>Dia 1</dc:title>
</cp:coreProperties>
</file>