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008A594-0694-4D7A-BDF1-4A3289654C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DAA0345-5AF4-483A-A3DD-2B1D60D57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A7C969C-9DB5-4E0C-95E0-58DBA8CA8C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1161C1E-18D3-4AF3-80FC-367F952239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9BB458-2BB5-4A8B-8433-90F8D09E07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BD83D8-8A67-48F8-A678-E8B7607CA8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2F2683-F69B-40D7-B574-0228EA9275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5A5668-2422-47A6-9739-1C89741A51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ABBD3E-8249-40DA-B0C4-0F6DF21391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6B8BCB-8CCA-4897-B1E0-8551508396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37B06-25D8-4F8A-A4B4-0A80EE3CAE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6BE20E0-55C2-4AF4-AF0E-C4B5DDD0D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92C119-FC0F-435D-A963-68576702A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03ED4-5DE6-400D-940D-12178D268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8BAAD5-7397-46B5-A644-47407D5C6F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047918-13F5-401E-B6EE-A7259FBFAF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7A7D5A-F051-4F8C-9769-3EB134EA17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9E65C58-5FB5-465F-89B0-80441E0EE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AF7B450-478F-4B9F-870A-2017D2CB3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092C8D7-D52A-44D1-8106-665F54080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AD6A86E-0E27-4950-94E6-3202D36D8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1CDF870-698C-45F3-8444-B40108435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3049B83-F051-4CFA-BC8A-D59F7B78F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C05A481-21D5-40E2-99B0-CA75424250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2D76B-B732-4ED2-B29C-B0CFEE2888D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812D6-94C5-4131-B26B-BB551A07FB1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220500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La Politique à la Ville</a:t>
            </a:r>
            <a:endParaRPr b="1" lang="en-US" sz="6000" spc="-1" strike="noStrike">
              <a:solidFill>
                <a:srgbClr val="e5e5ff"/>
              </a:solidFill>
              <a:latin typeface="Garamond"/>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repl">
                                        <p:cTn id="7" dur="1000" fill="hold"/>
                                        <p:tgtEl>
                                          <p:spTgt spid="100"/>
                                        </p:tgtEl>
                                        <p:attrNameLst>
                                          <p:attrName>ppt_x</p:attrName>
                                        </p:attrNameLst>
                                      </p:cBhvr>
                                      <p:tavLst>
                                        <p:tav tm="0">
                                          <p:val>
                                            <p:strVal val="#ppt_x-.2"/>
                                          </p:val>
                                        </p:tav>
                                        <p:tav tm="100000">
                                          <p:val>
                                            <p:strVal val="#ppt_x"/>
                                          </p:val>
                                        </p:tav>
                                      </p:tavLst>
                                    </p:anim>
                                    <p:anim calcmode="lin" valueType="num">
                                      <p:cBhvr additive="repl">
                                        <p:cTn id="8"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9"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1196640"/>
            <a:ext cx="8229600" cy="26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 C.U.C.S. ?</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39640" y="1773000"/>
            <a:ext cx="8229600" cy="3300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 contrat urbain de cohésion sociale est le cadre de mise en œuvre du projet de développement social et urbain en faveur des habitants des quartiers en difficulté reconnus comme prioritaires.</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l comporte :</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n projet urbain de cohésion sociale, visant l’ensemble des objectifs définis aux articles 1 et 2 de la loi du 1er août 2003,</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s programmes d’actions pluriannuels déclinant ce projet sur des champs et des quartiers prioritaires, </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s modalités de mise en œuvre, d’évaluation, de suivi et d’adaptation du projet urbain de cohésion sociale et des programmes d’ac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1412640"/>
            <a:ext cx="821844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Le programme d‘action est resserré autour de cinq thématiques prioritaires :</a:t>
            </a:r>
            <a:br>
              <a:rPr sz="4000"/>
            </a:br>
            <a:endParaRPr b="1" lang="en-US" sz="4000" spc="-1" strike="noStrike">
              <a:solidFill>
                <a:srgbClr val="e5e5ff"/>
              </a:solidFill>
              <a:latin typeface="Garamond"/>
            </a:endParaRPr>
          </a:p>
        </p:txBody>
      </p:sp>
      <p:sp>
        <p:nvSpPr>
          <p:cNvPr id="116" name="PlaceHolder 2"/>
          <p:cNvSpPr>
            <a:spLocks noGrp="1"/>
          </p:cNvSpPr>
          <p:nvPr>
            <p:ph/>
          </p:nvPr>
        </p:nvSpPr>
        <p:spPr>
          <a:xfrm>
            <a:off x="611280" y="2565000"/>
            <a:ext cx="8229600" cy="3700440"/>
          </a:xfrm>
          <a:prstGeom prst="rect">
            <a:avLst/>
          </a:prstGeom>
          <a:noFill/>
          <a:ln w="0">
            <a:noFill/>
          </a:ln>
        </p:spPr>
        <p:txBody>
          <a:bodyPr lIns="90000" rIns="90000" tIns="46800" bIns="46800" anchor="t">
            <a:normAutofit fontScale="87000"/>
          </a:bodyPr>
          <a:p>
            <a:pPr marL="298440" indent="-2984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ccès à l’emploi et le développement économique</a:t>
            </a:r>
            <a:endParaRPr b="0" lang="en-US" sz="3200" spc="-1" strike="noStrike">
              <a:solidFill>
                <a:srgbClr val="ffffff"/>
              </a:solidFill>
              <a:latin typeface="Garamond"/>
            </a:endParaRPr>
          </a:p>
          <a:p>
            <a:pPr marL="298440" indent="-2984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l’amélioration de l’habitat et du cadre de vie</a:t>
            </a:r>
            <a:endParaRPr b="0" lang="en-US" sz="3200" spc="-1" strike="noStrike">
              <a:solidFill>
                <a:srgbClr val="ffffff"/>
              </a:solidFill>
              <a:latin typeface="Garamond"/>
            </a:endParaRPr>
          </a:p>
          <a:p>
            <a:pPr marL="298440" indent="-2984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la prévention de la délinquance et la citoyenneté</a:t>
            </a:r>
            <a:endParaRPr b="0" lang="en-US" sz="3200" spc="-1" strike="noStrike">
              <a:solidFill>
                <a:srgbClr val="ffffff"/>
              </a:solidFill>
              <a:latin typeface="Garamond"/>
            </a:endParaRPr>
          </a:p>
          <a:p>
            <a:pPr marL="298440" indent="-2984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la réussite éducative</a:t>
            </a:r>
            <a:endParaRPr b="0" lang="en-US" sz="3200" spc="-1" strike="noStrike">
              <a:solidFill>
                <a:srgbClr val="ffffff"/>
              </a:solidFill>
              <a:latin typeface="Garamond"/>
            </a:endParaRPr>
          </a:p>
          <a:p>
            <a:pPr marL="298440" indent="-2984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l’accès au soi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9640" y="1267920"/>
            <a:ext cx="8229600" cy="374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a géographie prioritaire des C.U.C.S.</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 politique de la ville s’appuie sur une géographie des zones d’intervention.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ette géographie prioritaire a été dessinée au niveau national, avec un zonage urbain en fonction  de leur handicap : Z.U.S., Z.R.U., Z.F.U.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es dispositifs de zonages donnent droit à des aides et exonération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94920" y="1773000"/>
            <a:ext cx="8435880" cy="244764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Garamond"/>
              </a:rPr>
              <a:t>L’actuelle géographie prioritaire de la politique de la ville est donc le fruit d’une histoire particulière et a été dessinée au gré des innovations et de la mise en oeuvre des dispositifs successif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539640" y="1844640"/>
            <a:ext cx="8229600" cy="2736720"/>
          </a:xfrm>
          <a:prstGeom prst="rect">
            <a:avLst/>
          </a:prstGeom>
          <a:noFill/>
          <a:ln w="0">
            <a:noFill/>
          </a:ln>
        </p:spPr>
        <p:txBody>
          <a:bodyPr anchor="t">
            <a:normAutofit fontScale="91000"/>
          </a:bodyPr>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 géographie telle qu’elle existe actuellement résulte en premier lieu de la </a:t>
            </a:r>
            <a:r>
              <a:rPr b="1" lang="en-US" sz="3200" spc="-1" strike="noStrike">
                <a:solidFill>
                  <a:srgbClr val="ffffff"/>
                </a:solidFill>
                <a:latin typeface="Garamond"/>
              </a:rPr>
              <a:t>définition </a:t>
            </a:r>
            <a:r>
              <a:rPr b="0" lang="en-US" sz="3200" spc="-1" strike="noStrike">
                <a:solidFill>
                  <a:srgbClr val="ffffff"/>
                </a:solidFill>
                <a:latin typeface="Garamond"/>
              </a:rPr>
              <a:t>par la loi et le règlement </a:t>
            </a:r>
            <a:r>
              <a:rPr b="1" lang="en-US" sz="3200" spc="-1" strike="noStrike">
                <a:solidFill>
                  <a:srgbClr val="ffffff"/>
                </a:solidFill>
                <a:latin typeface="Garamond"/>
              </a:rPr>
              <a:t>de trois zonages prioritaires superposés </a:t>
            </a:r>
            <a:r>
              <a:rPr b="0" lang="en-US" sz="3200" spc="-1" strike="noStrike">
                <a:solidFill>
                  <a:srgbClr val="ffffff"/>
                </a:solidFill>
                <a:latin typeface="Garamond"/>
              </a:rPr>
              <a:t>selon une intensité croissante de difficulté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68360" y="836280"/>
            <a:ext cx="8229600" cy="4608360"/>
          </a:xfrm>
          <a:prstGeom prst="rect">
            <a:avLst/>
          </a:prstGeom>
          <a:noFill/>
          <a:ln w="0">
            <a:noFill/>
          </a:ln>
        </p:spPr>
        <p:txBody>
          <a:bodyPr lIns="90000" rIns="90000" tIns="46800" bIns="46800"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s zones urbaines sensibles (ZUS), qui ont constitué à un moment la totalité de la géographie d’intervention de la politique de la ville. Ces ZUS sont définies dans la loi PRV comme des zones « caractérisées par la présence de grands ensembles ou de quartiers d’habitat dégradé et par un déséquilibre accentué entre l’habitat et l’emploi ». Il y en a actuellement 75112</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333000"/>
            <a:ext cx="8686800" cy="6264360"/>
          </a:xfrm>
          <a:prstGeom prst="rect">
            <a:avLst/>
          </a:prstGeom>
          <a:noFill/>
          <a:ln w="0">
            <a:noFill/>
          </a:ln>
        </p:spPr>
        <p:txBody>
          <a:bodyPr anchor="t">
            <a:normAutofit fontScale="90000"/>
          </a:bodyPr>
          <a:p>
            <a:pPr marL="560160" indent="-156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s zones de redynamisation urbaine (ZRU) dont la loi PRV indique qu’elles « correspondent à celles des zones urbaines sensibles » confrontées à des difficultés particulières, appréciées en fonction de leur situation dans l’agglomération, de leurs caractéristiques économiques et commerciales et d’un indice synthétique établi en tenant compte du nombre d’habitants du quartier, du taux de chômage, de la proportion de jeunes de moins de 25 ans, de la population sortie du système scolaire sans diplôme et du potentiel fiscal des communes intéressées ». Il y a actuellement 435 ZRU contre 416 initialemen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9640" y="1773360"/>
            <a:ext cx="8229600" cy="32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De la Politique de Ville au Contrat Urbain de Cohésion Sociale</a:t>
            </a:r>
            <a:br>
              <a:rPr sz="4000"/>
            </a:br>
            <a:br>
              <a:rPr sz="4000"/>
            </a:br>
            <a:r>
              <a:rPr b="1" lang="en-US" sz="4000" spc="-1" strike="noStrike">
                <a:solidFill>
                  <a:srgbClr val="e5e5ff"/>
                </a:solidFill>
                <a:latin typeface="Garamond"/>
              </a:rPr>
              <a:t>Un peu d’histoire….</a:t>
            </a:r>
            <a:endParaRPr b="1" lang="en-US" sz="40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s zones franches urbaines (ZFU) dont la loi PRV précise qu’elles sont « créées dans des quartiers de plus de 10 000 habitants particulièrement défavorisés au regard des critères pris en compte pour la détermination des ZRU ». Le nombre des ZFU, initialement de 44, a été porté à 100 en 2006.</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95280" y="1844280"/>
            <a:ext cx="8229600" cy="197316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chacun de ces zonages sont attachées des mesures particulières de natures diverses, des exonérations fiscales et sociales en particulie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 loi du 1er août 2003 a affirmé l’objectif pour la politique de la ville, de « réduire des inégalités sociales et des écarts entre les territoires ».  Les écarts concernent à la fois la population en tant que tel, l’urbain (enclavement, fonction, logement, forme urbain, desserte), l’économique (emploi, qualité de l’offre commerciale, intégration de fonction économique dans le tissu urbain, existence de flux) et le social (insertion, formation, réussite scolair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ujourd’hui 2493 quartiers ont été considérés par les acteurs locaux comme prioritaires. Parmi ces 2493 quartiers se trouve l’essentiel des Z.U.S. (741).  D’autres territoires en difficultés ont été pris en compte dans les C.U.C.S., quartiers prioritaires 2 et 3.</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 Lorraine, il a été créé  22 C.U.C.S, dont 4 en Meurthe et Moselle, 2 en Meuse, 13 en Moselle et 3 dans les Vosges, soit 74 communes de la région Lorraine et 7 C.U. – C.A.  -  C.C. signatair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 l’échelle locale</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Garamond"/>
              </a:rPr>
              <a:t>3  CUCS sur le bassin Houiller :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Garamond"/>
              </a:rPr>
              <a:t>Communauté de Communes de Freyming-Merlebach</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Garamond"/>
              </a:rPr>
              <a:t>Communauté d’Agglomération Porte de Fra</a:t>
            </a:r>
            <a:r>
              <a:rPr b="0" lang="fr-FR" sz="3200" spc="-1" strike="noStrike">
                <a:solidFill>
                  <a:srgbClr val="ffffff"/>
                </a:solidFill>
                <a:latin typeface="Garamond"/>
              </a:rPr>
              <a:t>	</a:t>
            </a:r>
            <a:r>
              <a:rPr b="0" lang="fr-FR" sz="3200" spc="-1" strike="noStrike">
                <a:solidFill>
                  <a:srgbClr val="ffffff"/>
                </a:solidFill>
                <a:latin typeface="Garamond"/>
              </a:rPr>
              <a:t>nc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Garamond"/>
              </a:rPr>
              <a:t>Communauté de Communes du Pays Naborie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Le CUCS de la Communauté de Communes de Freyming-Merlebach</a:t>
            </a:r>
            <a:endParaRPr b="1" lang="en-US" sz="4000" spc="-1" strike="noStrike">
              <a:solidFill>
                <a:srgbClr val="e5e5ff"/>
              </a:solidFill>
              <a:latin typeface="Garamond"/>
            </a:endParaRPr>
          </a:p>
        </p:txBody>
      </p:sp>
      <p:sp>
        <p:nvSpPr>
          <p:cNvPr id="131" name="PlaceHolder 2"/>
          <p:cNvSpPr>
            <a:spLocks noGrp="1"/>
          </p:cNvSpPr>
          <p:nvPr>
            <p:ph/>
          </p:nvPr>
        </p:nvSpPr>
        <p:spPr>
          <a:xfrm>
            <a:off x="519120" y="1782720"/>
            <a:ext cx="8229600" cy="4525920"/>
          </a:xfrm>
          <a:prstGeom prst="rect">
            <a:avLst/>
          </a:prstGeom>
          <a:noFill/>
          <a:ln w="0">
            <a:noFill/>
          </a:ln>
        </p:spPr>
        <p:txBody>
          <a:bodyPr lIns="90000" rIns="90000" tIns="46800" bIns="4680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orité 1 : Farébersviller</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orité 2 : Cité des Chênes - Hombourg-Haut </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Cité la Chapelle - Hombourg-Haut e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Freyming-Merlebach</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orité 3 : Arc en Ciel - Freyming-Merlebach</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Organisation administrative et technique</a:t>
            </a:r>
            <a:endParaRPr b="1" lang="en-US" sz="40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ffffff"/>
                </a:solidFill>
                <a:uFillTx/>
                <a:latin typeface="Garamond"/>
              </a:rPr>
              <a:t>Le pilotage politique :</a:t>
            </a:r>
            <a:r>
              <a:rPr b="0" lang="fr-FR" sz="2800" spc="-1" strike="noStrike">
                <a:solidFill>
                  <a:srgbClr val="ffffff"/>
                </a:solidFill>
                <a:latin typeface="Garamond"/>
              </a:rPr>
              <a:t> </a:t>
            </a:r>
            <a:endParaRPr b="0" lang="en-US" sz="2800" spc="-1" strike="noStrike">
              <a:solidFill>
                <a:srgbClr val="ffffff"/>
              </a:solidFill>
              <a:latin typeface="Garamond"/>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Garamond"/>
              </a:rPr>
              <a:t>Le pilotage politique est en charge des orientations stratégiques. Il s’effectue au travers d’une instance, le Comité de Pilotage politique, réunissant le Sous-Préfet, le Président de l’E.P.C.I., les Maires, les Présidents du Conseil Général et du Conseil Régional ainsi que les représentants des principaux partenaires (A.C.S.é., Caisse d’Allocations Familiales, etc.).</a:t>
            </a:r>
            <a:endParaRPr b="0" lang="en-US" sz="2800" spc="-1" strike="noStrike">
              <a:solidFill>
                <a:srgbClr val="ffffff"/>
              </a:solidFill>
              <a:latin typeface="Garamond"/>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 Comité de Pilotage est garant de la cohérence d’ensemble du projet..</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l mandate la direction du CUCS pour la conduite de projet et l’instance technique de mise en œuvre et de suivi du projet. </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l </a:t>
            </a:r>
            <a:r>
              <a:rPr b="0" lang="en-US" sz="3200" spc="-1" strike="noStrike">
                <a:solidFill>
                  <a:srgbClr val="ffffff"/>
                </a:solidFill>
                <a:latin typeface="Garamond"/>
              </a:rPr>
              <a:t>veille à l’articulation du projet avec les autres outils de programmation et de planification du territoire (P.L.H., S.C.O.T., etc.)</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l procède aux arbitrages politiques et financiers</a:t>
            </a:r>
            <a:r>
              <a:rPr b="0" lang="en-US" sz="3200" spc="-1" strike="noStrike">
                <a:solidFill>
                  <a:srgbClr val="ffffff"/>
                </a:solidFill>
                <a:latin typeface="Garamond"/>
              </a:rPr>
              <a:t> </a:t>
            </a:r>
            <a:endParaRPr b="0" lang="en-US" sz="3200" spc="-1" strike="noStrike">
              <a:solidFill>
                <a:srgbClr val="ffffff"/>
              </a:solidFill>
              <a:latin typeface="Garamond"/>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5e5ff"/>
                </a:solidFill>
                <a:uFillTx/>
                <a:latin typeface="Garamond"/>
              </a:rPr>
              <a:t>Le pilotage technique:</a:t>
            </a:r>
            <a:br>
              <a:rPr sz="4000"/>
            </a:br>
            <a:endParaRPr b="1" lang="en-US" sz="4000" spc="-1" strike="noStrike">
              <a:solidFill>
                <a:srgbClr val="e5e5ff"/>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 pilotage technique est assuré par une Direction de Projet, mandatée par le Comité de Pilotage Politique, pour animer et suivre la mise en œuvre du C.U.C.S. Elle doit mettre en cohérence les actions menées par les différents acteurs (Services de l’Etat, Collectivités, Associations, etc.).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6840" y="549360"/>
            <a:ext cx="8435880" cy="59040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ée au milieu des années 1970 puis véritablement institutionnalisée au début des années 1990, la politique de la ville a été marquée par un double élargissement avec, d’une part, celui de ses territoires d’intervention avec quelques quartiers au départ : 14 quartiers « développement social des quartiers » (DSQ) contre actuellement 2 493 quartiers ciblés par les CUCS répartis entre 934 communes) et, d’autre part, celui de ses domaines d’action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Garamond"/>
              </a:rPr>
              <a:t>La Direction de Projet est composée d’un Chargé de Mission co-mandaté (CC et Etat) employé par l’E.P.C.I. et appuyé par des référents techniques au niveau des Commun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404640"/>
            <a:ext cx="8229600" cy="60487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 mission est financée par l’Etat, d’une part, et l’E.P.C.I. ainsi que les communes signataires du Contrat d’autre part. Responsable devant le Comité de Pilotage, la Direction de Projet organise le travail et anime les instances techniques de pilotage et de suivi. Son rôle consiste notamment à la mise en œuvre du Projet Urbain de Cohésion Sociale (P.U.C.S.) dans ses différentes déclinaisons thématiques et territorial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lle élabore et vérifie le bon déroulement des programmes d’action à caractère opérationnel, notamment au plan budgétaire. Pour cela, elle favorise les relations entre les différents partenaires.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s différents dispositifs annexes </a:t>
            </a:r>
            <a:endParaRPr b="1" lang="en-US" sz="44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s Opérations Ville – Vie – Vacances</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Le Dispositif de Réussite Educative</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Le Conseil Intercommunal de Sécurité et de Prévention de la Délinquance (C.I.S.P.D.) </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 Contrat Local de Sécurité</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Les adultes relais</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Le contrat d’autonomie</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NRU selon le cas</a:t>
            </a:r>
            <a:endParaRPr b="0" lang="en-US" sz="3200" spc="-1" strike="noStrike">
              <a:solidFill>
                <a:srgbClr val="ffffff"/>
              </a:solidFill>
              <a:latin typeface="Garamond"/>
            </a:endParaRPr>
          </a:p>
          <a:p>
            <a:pPr marL="3326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 devenir du CUCS ….</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APPORT Datant du 23 septembre 2009 fait à la demande de M. François Fillon, premier ministre</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UR LA REVISION DE LA GEOGRAPHIE PRIORITAIRE ET LA CONTRACTUALISATION DE LA POLITIQUE DE LA VILL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gn="ct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 Une conception rénovée de la politique de la ville : d’une logique de zonage à une logique de contractualisation »</a:t>
            </a:r>
            <a:endParaRPr b="0" lang="en-US" sz="3200" spc="-1" strike="noStrike">
              <a:solidFill>
                <a:srgbClr val="ffffff"/>
              </a:solidFill>
              <a:latin typeface="Garamond"/>
            </a:endParaRPr>
          </a:p>
          <a:p>
            <a:pPr marL="3189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ar M. Gérard Hamel, député d’Eure-et-Loir</a:t>
            </a:r>
            <a:endParaRPr b="0" lang="en-US" sz="3200" spc="-1" strike="noStrike">
              <a:solidFill>
                <a:srgbClr val="ffffff"/>
              </a:solidFill>
              <a:latin typeface="Garamond"/>
            </a:endParaRPr>
          </a:p>
          <a:p>
            <a:pPr marL="3189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t M. Pierre André, sénateur de l’Aisne</a:t>
            </a:r>
            <a:endParaRPr b="0" lang="en-US" sz="3200" spc="-1" strike="noStrike">
              <a:solidFill>
                <a:srgbClr val="ffffff"/>
              </a:solidFill>
              <a:latin typeface="Garamond"/>
            </a:endParaRPr>
          </a:p>
          <a:p>
            <a:pPr marL="3189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avec l’appui de l’Inspection générale de l’administration et de l’Inspection générale des affaires sociales</a:t>
            </a:r>
            <a:endParaRPr b="0" lang="en-US" sz="3200" spc="-1" strike="noStrike">
              <a:solidFill>
                <a:srgbClr val="ffffff"/>
              </a:solidFill>
              <a:latin typeface="Garamond"/>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e rapport insiste tout d’abord sur les "limites" de l’actuelle géographie prioritaire, </a:t>
            </a:r>
            <a:r>
              <a:rPr b="0" i="1" lang="en-US" sz="3200" spc="-1" strike="noStrike">
                <a:solidFill>
                  <a:srgbClr val="ffffff"/>
                </a:solidFill>
                <a:latin typeface="Garamond"/>
              </a:rPr>
              <a:t>"reposant essentiellement sur une logique de zonage"</a:t>
            </a:r>
            <a:r>
              <a:rPr b="0" lang="en-US" sz="3200" spc="-1" strike="noStrike">
                <a:solidFill>
                  <a:srgbClr val="ffffff"/>
                </a:solidFill>
                <a:latin typeface="Garamond"/>
              </a:rPr>
              <a:t> et souffrant d’un </a:t>
            </a:r>
            <a:r>
              <a:rPr b="0" i="1" lang="en-US" sz="3200" spc="-1" strike="noStrike">
                <a:solidFill>
                  <a:srgbClr val="ffffff"/>
                </a:solidFill>
                <a:latin typeface="Garamond"/>
              </a:rPr>
              <a:t>"empilement"</a:t>
            </a:r>
            <a:r>
              <a:rPr b="0" lang="en-US" sz="3200" spc="-1" strike="noStrike">
                <a:solidFill>
                  <a:srgbClr val="ffffff"/>
                </a:solidFill>
                <a:latin typeface="Garamond"/>
              </a:rPr>
              <a:t> des dispositifs. </a:t>
            </a:r>
            <a:br>
              <a:rPr sz="3200"/>
            </a:br>
            <a:r>
              <a:rPr b="0" lang="en-US" sz="3200" spc="-1" strike="noStrike">
                <a:solidFill>
                  <a:srgbClr val="ffffff"/>
                </a:solidFill>
                <a:latin typeface="Garamond"/>
              </a:rPr>
              <a:t>Pour eux, le dispositif n’a pas su réduire les écarts entre les territoires ciblés et le reste de la ville. De plus, défini sans implication des acteurs locaux, il freine leur mobilisa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ls appellent donc à une "rénovation" de la géographie de la politique de la ville </a:t>
            </a:r>
            <a:r>
              <a:rPr b="0" i="1" lang="en-US" sz="3200" spc="-1" strike="noStrike">
                <a:solidFill>
                  <a:srgbClr val="ffffff"/>
                </a:solidFill>
                <a:latin typeface="Garamond"/>
              </a:rPr>
              <a:t>"dans laquelle les communes les plus défavorisées seront soutenues en priorité"</a:t>
            </a:r>
            <a:r>
              <a:rPr b="0" lang="en-US" sz="3200" spc="-1" strike="noStrike">
                <a:solidFill>
                  <a:srgbClr val="ffffff"/>
                </a:solidFill>
                <a:latin typeface="Garamond"/>
              </a:rPr>
              <a:t>, avec une éligibilité définie à l’échelle communale et non plus à l’échelle du quartier. </a:t>
            </a:r>
            <a:br>
              <a:rPr sz="3200"/>
            </a:br>
            <a:r>
              <a:rPr b="0" lang="en-US" sz="3200" spc="-1" strike="noStrike">
                <a:solidFill>
                  <a:srgbClr val="ffffff"/>
                </a:solidFill>
                <a:latin typeface="Garamond"/>
              </a:rPr>
              <a:t>Les critères proposés sont les suivants : taux de chômage, part des jeunes sans qualification professionnelle, part de HLM, part des bénéficiaires de minimas sociaux et d’allocations logemen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 plus, il est proposé : </a:t>
            </a:r>
            <a:br>
              <a:rPr sz="3200"/>
            </a:br>
            <a:r>
              <a:rPr b="0" lang="en-US" sz="3200" spc="-1" strike="noStrike">
                <a:solidFill>
                  <a:srgbClr val="ffffff"/>
                </a:solidFill>
                <a:latin typeface="Garamond"/>
              </a:rPr>
              <a:t>  </a:t>
            </a:r>
            <a:r>
              <a:rPr b="0" i="1" lang="en-US" sz="3200" spc="-1" strike="noStrike">
                <a:solidFill>
                  <a:srgbClr val="ffffff"/>
                </a:solidFill>
                <a:latin typeface="Garamond"/>
              </a:rPr>
              <a:t>"d’élargir le champ contractuel"</a:t>
            </a:r>
            <a:r>
              <a:rPr b="0" lang="en-US" sz="3200" spc="-1" strike="noStrike">
                <a:solidFill>
                  <a:srgbClr val="ffffff"/>
                </a:solidFill>
                <a:latin typeface="Garamond"/>
              </a:rPr>
              <a:t> pour en faire un </a:t>
            </a:r>
            <a:r>
              <a:rPr b="0" i="1" lang="en-US" sz="3200" spc="-1" strike="noStrike">
                <a:solidFill>
                  <a:srgbClr val="ffffff"/>
                </a:solidFill>
                <a:latin typeface="Garamond"/>
              </a:rPr>
              <a:t>"contrat global"</a:t>
            </a:r>
            <a:r>
              <a:rPr b="0" lang="en-US" sz="3200" spc="-1" strike="noStrike">
                <a:solidFill>
                  <a:srgbClr val="ffffff"/>
                </a:solidFill>
                <a:latin typeface="Garamond"/>
              </a:rPr>
              <a:t> </a:t>
            </a:r>
            <a:br>
              <a:rPr sz="3200"/>
            </a:br>
            <a:r>
              <a:rPr b="0" lang="en-US" sz="3200" spc="-1" strike="noStrike">
                <a:solidFill>
                  <a:srgbClr val="ffffff"/>
                </a:solidFill>
                <a:latin typeface="Garamond"/>
              </a:rPr>
              <a:t>  d’aligner les contrats sur les mandats municipaux de renforcer l’évaluation pour </a:t>
            </a:r>
            <a:r>
              <a:rPr b="0" i="1" lang="en-US" sz="3200" spc="-1" strike="noStrike">
                <a:solidFill>
                  <a:srgbClr val="ffffff"/>
                </a:solidFill>
                <a:latin typeface="Garamond"/>
              </a:rPr>
              <a:t>"placer les acteurs dans une logique de responsabilité"</a:t>
            </a:r>
            <a:r>
              <a:rPr b="0" lang="en-US"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68360" y="691920"/>
            <a:ext cx="8229600" cy="536076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Garamond"/>
              </a:rPr>
              <a:t>Enfin, le rapport propose une mise en oeuvre progressive pour garantir les dispositifs actuels (ANRU, ZFU,…) et un accompagnement de la suppression des ZUS </a:t>
            </a:r>
            <a:r>
              <a:rPr b="0" i="1" lang="fr-FR" sz="3200" spc="-1" strike="noStrike">
                <a:solidFill>
                  <a:srgbClr val="ffffff"/>
                </a:solidFill>
                <a:latin typeface="Garamond"/>
              </a:rPr>
              <a:t>"pour garantir la visibilité budgétaire"</a:t>
            </a:r>
            <a:r>
              <a:rPr b="0" lang="fr-FR" sz="3200" spc="-1" strike="noStrike">
                <a:solidFill>
                  <a:srgbClr val="ffffff"/>
                </a:solidFill>
                <a:latin typeface="Garamond"/>
              </a:rPr>
              <a:t> : </a:t>
            </a:r>
            <a:r>
              <a:rPr b="0" i="1" lang="fr-FR" sz="3200" spc="-1" strike="noStrike">
                <a:solidFill>
                  <a:srgbClr val="ffffff"/>
                </a:solidFill>
                <a:latin typeface="Garamond"/>
              </a:rPr>
              <a:t>"La réforme a vocation à prendre effet à compter de 2011, à l’échéance des contrats urbains de cohésion sociale"</a:t>
            </a:r>
            <a:r>
              <a:rPr b="0" lang="fr-FR"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86e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24000" y="1052280"/>
            <a:ext cx="8229600" cy="538956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aramond"/>
              </a:rPr>
              <a:t>Les années 70</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remière opération H.V.S. (Habitat et Vie Sociale, rapport Peyrefitte en 1977)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e5e5ff"/>
                </a:solidFill>
                <a:latin typeface="Garamond"/>
              </a:rPr>
              <a:t>Tableau récapitulatif du calendrier proposé</a:t>
            </a:r>
            <a:endParaRPr b="1" lang="en-US" sz="4000" spc="-1" strike="noStrike">
              <a:solidFill>
                <a:srgbClr val="e5e5ff"/>
              </a:solidFill>
              <a:latin typeface="Garamond"/>
            </a:endParaRPr>
          </a:p>
        </p:txBody>
      </p:sp>
      <p:graphicFrame>
        <p:nvGraphicFramePr>
          <p:cNvPr id="150" name=""/>
          <p:cNvGraphicFramePr/>
          <p:nvPr/>
        </p:nvGraphicFramePr>
        <p:xfrm>
          <a:off x="468360" y="1484280"/>
          <a:ext cx="8229600" cy="3600360"/>
        </p:xfrm>
        <a:graphic>
          <a:graphicData uri="http://schemas.openxmlformats.org/drawingml/2006/table">
            <a:tbl>
              <a:tblPr/>
              <a:tblGrid>
                <a:gridCol w="1646280"/>
                <a:gridCol w="1646280"/>
                <a:gridCol w="1644480"/>
                <a:gridCol w="1646280"/>
                <a:gridCol w="1646280"/>
              </a:tblGrid>
              <a:tr h="1806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ériod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ype de contr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Durée du contr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8892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Garamond"/>
                        </a:rPr>
                        <a:t>Coïncidence avec</a:t>
                      </a:r>
                      <a:endParaRPr b="0" lang="en-US" sz="1800" spc="-1" strike="noStrike">
                        <a:solidFill>
                          <a:srgbClr val="ffffff"/>
                        </a:solidFill>
                        <a:latin typeface="Arial"/>
                      </a:endParaRPr>
                    </a:p>
                    <a:p>
                      <a:pPr algn="ctr">
                        <a:lnSpc>
                          <a:spcPct val="100000"/>
                        </a:lnSpc>
                        <a:spcBef>
                          <a:spcPts val="451"/>
                        </a:spcBef>
                        <a:tabLst>
                          <a:tab algn="l" pos="0"/>
                          <a:tab algn="l" pos="8892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Garamond"/>
                        </a:rPr>
                        <a:t>le mandat</a:t>
                      </a:r>
                      <a:endParaRPr b="0" lang="en-US" sz="1800" spc="-1" strike="noStrike">
                        <a:solidFill>
                          <a:srgbClr val="ffffff"/>
                        </a:solidFill>
                        <a:latin typeface="Arial"/>
                      </a:endParaRPr>
                    </a:p>
                    <a:p>
                      <a:pPr algn="ctr">
                        <a:lnSpc>
                          <a:spcPct val="100000"/>
                        </a:lnSpc>
                        <a:spcBef>
                          <a:spcPts val="451"/>
                        </a:spcBef>
                        <a:tabLst>
                          <a:tab algn="l" pos="0"/>
                          <a:tab algn="l" pos="8892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Garamond"/>
                        </a:rPr>
                        <a:t>municipa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ommentaire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793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2007- 201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UC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3 ans initialement</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4 ans finalemen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4 ans finalement</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51" name=""/>
          <p:cNvGraphicFramePr/>
          <p:nvPr/>
        </p:nvGraphicFramePr>
        <p:xfrm>
          <a:off x="324000" y="189000"/>
          <a:ext cx="8569080" cy="6192720"/>
        </p:xfrm>
        <a:graphic>
          <a:graphicData uri="http://schemas.openxmlformats.org/drawingml/2006/table">
            <a:tbl>
              <a:tblPr/>
              <a:tblGrid>
                <a:gridCol w="1295280"/>
                <a:gridCol w="1584360"/>
                <a:gridCol w="1224000"/>
                <a:gridCol w="2016000"/>
                <a:gridCol w="2449440"/>
              </a:tblGrid>
              <a:tr h="1531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ériod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ype de contr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Durée du contr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oïncidence avec</a:t>
                      </a:r>
                      <a:endParaRPr b="0" lang="en-US" sz="18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e mandat</a:t>
                      </a:r>
                      <a:endParaRPr b="0" lang="en-US" sz="18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unicipa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ommentaire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60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011- 2014</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uveaux contrats 1ère génératio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4 an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artiellement (avec</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la fin du mand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Garamond"/>
                        </a:rPr>
                        <a:t>(2008-2014)</a:t>
                      </a:r>
                      <a:r>
                        <a:rPr b="0" lang="fr-FR" sz="2000" spc="-1" strike="noStrike">
                          <a:solidFill>
                            <a:srgbClr val="ffffff"/>
                          </a:solidFill>
                          <a:latin typeface="Garamond"/>
                        </a:rPr>
                        <a:t>	</a:t>
                      </a:r>
                      <a:r>
                        <a:rPr b="0" lang="fr-FR" sz="2000" spc="-1" strike="noStrike">
                          <a:solidFill>
                            <a:srgbClr val="ffffff"/>
                          </a:solidFill>
                          <a:latin typeface="Garamond"/>
                        </a:rPr>
                        <a:t>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Garamond"/>
                        </a:rPr>
                        <a:t>La durée de 4 ans devra permettre de faire coïncider à terme le début de mise en oeuvre des contrats avec le début de la deuxième année civile de mandat municipal et d’organiser la phase transitoir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52" name=""/>
          <p:cNvGraphicFramePr/>
          <p:nvPr/>
        </p:nvGraphicFramePr>
        <p:xfrm>
          <a:off x="457200" y="274680"/>
          <a:ext cx="8002440" cy="5359320"/>
        </p:xfrm>
        <a:graphic>
          <a:graphicData uri="http://schemas.openxmlformats.org/drawingml/2006/table">
            <a:tbl>
              <a:tblPr/>
              <a:tblGrid>
                <a:gridCol w="2027160"/>
                <a:gridCol w="2303640"/>
                <a:gridCol w="936360"/>
                <a:gridCol w="2735280"/>
              </a:tblGrid>
              <a:tr h="2433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ériod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ype de contr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Durée du contr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oïncidence avec</a:t>
                      </a:r>
                      <a:endParaRPr b="0" lang="en-US" sz="18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e mandat</a:t>
                      </a:r>
                      <a:endParaRPr b="0" lang="en-US" sz="18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unicipal</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925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015 – 202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uveaux contrats</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ème génératio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6 a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ui (avec le</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ndat 2014-2020)</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5992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5e5ff"/>
                </a:solidFill>
                <a:uFillTx/>
                <a:latin typeface="Garamond"/>
              </a:rPr>
              <a:t>Les années 80</a:t>
            </a:r>
            <a:r>
              <a:rPr b="1" lang="en-US" sz="4400" spc="-1" strike="noStrike">
                <a:solidFill>
                  <a:srgbClr val="e5e5ff"/>
                </a:solidFill>
                <a:latin typeface="Garamond"/>
              </a:rPr>
              <a:t> : </a:t>
            </a:r>
            <a:endParaRPr b="1" lang="en-US" sz="4400" spc="-1" strike="noStrike">
              <a:solidFill>
                <a:srgbClr val="e5e5ff"/>
              </a:solidFill>
              <a:latin typeface="Garamond"/>
            </a:endParaRPr>
          </a:p>
        </p:txBody>
      </p:sp>
      <p:sp>
        <p:nvSpPr>
          <p:cNvPr id="105" name="PlaceHolder 2"/>
          <p:cNvSpPr>
            <a:spLocks noGrp="1"/>
          </p:cNvSpPr>
          <p:nvPr>
            <p:ph/>
          </p:nvPr>
        </p:nvSpPr>
        <p:spPr>
          <a:xfrm>
            <a:off x="395280" y="2349000"/>
            <a:ext cx="8229600" cy="1513080"/>
          </a:xfrm>
          <a:prstGeom prst="rect">
            <a:avLst/>
          </a:prstGeom>
          <a:noFill/>
          <a:ln w="0">
            <a:noFill/>
          </a:ln>
        </p:spPr>
        <p:txBody>
          <a:bodyPr lIns="90000" rIns="90000" tIns="46800" bIns="46800" anchor="t">
            <a:normAutofit/>
          </a:bodyPr>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Garamond"/>
              </a:rPr>
              <a:t>Eté 81: Emeutes dans les banlieues (Vaux en Velin, les Minguettes)</a:t>
            </a:r>
            <a:endParaRPr b="0" lang="en-US" sz="3200" spc="-1" strike="noStrike">
              <a:solidFill>
                <a:srgbClr val="ffffff"/>
              </a:solidFill>
              <a:latin typeface="Garamond"/>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68360" y="475920"/>
            <a:ext cx="8229600" cy="576108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 81 à 84 : Mise en place des premiers dispositifs qui font suite à de nombreuses réflexions et études.</a:t>
            </a:r>
            <a:endParaRPr b="0" lang="en-US" sz="3200" spc="-1" strike="noStrike">
              <a:solidFill>
                <a:srgbClr val="ffffff"/>
              </a:solidFill>
              <a:latin typeface="Garamond"/>
            </a:endParaRPr>
          </a:p>
          <a:p>
            <a:pPr lvl="1" marL="743040" indent="-28584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es premières O.P.E.. (Opération Prévention Eté – ex O.V.V.V.),  </a:t>
            </a:r>
            <a:endParaRPr b="0" lang="en-US" sz="2800" spc="-1" strike="noStrike">
              <a:solidFill>
                <a:srgbClr val="ffffff"/>
              </a:solidFill>
              <a:latin typeface="Garamond"/>
            </a:endParaRPr>
          </a:p>
          <a:p>
            <a:pPr lvl="1" marL="743040" indent="-28584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 création des Z.E.P. (Zone d’Education Prioritaire), création des missions locales issue du rapport Schwartz, </a:t>
            </a:r>
            <a:endParaRPr b="0" lang="en-US" sz="2800" spc="-1" strike="noStrike">
              <a:solidFill>
                <a:srgbClr val="ffffff"/>
              </a:solidFill>
              <a:latin typeface="Garamond"/>
            </a:endParaRPr>
          </a:p>
          <a:p>
            <a:pPr lvl="1" marL="743040" indent="-28584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ise en place du C.N.P.D. (Conseil National de Prévention de la Délinquance) et du C.N.L.T. (Conseil National de Lutte contre les Toxicomanies)</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68360" y="260280"/>
            <a:ext cx="8229600" cy="5904000"/>
          </a:xfrm>
          <a:prstGeom prst="rect">
            <a:avLst/>
          </a:prstGeom>
          <a:noFill/>
          <a:ln w="0">
            <a:noFill/>
          </a:ln>
        </p:spPr>
        <p:txBody>
          <a:bodyPr lIns="90000" rIns="90000" tIns="46800" bIns="46800" anchor="t">
            <a:normAutofit fontScale="88000"/>
          </a:bodyPr>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1983: Création de la mission « Banlieues 89 »</a:t>
            </a:r>
            <a:endParaRPr b="0" lang="en-US" sz="3200" spc="-1" strike="noStrike">
              <a:solidFill>
                <a:srgbClr val="ffffff"/>
              </a:solidFill>
              <a:latin typeface="Garamond"/>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1984: Mise en place des D.S.Q. (Développement Social des Quartiers); création du C.I.V. (Comité Interministériel pour les Villes) et du F.S.U. (Fond Social Urbain)</a:t>
            </a:r>
            <a:endParaRPr b="0" lang="en-US" sz="3200" spc="-1" strike="noStrike">
              <a:solidFill>
                <a:srgbClr val="ffffff"/>
              </a:solidFill>
              <a:latin typeface="Garamond"/>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1988: Passage du D.S.Q. au D.S.U. (Développement Social Urbain), création de la D.I.V. (Délégation Interministérielle à la Ville – « bras armé du ministre de la ville »)</a:t>
            </a:r>
            <a:endParaRPr b="0" lang="en-US" sz="3200" spc="-1" strike="noStrike">
              <a:solidFill>
                <a:srgbClr val="ffffff"/>
              </a:solidFill>
              <a:latin typeface="Garamond"/>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s années 90 : </a:t>
            </a:r>
            <a:endParaRPr b="1" lang="en-US" sz="4400" spc="-1" strike="noStrike">
              <a:solidFill>
                <a:srgbClr val="e5e5ff"/>
              </a:solidFill>
              <a:latin typeface="Garamond"/>
            </a:endParaRPr>
          </a:p>
        </p:txBody>
      </p:sp>
      <p:sp>
        <p:nvSpPr>
          <p:cNvPr id="109" name="PlaceHolder 2"/>
          <p:cNvSpPr>
            <a:spLocks noGrp="1"/>
          </p:cNvSpPr>
          <p:nvPr>
            <p:ph/>
          </p:nvPr>
        </p:nvSpPr>
        <p:spPr>
          <a:xfrm>
            <a:off x="539640" y="2060640"/>
            <a:ext cx="8229600" cy="33415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993 – 1999 : Les premiers Contrats de Ville, mise en place de la politique territorialisée (Z.U.S., Z.R.U. et Z.F.U.), création du F.I.V. (Fond Interministériel à la Vill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Les années 2000</a:t>
            </a:r>
            <a:br>
              <a:rPr sz="4000"/>
            </a:br>
            <a:endParaRPr b="1" lang="en-US" sz="40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000 – 2006: Le deuxième Contrat de Ville</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2003 : Loi BORLOO</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2005 : Plan de Cohésion Sociale</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2007 : Création de l’A.C.S.é. (Agence nationale de Cohésion Sociale et d’Egalité des Chances) et mise en place des Contrats Urbains de Cohésion Sociale (CUC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4T08:32:05Z</dcterms:created>
  <dc:creator>FURNO</dc:creator>
  <dc:description/>
  <dc:language>en-US</dc:language>
  <cp:lastModifiedBy>FURNO</cp:lastModifiedBy>
  <dcterms:modified xsi:type="dcterms:W3CDTF">2009-09-28T07:05:56Z</dcterms:modified>
  <cp:revision>11</cp:revision>
  <dc:subject/>
  <dc:title>La Politique à la Ville</dc:title>
</cp:coreProperties>
</file>